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3C7-8C1A-4CEC-99AD-FDE4B84B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ABE-663C-40EE-A983-972F7F12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123-8620-45FD-BE4E-8DCE561B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A9D-6D89-4638-BD0C-D894FA62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9AB-9A51-496F-B714-2E62B81C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663-9C62-4B65-B82C-C0A7B8B8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A0E-94C3-4F99-8387-C26EC71C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76F-5EDB-4C0B-A505-87E062B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A59-CD71-49FE-9C1D-E2CC45EB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0F2-C1D7-4351-AC98-04782DB7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00E-2471-4E19-8D1E-E9286047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D3F-C35E-453F-85DA-AF53857B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DF8B-B9F9-4EE5-85F0-D96B551A884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849240"/>
            <a:ext cx="8305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고린도전서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5:9&gt;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나는 사도 중에 가장 작은 자라 나는 하나님의 교회를 박해하였으므로 사도라 칭함 받기를 감당하지 못할 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에베소서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3:8&gt;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모든 성도 중에 지극히 작은 자보다 더 작은 나에게 이 은혜를 주신 것은 측량할 수 없는 그리스도의 풍성함을 이방인에게 전하게 하시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디모데전서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:15&gt;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미쁘다 모든 사람이 받을 만한 이 말이여 그리스도 예수께서 죄인을 구원하시려고 세상에 임하셨다 하였도다 죄인 중에 내가 괴수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99"/>
                </a:solidFill>
                <a:latin typeface="HY견고딕"/>
                <a:ea typeface="HY견고딕"/>
              </a:rPr>
              <a:t>※ </a:t>
            </a:r>
            <a:r>
              <a:rPr b="0" lang="ko-KR" sz="3200" spc="-1" strike="noStrike">
                <a:solidFill>
                  <a:srgbClr val="000099"/>
                </a:solidFill>
                <a:latin typeface="HY견고딕"/>
                <a:ea typeface="HY견고딕"/>
              </a:rPr>
              <a:t>바울의 고백 변천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87480"/>
            <a:ext cx="8458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누가복음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5:31-32&gt;   (31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대답하여 이르시되 건강한 자에게는 의사가 쓸 데 없고 병든 자에게라야 쓸 데 있나니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(32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내가 의인을 부르러 온 것이 아니요 죄인을 불러 회개시키러 왔노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로마서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5:8&gt;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가 아직 죄인 되었을 때에 그리스도께서 우리를 위하여 죽으심으로 하나님께서 우리에 대한 자기의 사랑을 확증하셨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4348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74680" y="1447920"/>
            <a:ext cx="864072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다른 사람과 비교하여 자신의 죄가 작다고 느낀 적이 있습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 </a:t>
            </a:r>
            <a:br>
              <a:rPr sz="3200"/>
            </a:b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    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다른 사람과 비교하여 자신의 죄가 크다고 느낀 적이 있습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br>
              <a:rPr sz="3200"/>
            </a:b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Q2.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솔직하게 자신이 죄인임을 시인했을 때는 어떤 일이 벌어집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04920" y="1219320"/>
            <a:ext cx="8496360" cy="3804120"/>
            <a:chOff x="304920" y="1219320"/>
            <a:chExt cx="8496360" cy="3804120"/>
          </a:xfrm>
        </p:grpSpPr>
        <p:sp>
          <p:nvSpPr>
            <p:cNvPr id="77" name=""/>
            <p:cNvSpPr/>
            <p:nvPr/>
          </p:nvSpPr>
          <p:spPr>
            <a:xfrm>
              <a:off x="304920" y="1219320"/>
              <a:ext cx="8496360" cy="38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121932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1219320"/>
              <a:ext cx="849636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140000"/>
                </a:lnSpc>
                <a:buClr>
                  <a:srgbClr val="000099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외 울 말 씀 –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ctr">
                <a:lnSpc>
                  <a:spcPct val="140000"/>
                </a:lnSpc>
                <a:buClr>
                  <a:srgbClr val="000099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“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31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예수께서 대답하여 이르시되 건강한 자에게는 의사가 쓸 데 없고 병든 자에게라야 쓸 데 있나니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32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내가 의인을 부르러 온 것이 아니요 죄인을 불러 회개시키러 왔노라 ”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누가복음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5:31-32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6560" y="15408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구원의 필요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3200400"/>
            <a:ext cx="8496360" cy="3499920"/>
            <a:chOff x="304920" y="3200400"/>
            <a:chExt cx="8496360" cy="3499920"/>
          </a:xfrm>
        </p:grpSpPr>
        <p:sp>
          <p:nvSpPr>
            <p:cNvPr id="47" name=""/>
            <p:cNvSpPr/>
            <p:nvPr/>
          </p:nvSpPr>
          <p:spPr>
            <a:xfrm>
              <a:off x="304920" y="3200400"/>
              <a:ext cx="8496360" cy="34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320040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200400"/>
              <a:ext cx="8496360" cy="34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120000"/>
                </a:lnSpc>
                <a:buClr>
                  <a:srgbClr val="000099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성 경 말 씀 </a:t>
              </a:r>
              <a:r>
                <a:rPr b="0" lang="ko-KR" sz="32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“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31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예수께서 대답하여 이르시되 건강한 자에게는 의사가 쓸 데 없고 병든 자에게라야 쓸 데 있나니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32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내가 의인을 부르러 온 것이 아니요 죄인을 불러 회개시키러 왔노라 ”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누가복음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5:31-32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333360"/>
            <a:ext cx="863640" cy="71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09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19320" y="201924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2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죄를 인정하는 이의 희망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080" y="81576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76520"/>
            <a:ext cx="82296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   </a:t>
            </a:r>
            <a:r>
              <a:rPr b="1" lang="en-US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Q1. </a:t>
            </a:r>
            <a:r>
              <a:rPr b="1" lang="zh-CN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왜 사람들은 들키면 자세를 바꾸고 뱃심 좋게 버티곤 할까요</a:t>
            </a:r>
            <a:r>
              <a:rPr b="1" lang="en-US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956040"/>
            <a:ext cx="8404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창세기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4:9&gt;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러면 이제 우리가 그의 피로 말미암아 의롭다 하심을 받았으니 더욱 그로 말미암아 진노하심에서 구원을 받을 것이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26880" y="974880"/>
            <a:ext cx="8283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A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죄를 감추거나 합리화하지 마십시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30320" y="3200400"/>
            <a:ext cx="8785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마태복음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7:3&g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어찌하여 형제의 눈 속에 있는 티는 보고 네 눈 속에 있는 들보는 깨닫지 못하느냐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748880" y="2376360"/>
            <a:ext cx="45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1.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죄를 상대적으로 생각하기 때문입니다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88760" y="1843200"/>
            <a:ext cx="45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2.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최선을 다했다고 생각하기 때문입니다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282600" y="2657520"/>
            <a:ext cx="8785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마태복음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9:20&gt;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청년이 이르되 이 모든 것을 내가 지키었사온대 아직도 무엇이 부족하니이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764720" y="4890960"/>
            <a:ext cx="45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3.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공로주의 원리에 빠져있기 때문입니다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760" y="1295280"/>
            <a:ext cx="8496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1720" indent="-531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죄는 보다 더 깊은 차원으로 발전합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382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gt;&gt;&gt;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처음에는 모르고 짓는 죄가 많습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러나  그 다음에는 알고 반복합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리고는 변명하면서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,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정당화하면서 죄를 가중시킵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094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9640" indent="-5396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빛으로 나아갈수록 자신의 죄를 더 깊이 알게 됩니다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352680"/>
            <a:ext cx="8572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 indent="-290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요한복음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:4-5&gt; (4)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안에 생명이 있었으니 이 생명은 사람들의 빛이라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(5)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빛이 어둠에 비치되 어둠이 깨닫지 못하더라 또는 이기지 못하더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28160" y="245268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1.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영적으로 죽은 사람은 죄에 대해 무감각합니다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96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2.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빛으로 나아가 자신의 죄를 고백하는 사람은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쓰임을 받습니다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066680"/>
            <a:ext cx="83822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(</a:t>
            </a: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다윗</a:t>
            </a: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시편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51:5&gt;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내가 죄악 중에서 출생하였음이여 어머니가 죄 중에서 나를 잉태하였나이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(</a:t>
            </a: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베드로</a:t>
            </a: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누가복음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5:8&gt;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몬 베드로가 이를 보고 예수의 무릎 아래에 엎드려 이르되 주여 나를 떠나소서 나는 죄인이로소이다 하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(</a:t>
            </a: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사야</a:t>
            </a: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사야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6:5&gt;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 때에 내가 말하되 화로다 나여 망하게 되었도다 나는 입술이 부정한 사람이요 나는 입술이 부정한 백성 중에 거주하면서 만군의 여호와이신 왕을 뵈었음이로다 하였더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700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3.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병을 인정해야 치료가 시작됩니다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755720"/>
            <a:ext cx="838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&gt;&gt;&gt;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빛과 가까울수록 죄의 고백은 깊어집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죄의 고백이 깊어질수록 하나님의 사랑의 깊이도 깊어집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하나님이 나를 꾸짖으시면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HY견고딕"/>
                <a:ea typeface="HY견고딕"/>
              </a:rPr>
              <a:t>심판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입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다른 사람이 나를 나무라면 그것은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HY견고딕"/>
                <a:ea typeface="HY견고딕"/>
              </a:rPr>
              <a:t>비판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입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그런데 나 스스로 뉘우치면 그것은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HY견고딕"/>
                <a:ea typeface="HY견고딕"/>
              </a:rPr>
              <a:t>회개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입니다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5-10T08:31:21Z</dcterms:modified>
  <cp:revision>230</cp:revision>
  <dc:subject/>
  <dc:title>PowerPoint 프레젠테이션</dc:title>
</cp:coreProperties>
</file>