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00F-D904-465A-8DF4-8E2E3724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2F4-7CA4-43F0-8ED8-332B0DCA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774-967A-48DE-BEBB-73FFEC4E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29E-6B89-40B4-900D-EAD542AB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D52-A555-435C-83A8-7E881693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979-4B9A-4832-A926-1B158EA0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910-A882-427D-90E0-C28B3456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B5B-CAE3-4AF8-A176-B65E018B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6F7-7DCA-489C-B394-B3538984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17C-F41D-4C80-8FF3-A2D8B62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937-0634-424D-845C-51E0FC17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4F6-96A3-43BD-9A75-A5BD6B5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51EB-FB1E-4FFF-B593-6BA3BA14C39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HY견고딕"/>
                <a:ea typeface="HY견고딕"/>
              </a:rPr>
              <a:t>※</a:t>
            </a:r>
            <a:r>
              <a:rPr b="0" lang="zh-CN" sz="3200" spc="-1" strike="noStrike">
                <a:solidFill>
                  <a:srgbClr val="660066"/>
                </a:solidFill>
                <a:latin typeface="HY견고딕"/>
                <a:ea typeface="HY견고딕"/>
              </a:rPr>
              <a:t>세가지 차원의 죽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HY견고딕"/>
                <a:ea typeface="HY견고딕"/>
              </a:rPr>
              <a:t>1) </a:t>
            </a:r>
            <a:r>
              <a:rPr b="0" lang="zh-CN" sz="2600" spc="-1" strike="noStrike">
                <a:solidFill>
                  <a:srgbClr val="000099"/>
                </a:solidFill>
                <a:latin typeface="HY견고딕"/>
                <a:ea typeface="HY견고딕"/>
              </a:rPr>
              <a:t>영적인 죽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간이 하나님으로부터 분리됨</a:t>
            </a:r>
            <a:r>
              <a:rPr b="0" lang="en-US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zh-CN" sz="2600" spc="-1" strike="noStrike" u="sng">
                <a:solidFill>
                  <a:srgbClr val="6600cc"/>
                </a:solidFill>
                <a:uFillTx/>
                <a:latin typeface="HY견고딕"/>
                <a:ea typeface="HY견고딕"/>
                <a:hlinkClick r:id="rId2" action="ppaction://hlinksldjump"/>
              </a:rPr>
              <a:t>창2:17,3:23, 겔18:4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HY견고딕"/>
                <a:ea typeface="HY견고딕"/>
              </a:rPr>
              <a:t>2) </a:t>
            </a:r>
            <a:r>
              <a:rPr b="0" lang="zh-CN" sz="2600" spc="-1" strike="noStrike">
                <a:solidFill>
                  <a:srgbClr val="000099"/>
                </a:solidFill>
                <a:latin typeface="HY견고딕"/>
                <a:ea typeface="HY견고딕"/>
              </a:rPr>
              <a:t>육체적인 죽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영혼이 육체와 분리됨</a:t>
            </a:r>
            <a:r>
              <a:rPr b="0" lang="en-US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zh-CN" sz="2600" spc="-1" strike="noStrike" u="sng">
                <a:solidFill>
                  <a:srgbClr val="6600cc"/>
                </a:solidFill>
                <a:uFillTx/>
                <a:latin typeface="HY견고딕"/>
                <a:ea typeface="HY견고딕"/>
                <a:hlinkClick r:id="rId3" action="ppaction://hlinksldjump"/>
              </a:rPr>
              <a:t>창5:5, 약2:26, 전12:7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HY견고딕"/>
                <a:ea typeface="HY견고딕"/>
              </a:rPr>
              <a:t>3) </a:t>
            </a:r>
            <a:r>
              <a:rPr b="0" lang="zh-CN" sz="2600" spc="-1" strike="noStrike">
                <a:solidFill>
                  <a:srgbClr val="000099"/>
                </a:solidFill>
                <a:latin typeface="HY견고딕"/>
                <a:ea typeface="HY견고딕"/>
              </a:rPr>
              <a:t>영원한 죽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하나님으로부터 영원한 분리</a:t>
            </a:r>
            <a:r>
              <a:rPr b="0" lang="en-US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zh-CN" sz="2600" spc="-1" strike="noStrike" u="sng">
                <a:solidFill>
                  <a:srgbClr val="6600cc"/>
                </a:solidFill>
                <a:uFillTx/>
                <a:latin typeface="HY견고딕"/>
                <a:ea typeface="HY견고딕"/>
                <a:hlinkClick r:id="rId4" action="ppaction://hlinksldjump"/>
              </a:rPr>
              <a:t>마25:41,계21:8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849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 indent="-290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히브리서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9:27&gt; 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번 죽는 것은 사람에게 정해진 것이요 그 후에는 심판이 있으리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76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죄를 짓는 순간부터 갖게 되는 마음의 고통이 심판입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743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3920" indent="-8539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오늘의 현시점에서도 심판은 있습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114480" y="1295280"/>
            <a:ext cx="8496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잠언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28:1&g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악인은 쫓아오는 자가 없어도 도망하나 의인은 사자 같이 담대하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657600"/>
            <a:ext cx="8496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 indent="-290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누가복음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2:2-3&gt;  (2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감추인 것이 드러나지 않을 것이 없고 숨긴 것이 알려지지 않을 것이 없나니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(3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러므로 너희가 어두운 데서 말한 모든 것이 광명한 데서 들리고 너희가 골방에서 귀에 대고 말한 것이 지붕 위에서 전파되리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763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나님의 절대평가를 두려워해야 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505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3920" indent="-8539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4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죄를 자꾸 다그쳐 묻는 이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14480" y="838080"/>
            <a:ext cx="864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 indent="-290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요한계시록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20:12-15&gt;(12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또 내가 보니 죽은 자들이 큰 자나 작은 자나 그 보좌 앞에 서 있는데 책들이 펴 있고 또 다른 책이 펴졌으니 곧 생명책이라 죽은 자들이 자기 행위를 따라 책들에 기록된 대로 심판을 받으니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3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다가 그 가운데에서 죽은 자들을 내주고 또 사망과 음부도 그 가운데에서 죽은 자들을 내주매 각 사람이 자기의 행위대로 심판을 받고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4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사망과 음부도 불못에 던져지니 이것은 둘째 사망 곧 불못이라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5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누구든지 생명책에 기록되지 못한 자는 불못에 던져지더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114800"/>
            <a:ext cx="849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사야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1:18-20&gt;  (18)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여호와께서 말씀하시되 오라 우리가 서로 변론하자 너희의 죄가 주홍 같을지라도 눈과 같이 희어질 것이요 진홍 같이 붉을지라도 양털 같이 희게 되리라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9)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너희가 즐겨 순종하면 땅의 아름다운 소산을 먹을 것이요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)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너희가 거절하여 배반하면 칼에 삼켜지리라 여호와의 입의 말씀이니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4348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74680" y="1447920"/>
            <a:ext cx="864072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죄를 짓고 들키지 않았지만 그 죄로 인해 마음의 고통을 느껴보신 적이 있습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Q2.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죄를 짓고 잘 사는 사람들을 보면 어떤 생각이 드십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Q3.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교회에 나오는 동기가 병 고침이나 소원성취에 있습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Q4.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부모가 자식에게 죄를 캐묻는 이유는 무엇입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04920" y="838080"/>
            <a:ext cx="8496360" cy="5858640"/>
            <a:chOff x="304920" y="838080"/>
            <a:chExt cx="8496360" cy="5858640"/>
          </a:xfrm>
        </p:grpSpPr>
        <p:sp>
          <p:nvSpPr>
            <p:cNvPr id="85" name=""/>
            <p:cNvSpPr/>
            <p:nvPr/>
          </p:nvSpPr>
          <p:spPr>
            <a:xfrm>
              <a:off x="304920" y="838080"/>
              <a:ext cx="8496360" cy="58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920" y="83808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920" y="838080"/>
              <a:ext cx="8496360" cy="57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180000"/>
                </a:lnSpc>
                <a:buClr>
                  <a:srgbClr val="000099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외 울 말 씀</a:t>
              </a:r>
              <a:r>
                <a:rPr b="0" lang="ko-KR" sz="32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ct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“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10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기록된 바 의인은 없나니 하나도 없으며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11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깨닫는 자도 없고 하나님을 찾는 자도 없고 </a:t>
              </a:r>
              <a:br>
                <a:rPr sz="2800"/>
              </a:b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12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다 치우쳐 함께 무익하게 되고 선을 행하는 자는 없나니 하나도 없도다 ”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                             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로마서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3:10-12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창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:17&gt;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선악을 알게 하는 나무의 열매는 먹지 말라 네가 먹는 날에는 반드시 죽으리라 하시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창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3:23&gt;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여호와 하나님이 에덴 동산에서 그를 내보내어 그의 근원이 된 땅을 갈게 하시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겔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18:4&gt;  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모든 영혼이 다 내게 속한지라 아버지의 영혼이 내게 속함 같이 그의 아들의 영혼도 내게 속하였나니 범죄하는 그 영혼은 죽으리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148520" y="6078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-소망B"/>
              </a:rPr>
              <a:t>행복한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창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5:5&gt;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는 구백삼십 세를 살고 죽었더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약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:26&gt;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영혼 없는 몸이 죽은 것 같이 행함이 없는 믿음은 죽은 것이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전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12:7&gt;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흙은 여전히 땅으로 돌아가고 영은 그것을 주신 하나님께로 돌아가기 전에 기억하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148520" y="6078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-소망B"/>
              </a:rPr>
              <a:t>행복한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마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25:41&gt;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또 왼편에 있는 자들에게 이르시되 저주를 받은 자들아 나를 떠나 마귀와 그 사자들을 위하여 예비된 영원한 불에 들어가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계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21:8&gt;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러나 두려워하는 자들과 믿지 아니하는 자들과 흉악한 자들과 살인자들과 음행하는 자들과 점술가들과 우상 숭배자들과 거짓말하는 모든 자들은 불과 유황으로 타는 못에 던져지리니 이것이 둘째 사망이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148520" y="6078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-소망B"/>
              </a:rPr>
              <a:t>행복한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6560" y="15408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기초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구원의 필요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3200400"/>
            <a:ext cx="8496360" cy="3499920"/>
            <a:chOff x="304920" y="3200400"/>
            <a:chExt cx="8496360" cy="3499920"/>
          </a:xfrm>
        </p:grpSpPr>
        <p:sp>
          <p:nvSpPr>
            <p:cNvPr id="47" name=""/>
            <p:cNvSpPr/>
            <p:nvPr/>
          </p:nvSpPr>
          <p:spPr>
            <a:xfrm>
              <a:off x="304920" y="3200400"/>
              <a:ext cx="8496360" cy="34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320040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200400"/>
              <a:ext cx="8496360" cy="34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120000"/>
                </a:lnSpc>
                <a:buClr>
                  <a:srgbClr val="000099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성 경 말 씀</a:t>
              </a:r>
              <a:r>
                <a:rPr b="0" lang="ko-KR" sz="32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“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10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기록된 바 의인은 없나니 하나도 없으며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11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깨닫는 자도 없고 하나님을 찾는 자도 없고 </a:t>
              </a:r>
              <a:br>
                <a:rPr sz="2800"/>
              </a:b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(12)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다 치우쳐 함께 무익하게 되고 선을 행하는 자는 없나니 하나도 없도다 ”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                                 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로마서</a:t>
              </a:r>
              <a:r>
                <a:rPr b="0" lang="ko-KR" sz="2800" spc="-1" strike="noStrike">
                  <a:solidFill>
                    <a:srgbClr val="000099"/>
                  </a:solidFill>
                  <a:latin typeface="-소망B"/>
                  <a:ea typeface="-소망B"/>
                </a:rPr>
                <a:t>3:10-12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333360"/>
            <a:ext cx="863640" cy="71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08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19320" y="201924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1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가장 근본적 문제인 죄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080" y="81576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000160"/>
            <a:ext cx="822960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   </a:t>
            </a:r>
            <a:r>
              <a:rPr b="1" lang="en-US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Q1. </a:t>
            </a:r>
            <a:r>
              <a:rPr b="1" lang="zh-CN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굴뚝에 들어갔다 나온 아이들 모두 시커멓게 되었다는 랍비의 이야기는 무슨 의미라고 생각합니까</a:t>
            </a:r>
            <a:r>
              <a:rPr b="1" lang="en-US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4038480"/>
            <a:ext cx="87850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76280" indent="-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도행전</a:t>
            </a:r>
            <a:r>
              <a:rPr b="1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6:31&gt; </a:t>
            </a:r>
            <a:r>
              <a:rPr b="1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르되 주 예수를 믿으라 그리하면 너와 네 집이 구원을 받으리라 하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408480" y="205740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◈ </a:t>
            </a:r>
            <a:r>
              <a:rPr b="1" lang="zh-CN" sz="2800" spc="-1" strike="noStrike">
                <a:solidFill>
                  <a:srgbClr val="6600cc"/>
                </a:solidFill>
                <a:latin typeface="HY견고딕"/>
                <a:ea typeface="HY견고딕"/>
              </a:rPr>
              <a:t>기독교의 핵심 →예수그리스도→십자가→구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28800" y="2742840"/>
            <a:ext cx="5867280" cy="609840"/>
            <a:chOff x="1828800" y="2742840"/>
            <a:chExt cx="5867280" cy="609840"/>
          </a:xfrm>
        </p:grpSpPr>
        <p:sp>
          <p:nvSpPr>
            <p:cNvPr id="58" name=""/>
            <p:cNvSpPr/>
            <p:nvPr/>
          </p:nvSpPr>
          <p:spPr>
            <a:xfrm flipV="1">
              <a:off x="1828800" y="274284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7696080" y="274284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3352680"/>
              <a:ext cx="586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4600" y="152280"/>
            <a:ext cx="889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A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모든 사람이 죄를 지었습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1219320"/>
            <a:ext cx="878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로마서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3:9&gt;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러면 어떠하뇨 우리는 나으뇨 결코 아니라 유대인이나 헬라인이나 다 죄 아래 있다고 우리가 이미 선언하였느니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로마서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3:23&gt;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모든 사람이 죄를 범하였으매 하나님의 영광에 이르지 못하더니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로마서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3:10-12&gt; (10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록된 바 의인은 없나니 하나도 없으며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1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깨닫는 자도 없고 하나님을 찾는 자도 없고 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(12)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다 치우쳐 함께 무익하게 되고 선을 행하는 자는 없나니 하나도 없도다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420840"/>
            <a:ext cx="8496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1720" indent="-531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기억에 없다고 죄가 없는 것은 아닙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-76320" y="12193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 </a:t>
            </a:r>
            <a:r>
              <a:rPr b="0" lang="ko-KR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gt;&gt;&gt; </a:t>
            </a:r>
            <a:r>
              <a:rPr b="0" lang="ko-KR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나는 죄가 없다고 말할 수 있는 사람이 있을까요</a:t>
            </a:r>
            <a:r>
              <a:rPr b="0" lang="ko-KR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? </a:t>
            </a:r>
            <a:r>
              <a:rPr b="0" lang="ko-KR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죄가 없다고 말하는 그 자체가 하나님 앞에서 거짓말입니다</a:t>
            </a:r>
            <a:r>
              <a:rPr b="0" lang="ko-KR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079800"/>
            <a:ext cx="8686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1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1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요한일서</a:t>
            </a:r>
            <a:r>
              <a:rPr b="1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:8,10&gt; (8) </a:t>
            </a:r>
            <a:r>
              <a:rPr b="1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만일 우리가 죄가 없다고 말하면 스스로 속이고 또 진리가 우리 속에 있지 아니할 것이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(10) </a:t>
            </a:r>
            <a:r>
              <a:rPr b="1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만일 우리가 범죄하지 아니하였다 하면 하나님을 거짓말하는 이로 만드는 것이니 또한 그의 말씀이 우리 속에 있지 아니하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52280"/>
            <a:ext cx="878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gt;&gt;&gt; </a:t>
            </a:r>
            <a:r>
              <a:rPr b="0" lang="zh-CN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누구에게나 양심이 있습니다</a:t>
            </a:r>
            <a:r>
              <a:rPr b="0" lang="en-US" sz="26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77920" y="820800"/>
            <a:ext cx="87138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로마서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2:15&g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런 이들은 그 양심이 증거가 되어 그 생각들이 서로 혹은 고발하며 혹은 변명하여 그 마음에 새긴 율법의 행위를 나타내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92160" indent="-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51:3-5&gt;  (3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무릇 나는 내 죄과를 아오니 내 죄가 항상 내 앞에 있나이다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(4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내가 주께만 범죄하여 주의 목전에 악을 행하였사오니 주께서 말씀하실 때에 의로우시다 하고 주께서 심판하실 때에 순전하시다 하리이다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(5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내가 죄악 중에서 출생하였음이여 어머니가 죄 중에서 나를 잉태하였나이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52280"/>
            <a:ext cx="849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9640" indent="-539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죄의 대가는 죽음입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762120"/>
            <a:ext cx="849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 indent="-290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로마서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6:23&g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죄의 삯은 사망이요 하나님의 은사는 그리스도 예수 우리 주 안에 있는 영생이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881360"/>
            <a:ext cx="7956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⊙ 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죽음이란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* 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생물학적 측면 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뇌기능 정지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감정 정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* 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철학적 측면 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주체와 객체의 분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* 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문학적 측면 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영원한 이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* 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경제적 측면 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쓸모가 없어진 폐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* 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성서적 측면 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육체와 영혼의 분리</a:t>
            </a:r>
            <a:r>
              <a:rPr b="0" lang="en-US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,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                     </a:t>
            </a:r>
            <a:r>
              <a:rPr b="0" lang="zh-CN" sz="2800" spc="-1" strike="noStrike">
                <a:solidFill>
                  <a:srgbClr val="660066"/>
                </a:solidFill>
                <a:latin typeface="HY견고딕"/>
                <a:ea typeface="HY견고딕"/>
              </a:rPr>
              <a:t>고향을 찾아가는 한 과정의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762120"/>
            <a:ext cx="795636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&gt;&gt;&gt; 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죽음이란 육체와 영혼의 분리요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고향을 돌아가는 한 과정의 변화임을 알려줍니다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죽음은 존재의 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HY견고딕"/>
                <a:ea typeface="HY견고딕"/>
              </a:rPr>
              <a:t>중단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이 아니라 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HY견고딕"/>
                <a:ea typeface="HY견고딕"/>
              </a:rPr>
              <a:t>분리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입니다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육체적인 죽음이 육체로부터 영혼이 분리되는 것이며 그 결과로 육체는 부패하듯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영적인 죽음은 인간이 하나님으로부터 분리되는 것을 의미합니다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이 영적인 죽음과 육체적인 죽음이 모두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HY견고딕"/>
                <a:ea typeface="HY견고딕"/>
              </a:rPr>
              <a:t> 죄</a:t>
            </a:r>
            <a:r>
              <a:rPr b="0" lang="zh-CN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의 결과입니다</a:t>
            </a:r>
            <a:r>
              <a:rPr b="0" lang="en-US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5-03T04:46:15Z</dcterms:modified>
  <cp:revision>222</cp:revision>
  <dc:subject/>
  <dc:title>PowerPoint 프레젠테이션</dc:title>
</cp:coreProperties>
</file>