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9291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9054-C546-4107-9DD2-5C8E6B9C8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D04E-AFB4-46C9-BBD5-041085F98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284A-387F-4040-A410-D1C3F6904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3B48-2D73-4EDF-82BC-E7C957164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8728-3E7B-4A3F-93E9-269BEA912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5C17-D2FC-415B-A236-66CFF2796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F166-8239-43A4-8A9B-210BAF350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06C9-0A17-4887-A764-9E41CFDD0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09F2-AD74-48F4-92AD-144B7EE7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7598-FBB0-487A-A01E-2B6AAB8D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24EF-C79E-4586-AA58-3B863C21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0597-F27D-4A88-8048-DC915E7A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22BA1-A69E-4889-BF0C-C771F4384D3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28560" y="5119560"/>
            <a:ext cx="243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-소망B"/>
                <a:ea typeface="-소망B"/>
              </a:rPr>
              <a:t>행 복 한 교 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195640" y="2492280"/>
            <a:ext cx="4752720" cy="863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-소망B"/>
              </a:rPr>
              <a:t>믿음의 길</a:t>
            </a:r>
            <a:endParaRPr b="0" lang="en-US" sz="32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-소망B"/>
              <a:ea typeface="-소망B"/>
            </a:endParaRPr>
          </a:p>
        </p:txBody>
      </p:sp>
      <p:sp>
        <p:nvSpPr>
          <p:cNvPr id="43" name=""/>
          <p:cNvSpPr/>
          <p:nvPr/>
        </p:nvSpPr>
        <p:spPr>
          <a:xfrm>
            <a:off x="2693160" y="1027080"/>
            <a:ext cx="36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휴먼옛체"/>
                <a:ea typeface="휴먼옛체"/>
              </a:rPr>
              <a:t>삶의 가치를 향상 시켜주는 구원에 이르는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3293640" y="3429000"/>
            <a:ext cx="245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HY궁서B"/>
                <a:ea typeface="HY궁서B"/>
              </a:rPr>
              <a:t>&lt; </a:t>
            </a:r>
            <a:r>
              <a:rPr b="1" lang="zh-CN" sz="3600" spc="-1" strike="noStrike">
                <a:solidFill>
                  <a:srgbClr val="0000cc"/>
                </a:solidFill>
                <a:latin typeface="HY궁서B"/>
                <a:ea typeface="HY궁서B"/>
              </a:rPr>
              <a:t>확  신  편 </a:t>
            </a:r>
            <a:r>
              <a:rPr b="1" lang="en-US" sz="3600" spc="-1" strike="noStrike">
                <a:solidFill>
                  <a:srgbClr val="0000cc"/>
                </a:solidFill>
                <a:latin typeface="HY궁서B"/>
                <a:ea typeface="HY궁서B"/>
              </a:rPr>
              <a:t>&gt;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11240" y="762120"/>
            <a:ext cx="872784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  </a:t>
            </a:r>
            <a:r>
              <a:rPr b="0" lang="ko-KR" sz="32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* </a:t>
            </a:r>
            <a:r>
              <a:rPr b="0" lang="ko-KR" sz="32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그리스도인에게 있어서 핵이란</a:t>
            </a:r>
            <a:br>
              <a:rPr sz="3200"/>
            </a:br>
            <a:br>
              <a:rPr sz="3200"/>
            </a:br>
            <a:r>
              <a:rPr b="0" lang="ko-KR" sz="32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   </a:t>
            </a:r>
            <a:r>
              <a:rPr b="1" lang="ko-KR" sz="3200" spc="-1" strike="noStrike" u="sng">
                <a:solidFill>
                  <a:srgbClr val="ff0000"/>
                </a:solidFill>
                <a:uFillTx/>
                <a:latin typeface="HY헤드라인M"/>
                <a:ea typeface="HY헤드라인M"/>
              </a:rPr>
              <a:t>하나님</a:t>
            </a:r>
            <a:r>
              <a:rPr b="0" lang="ko-KR" sz="32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께서 우리의 아버지이신 것</a:t>
            </a:r>
            <a:br>
              <a:rPr sz="3200"/>
            </a:br>
            <a:br>
              <a:rPr sz="3200"/>
            </a:br>
            <a:r>
              <a:rPr b="0" lang="ko-KR" sz="32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   </a:t>
            </a:r>
            <a:r>
              <a:rPr b="1" lang="ko-KR" sz="3200" spc="-1" strike="noStrike" u="sng">
                <a:solidFill>
                  <a:srgbClr val="ff0000"/>
                </a:solidFill>
                <a:uFillTx/>
                <a:latin typeface="HY헤드라인M"/>
                <a:ea typeface="HY헤드라인M"/>
              </a:rPr>
              <a:t>예수</a:t>
            </a:r>
            <a:r>
              <a:rPr b="0" lang="ko-KR" sz="32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 </a:t>
            </a:r>
            <a:r>
              <a:rPr b="1" lang="ko-KR" sz="3200" spc="-1" strike="noStrike" u="sng">
                <a:solidFill>
                  <a:srgbClr val="ff0000"/>
                </a:solidFill>
                <a:uFillTx/>
                <a:latin typeface="HY헤드라인M"/>
                <a:ea typeface="HY헤드라인M"/>
              </a:rPr>
              <a:t>그리스도</a:t>
            </a:r>
            <a:r>
              <a:rPr b="0" lang="ko-KR" sz="32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께서 우리의 구주 되신 것</a:t>
            </a:r>
            <a:br>
              <a:rPr sz="3200"/>
            </a:br>
            <a:br>
              <a:rPr sz="3200"/>
            </a:br>
            <a:r>
              <a:rPr b="0" lang="ko-KR" sz="32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   </a:t>
            </a:r>
            <a:r>
              <a:rPr b="1" lang="ko-KR" sz="3200" spc="-1" strike="noStrike" u="sng">
                <a:solidFill>
                  <a:srgbClr val="ff0000"/>
                </a:solidFill>
                <a:uFillTx/>
                <a:latin typeface="HY헤드라인M"/>
                <a:ea typeface="HY헤드라인M"/>
              </a:rPr>
              <a:t>성령</a:t>
            </a:r>
            <a:r>
              <a:rPr b="0" lang="ko-KR" sz="32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께서 우리의 마음에 내주하신 것입니다</a:t>
            </a:r>
            <a:r>
              <a:rPr b="0" lang="ko-KR" sz="32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8920" y="434880"/>
            <a:ext cx="8496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-청춘M"/>
                <a:ea typeface="-청춘M"/>
              </a:rPr>
              <a:t>▣ </a:t>
            </a:r>
            <a:r>
              <a:rPr b="1" lang="zh-CN" sz="4400" spc="-1" strike="noStrike">
                <a:solidFill>
                  <a:srgbClr val="6600cc"/>
                </a:solidFill>
                <a:latin typeface="-청춘M"/>
                <a:ea typeface="-청춘M"/>
              </a:rPr>
              <a:t>생각열기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274680" y="1627200"/>
            <a:ext cx="86407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Q1.  </a:t>
            </a:r>
            <a:r>
              <a:rPr b="1" lang="zh-CN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우리 안에서 활동하시는 성령님을 체험해 보셨습니까</a:t>
            </a:r>
            <a:r>
              <a:rPr b="1" lang="en-US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?</a:t>
            </a:r>
            <a:br>
              <a:rPr sz="3200"/>
            </a:br>
            <a:r>
              <a:rPr b="1" lang="en-US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  </a:t>
            </a:r>
            <a:r>
              <a:rPr b="1" lang="zh-CN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생각지도 못했던 죄를 회개하는 체험</a:t>
            </a:r>
            <a:br>
              <a:rPr sz="3200"/>
            </a:br>
            <a:r>
              <a:rPr b="1" lang="en-US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  믿음의 확신이 생기는 체험</a:t>
            </a:r>
            <a:br>
              <a:rPr sz="3200"/>
            </a:br>
            <a:r>
              <a:rPr b="1" lang="en-US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  성품이 변화되는 체험</a:t>
            </a:r>
            <a:br>
              <a:rPr sz="3200"/>
            </a:br>
            <a:r>
              <a:rPr b="1" lang="en-US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  그리고 다양한 은사의 체험에 대해 서로 나누어 보십시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304920" y="1143000"/>
            <a:ext cx="8496360" cy="5478120"/>
            <a:chOff x="304920" y="1143000"/>
            <a:chExt cx="8496360" cy="5478120"/>
          </a:xfrm>
        </p:grpSpPr>
        <p:sp>
          <p:nvSpPr>
            <p:cNvPr id="84" name=""/>
            <p:cNvSpPr/>
            <p:nvPr/>
          </p:nvSpPr>
          <p:spPr>
            <a:xfrm>
              <a:off x="304920" y="1143000"/>
              <a:ext cx="8496360" cy="547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920" y="1143000"/>
              <a:ext cx="8496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04920" y="1143000"/>
              <a:ext cx="8496360" cy="540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57200" indent="-457200" algn="ctr">
                <a:lnSpc>
                  <a:spcPct val="120000"/>
                </a:lnSpc>
                <a:buClr>
                  <a:srgbClr val="3333cc"/>
                </a:buClr>
                <a:buFont typeface="-소망B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3200" spc="-1" strike="noStrike">
                  <a:solidFill>
                    <a:srgbClr val="3333cc"/>
                  </a:solidFill>
                  <a:latin typeface="-소망B"/>
                  <a:ea typeface="-소망B"/>
                </a:rPr>
                <a:t>성 경 말 씀</a:t>
              </a:r>
              <a:r>
                <a:rPr b="0" lang="ko-KR" sz="3200" spc="-1" strike="noStrike">
                  <a:solidFill>
                    <a:srgbClr val="3333cc"/>
                  </a:solidFill>
                  <a:latin typeface="-소망B"/>
                  <a:ea typeface="-소망B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 algn="ctr">
                <a:lnSpc>
                  <a:spcPct val="120000"/>
                </a:lnSpc>
                <a:buClr>
                  <a:srgbClr val="3333cc"/>
                </a:buClr>
                <a:buFont typeface="-소망B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3200" spc="-1" strike="noStrike">
                  <a:solidFill>
                    <a:srgbClr val="3333cc"/>
                  </a:solidFill>
                  <a:latin typeface="-소망B"/>
                  <a:ea typeface="-소망B"/>
                </a:rPr>
                <a:t>    “</a:t>
              </a:r>
              <a:r>
                <a:rPr b="0" lang="ko-KR" sz="3200" spc="-1" strike="noStrike">
                  <a:solidFill>
                    <a:srgbClr val="3333cc"/>
                  </a:solidFill>
                  <a:latin typeface="-소망B"/>
                  <a:ea typeface="-소망B"/>
                </a:rPr>
                <a:t>그러므로 내가 너희에게 알리노니 하나님의 영으로 말하는 자는 누구든지 예수를 저주할 자라 하지 아니하고 또 성령으로 아니하고는 누구든지 예수를 주시라 할 수 없느니라”</a:t>
              </a:r>
              <a:endParaRPr b="0" lang="en-US" sz="32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3200" spc="-1" strike="noStrike">
                  <a:solidFill>
                    <a:srgbClr val="3333cc"/>
                  </a:solidFill>
                  <a:latin typeface="-소망B"/>
                  <a:ea typeface="-소망B"/>
                </a:rPr>
                <a:t>                          </a:t>
              </a:r>
              <a:r>
                <a:rPr b="0" lang="ko-KR" sz="3200" spc="-1" strike="noStrike">
                  <a:solidFill>
                    <a:srgbClr val="3333cc"/>
                  </a:solidFill>
                  <a:latin typeface="-소망B"/>
                  <a:ea typeface="-소망B"/>
                </a:rPr>
                <a:t>&lt;</a:t>
              </a:r>
              <a:r>
                <a:rPr b="0" lang="ko-KR" sz="3200" spc="-1" strike="noStrike">
                  <a:solidFill>
                    <a:srgbClr val="3333cc"/>
                  </a:solidFill>
                  <a:latin typeface="-소망B"/>
                  <a:ea typeface="-소망B"/>
                </a:rPr>
                <a:t>고린도전서</a:t>
              </a:r>
              <a:r>
                <a:rPr b="0" lang="ko-KR" sz="3200" spc="-1" strike="noStrike">
                  <a:solidFill>
                    <a:srgbClr val="3333cc"/>
                  </a:solidFill>
                  <a:latin typeface="-소망B"/>
                  <a:ea typeface="-소망B"/>
                </a:rPr>
                <a:t>12:3&gt;</a:t>
              </a:r>
              <a:endParaRPr b="0" lang="en-US" sz="3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66560" y="154080"/>
            <a:ext cx="835344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-소망B"/>
                <a:ea typeface="-소망B"/>
              </a:rPr>
              <a:t>   </a:t>
            </a:r>
            <a:r>
              <a:rPr b="0" lang="zh-CN" sz="4400" spc="-1" strike="noStrike">
                <a:solidFill>
                  <a:srgbClr val="660066"/>
                </a:solidFill>
                <a:latin typeface="-소망B"/>
                <a:ea typeface="-소망B"/>
              </a:rPr>
              <a:t>제</a:t>
            </a:r>
            <a:r>
              <a:rPr b="0" lang="en-US" sz="4400" spc="-1" strike="noStrike">
                <a:solidFill>
                  <a:srgbClr val="660066"/>
                </a:solidFill>
                <a:latin typeface="-소망B"/>
                <a:ea typeface="-소망B"/>
              </a:rPr>
              <a:t>1</a:t>
            </a:r>
            <a:r>
              <a:rPr b="0" lang="zh-CN" sz="4400" spc="-1" strike="noStrike">
                <a:solidFill>
                  <a:srgbClr val="660066"/>
                </a:solidFill>
                <a:latin typeface="-소망B"/>
                <a:ea typeface="-소망B"/>
              </a:rPr>
              <a:t>부 믿음의 대상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-소망B"/>
                <a:ea typeface="-소망B"/>
              </a:rPr>
              <a:t>3</a:t>
            </a:r>
            <a:r>
              <a:rPr b="0" lang="zh-CN" sz="4400" spc="-1" strike="noStrike">
                <a:solidFill>
                  <a:srgbClr val="660066"/>
                </a:solidFill>
                <a:latin typeface="-소망B"/>
                <a:ea typeface="-소망B"/>
              </a:rPr>
              <a:t>권 성령</a:t>
            </a:r>
            <a:r>
              <a:rPr b="0" lang="en-US" sz="4400" spc="-1" strike="noStrike">
                <a:solidFill>
                  <a:srgbClr val="660066"/>
                </a:solidFill>
                <a:latin typeface="-소망B"/>
                <a:ea typeface="-소망B"/>
              </a:rPr>
              <a:t>(</a:t>
            </a:r>
            <a:r>
              <a:rPr b="0" lang="zh-CN" sz="4400" spc="-1" strike="noStrike">
                <a:solidFill>
                  <a:srgbClr val="660066"/>
                </a:solidFill>
                <a:latin typeface="-소망B"/>
                <a:ea typeface="-소망B"/>
              </a:rPr>
              <a:t>제</a:t>
            </a:r>
            <a:r>
              <a:rPr b="0" lang="en-US" sz="4400" spc="-1" strike="noStrike">
                <a:solidFill>
                  <a:srgbClr val="660066"/>
                </a:solidFill>
                <a:latin typeface="-소망B"/>
                <a:ea typeface="-소망B"/>
              </a:rPr>
              <a:t>3</a:t>
            </a:r>
            <a:r>
              <a:rPr b="0" lang="zh-CN" sz="4400" spc="-1" strike="noStrike">
                <a:solidFill>
                  <a:srgbClr val="660066"/>
                </a:solidFill>
                <a:latin typeface="-소망B"/>
                <a:ea typeface="-소망B"/>
              </a:rPr>
              <a:t>위</a:t>
            </a:r>
            <a:r>
              <a:rPr b="0" lang="en-US" sz="4400" spc="-1" strike="noStrike">
                <a:solidFill>
                  <a:srgbClr val="660066"/>
                </a:solidFill>
                <a:latin typeface="-소망B"/>
                <a:ea typeface="-소망B"/>
              </a:rPr>
              <a:t>, </a:t>
            </a:r>
            <a:r>
              <a:rPr b="0" lang="zh-CN" sz="4400" spc="-1" strike="noStrike">
                <a:solidFill>
                  <a:srgbClr val="660066"/>
                </a:solidFill>
                <a:latin typeface="-소망B"/>
                <a:ea typeface="-소망B"/>
              </a:rPr>
              <a:t>성신</a:t>
            </a:r>
            <a:r>
              <a:rPr b="0" lang="en-US" sz="4400" spc="-1" strike="noStrike">
                <a:solidFill>
                  <a:srgbClr val="660066"/>
                </a:solidFill>
                <a:latin typeface="-소망B"/>
                <a:ea typeface="-소망B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04920" y="3124080"/>
            <a:ext cx="8496360" cy="3499920"/>
            <a:chOff x="304920" y="3124080"/>
            <a:chExt cx="8496360" cy="3499920"/>
          </a:xfrm>
        </p:grpSpPr>
        <p:sp>
          <p:nvSpPr>
            <p:cNvPr id="47" name=""/>
            <p:cNvSpPr/>
            <p:nvPr/>
          </p:nvSpPr>
          <p:spPr>
            <a:xfrm>
              <a:off x="304920" y="3124080"/>
              <a:ext cx="8496360" cy="349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4920" y="3124080"/>
              <a:ext cx="8496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4920" y="3124080"/>
              <a:ext cx="8496360" cy="345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57200" indent="-457200" algn="ctr">
                <a:lnSpc>
                  <a:spcPct val="120000"/>
                </a:lnSpc>
                <a:buClr>
                  <a:srgbClr val="3333cc"/>
                </a:buClr>
                <a:buFont typeface="-소망B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3333cc"/>
                  </a:solidFill>
                  <a:latin typeface="-소망B"/>
                  <a:ea typeface="-소망B"/>
                </a:rPr>
                <a:t>성 경 말 씀</a:t>
              </a:r>
              <a:r>
                <a:rPr b="0" lang="ko-KR" sz="2800" spc="-1" strike="noStrike">
                  <a:solidFill>
                    <a:srgbClr val="3333cc"/>
                  </a:solidFill>
                  <a:latin typeface="-소망B"/>
                  <a:ea typeface="-소망B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3333cc"/>
                  </a:solidFill>
                  <a:latin typeface="-소망B"/>
                  <a:ea typeface="-소망B"/>
                </a:rPr>
                <a:t>   “</a:t>
              </a:r>
              <a:r>
                <a:rPr b="0" lang="ko-KR" sz="2800" spc="-1" strike="noStrike">
                  <a:solidFill>
                    <a:srgbClr val="3333cc"/>
                  </a:solidFill>
                  <a:latin typeface="-소망B"/>
                  <a:ea typeface="-소망B"/>
                </a:rPr>
                <a:t>그러므로 내가 너희에게 알리노니 하나님의 영으로 말하는 자는 누구든지 예수를 저주할 자라 하지 아니하고 또 성령으로 아니하고는 누구든지 예수를 주시라 할 수 없느니라”</a:t>
              </a:r>
              <a:endParaRPr b="0" lang="en-US" sz="28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3333cc"/>
                  </a:solidFill>
                  <a:latin typeface="-소망B"/>
                  <a:ea typeface="-소망B"/>
                </a:rPr>
                <a:t>                                </a:t>
              </a:r>
              <a:r>
                <a:rPr b="0" lang="ko-KR" sz="2800" spc="-1" strike="noStrike">
                  <a:solidFill>
                    <a:srgbClr val="3333cc"/>
                  </a:solidFill>
                  <a:latin typeface="-소망B"/>
                  <a:ea typeface="-소망B"/>
                </a:rPr>
                <a:t>&lt;</a:t>
              </a:r>
              <a:r>
                <a:rPr b="0" lang="ko-KR" sz="2800" spc="-1" strike="noStrike">
                  <a:solidFill>
                    <a:srgbClr val="3333cc"/>
                  </a:solidFill>
                  <a:latin typeface="-소망B"/>
                  <a:ea typeface="-소망B"/>
                </a:rPr>
                <a:t>고린도전서</a:t>
              </a:r>
              <a:r>
                <a:rPr b="0" lang="ko-KR" sz="2800" spc="-1" strike="noStrike">
                  <a:solidFill>
                    <a:srgbClr val="3333cc"/>
                  </a:solidFill>
                  <a:latin typeface="-소망B"/>
                  <a:ea typeface="-소망B"/>
                </a:rPr>
                <a:t>12:3&gt;</a:t>
              </a:r>
              <a:endParaRPr b="0" lang="en-US" sz="2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1692360" y="333360"/>
            <a:ext cx="863640" cy="719280"/>
          </a:xfrm>
          <a:prstGeom prst="rect">
            <a:avLst/>
          </a:pr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99"/>
                </a:solidFill>
                <a:latin typeface="Arial"/>
              </a:rPr>
              <a:t>07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474920" y="2057400"/>
            <a:ext cx="6192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Y견고딕"/>
              </a:rPr>
              <a:t>제</a:t>
            </a: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Y견고딕"/>
              </a:rPr>
              <a:t>2</a:t>
            </a:r>
            <a:r>
              <a:rPr b="0" lang="zh-CN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Y견고딕"/>
              </a:rPr>
              <a:t>과 성령이 하시는 일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Y견고딕"/>
              <a:ea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8920" y="380880"/>
            <a:ext cx="8496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-청춘M"/>
                <a:ea typeface="-청춘M"/>
              </a:rPr>
              <a:t> ▣ </a:t>
            </a:r>
            <a:r>
              <a:rPr b="1" lang="zh-CN" sz="4000" spc="-1" strike="noStrike">
                <a:solidFill>
                  <a:srgbClr val="6600cc"/>
                </a:solidFill>
                <a:latin typeface="-청춘M"/>
                <a:ea typeface="-청춘M"/>
              </a:rPr>
              <a:t>마음열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1841400"/>
            <a:ext cx="82184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30000"/>
              </a:lnSpc>
              <a:buClr>
                <a:srgbClr val="3333cc"/>
              </a:buClr>
              <a:buFont typeface="HY헤드라인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왜 불이 들어오지 않았습니까</a:t>
            </a:r>
            <a:r>
              <a:rPr b="1" lang="en-US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130320" y="3886200"/>
            <a:ext cx="878508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76280" indent="-4762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2. </a:t>
            </a:r>
            <a:r>
              <a:rPr b="1" lang="zh-CN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당신은 성령님과 연결되어 있습니까</a:t>
            </a:r>
            <a:r>
              <a:rPr b="1" lang="en-US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8920" y="115920"/>
            <a:ext cx="8496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-청춘M"/>
                <a:ea typeface="-청춘M"/>
              </a:rPr>
              <a:t> ▣ </a:t>
            </a:r>
            <a:r>
              <a:rPr b="1" lang="zh-CN" sz="4400" spc="-1" strike="noStrike">
                <a:solidFill>
                  <a:srgbClr val="6600cc"/>
                </a:solidFill>
                <a:latin typeface="-청춘M"/>
                <a:ea typeface="-청춘M"/>
              </a:rPr>
              <a:t>말씀열기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74600" y="914400"/>
            <a:ext cx="8893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0720" indent="-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A. </a:t>
            </a:r>
            <a:r>
              <a:rPr b="1" lang="zh-CN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교회 안에서 활동하시는 성령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4038480"/>
            <a:ext cx="8785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zh-CN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사도행전</a:t>
            </a:r>
            <a:r>
              <a:rPr b="0" lang="en-US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1:8&gt; </a:t>
            </a:r>
            <a:r>
              <a:rPr b="0" lang="zh-CN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오직 성령이 너희에게 임하시면 너희가 권능을 받고 예루살렘과 온 유대와 사마리아와 땅 끝까지 이르러 내 증인이 되리라 하시니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-22320" y="1600200"/>
            <a:ext cx="8785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1. </a:t>
            </a:r>
            <a:r>
              <a:rPr b="0" lang="zh-CN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성령은 교회 신조의 수호자이십니다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743200"/>
            <a:ext cx="90136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2. </a:t>
            </a:r>
            <a:r>
              <a:rPr b="0" lang="zh-CN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성령은 교회로 하여금 선교하게 하시는 분이십니다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-152280" y="1600200"/>
            <a:ext cx="91440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4. </a:t>
            </a:r>
            <a:r>
              <a:rPr b="0" lang="zh-CN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성령으로부터 교회의 교제와 통일이 이루어집니다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-304920" y="762120"/>
            <a:ext cx="91440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zh-CN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요한복음</a:t>
            </a:r>
            <a:r>
              <a:rPr b="0" lang="en-US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4:24&gt;</a:t>
            </a:r>
            <a:r>
              <a:rPr b="0" lang="zh-CN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하나님은 영이시니 예배하는 자가 영과 진리로 예배할지니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-76320" y="-152280"/>
            <a:ext cx="9109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  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3. </a:t>
            </a:r>
            <a:r>
              <a:rPr b="0" lang="zh-CN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성령 안에서만 하나님께 참으로 예배할 수 있습니다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0" y="2286000"/>
            <a:ext cx="9144000" cy="34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 </a:t>
            </a:r>
            <a:r>
              <a:rPr b="0" lang="ko-KR" sz="22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ko-KR" sz="2200" spc="-1" strike="noStrike">
                <a:solidFill>
                  <a:srgbClr val="000000"/>
                </a:solidFill>
                <a:latin typeface="HY견고딕"/>
                <a:ea typeface="HY견고딕"/>
              </a:rPr>
              <a:t>마태복음</a:t>
            </a:r>
            <a:r>
              <a:rPr b="0" lang="ko-KR" sz="2200" spc="-1" strike="noStrike">
                <a:solidFill>
                  <a:srgbClr val="000000"/>
                </a:solidFill>
                <a:latin typeface="HY견고딕"/>
                <a:ea typeface="HY견고딕"/>
              </a:rPr>
              <a:t>16:13-20&gt; (13)</a:t>
            </a:r>
            <a:r>
              <a:rPr b="0" lang="ko-KR" sz="2200" spc="-1" strike="noStrike">
                <a:solidFill>
                  <a:srgbClr val="000000"/>
                </a:solidFill>
                <a:latin typeface="HY견고딕"/>
                <a:ea typeface="HY견고딕"/>
              </a:rPr>
              <a:t>예수께서 빌립보 가이사랴 지방에 이르러 제자들에게 물어 이르시되 사람들이 인자를 누구라 하느냐  </a:t>
            </a:r>
            <a:r>
              <a:rPr b="0" lang="ko-KR" sz="2200" spc="-1" strike="noStrike">
                <a:solidFill>
                  <a:srgbClr val="000000"/>
                </a:solidFill>
                <a:latin typeface="HY견고딕"/>
                <a:ea typeface="HY견고딕"/>
              </a:rPr>
              <a:t>(14)</a:t>
            </a:r>
            <a:r>
              <a:rPr b="0" lang="ko-KR" sz="2200" spc="-1" strike="noStrike">
                <a:solidFill>
                  <a:srgbClr val="000000"/>
                </a:solidFill>
                <a:latin typeface="HY견고딕"/>
                <a:ea typeface="HY견고딕"/>
              </a:rPr>
              <a:t>이르되 더러는 세례 요한</a:t>
            </a:r>
            <a:r>
              <a:rPr b="0" lang="ko-KR" sz="22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HY견고딕"/>
                <a:ea typeface="HY견고딕"/>
              </a:rPr>
              <a:t>더러는 엘리야</a:t>
            </a:r>
            <a:r>
              <a:rPr b="0" lang="ko-KR" sz="22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HY견고딕"/>
                <a:ea typeface="HY견고딕"/>
              </a:rPr>
              <a:t>어떤 이는 예레미야나 선지자 중의 하나라 하나이다 </a:t>
            </a:r>
            <a:r>
              <a:rPr b="0" lang="ko-KR" sz="2200" spc="-1" strike="noStrike">
                <a:solidFill>
                  <a:srgbClr val="000000"/>
                </a:solidFill>
                <a:latin typeface="HY견고딕"/>
                <a:ea typeface="HY견고딕"/>
              </a:rPr>
              <a:t>(15)</a:t>
            </a:r>
            <a:r>
              <a:rPr b="0" lang="ko-KR" sz="2200" spc="-1" strike="noStrike">
                <a:solidFill>
                  <a:srgbClr val="000000"/>
                </a:solidFill>
                <a:latin typeface="HY견고딕"/>
                <a:ea typeface="HY견고딕"/>
              </a:rPr>
              <a:t>이르시되 너희는 나를 누구라 하느냐  </a:t>
            </a:r>
            <a:r>
              <a:rPr b="0" lang="ko-KR" sz="2200" spc="-1" strike="noStrike">
                <a:solidFill>
                  <a:srgbClr val="000000"/>
                </a:solidFill>
                <a:latin typeface="HY견고딕"/>
                <a:ea typeface="HY견고딕"/>
              </a:rPr>
              <a:t>(16)</a:t>
            </a:r>
            <a:r>
              <a:rPr b="0" lang="ko-KR" sz="22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몬 베드로가 대답하여 이르되 주는 그리스도시요 살아 계신 하나님의 아들이시니이다  </a:t>
            </a:r>
            <a:r>
              <a:rPr b="0" lang="ko-KR" sz="2200" spc="-1" strike="noStrike">
                <a:solidFill>
                  <a:srgbClr val="000000"/>
                </a:solidFill>
                <a:latin typeface="HY견고딕"/>
                <a:ea typeface="HY견고딕"/>
              </a:rPr>
              <a:t>(17)</a:t>
            </a:r>
            <a:r>
              <a:rPr b="0" lang="ko-KR" sz="2200" spc="-1" strike="noStrike">
                <a:solidFill>
                  <a:srgbClr val="000000"/>
                </a:solidFill>
                <a:latin typeface="HY견고딕"/>
                <a:ea typeface="HY견고딕"/>
              </a:rPr>
              <a:t>예수께서 대답하여 이르시되 바요나 시몬아 네가 복이 있도다 이를 네게 알게 한 이는 혈육이 아니요 하늘에 계신 내 아버지시니라  </a:t>
            </a:r>
            <a:r>
              <a:rPr b="0" lang="ko-KR" sz="2200" spc="-1" strike="noStrike">
                <a:solidFill>
                  <a:srgbClr val="000000"/>
                </a:solidFill>
                <a:latin typeface="HY견고딕"/>
                <a:ea typeface="HY견고딕"/>
              </a:rPr>
              <a:t>(18)</a:t>
            </a:r>
            <a:r>
              <a:rPr b="0" lang="ko-KR" sz="2200" spc="-1" strike="noStrike">
                <a:solidFill>
                  <a:srgbClr val="000000"/>
                </a:solidFill>
                <a:latin typeface="HY견고딕"/>
                <a:ea typeface="HY견고딕"/>
              </a:rPr>
              <a:t>또 내가 네게 이르노니 너는 베드로라 내가 이 반석 위에 내 교회를 세우리니 음부의 권세가 이기지 못하리라  </a:t>
            </a:r>
            <a:r>
              <a:rPr b="0" lang="ko-KR" sz="2200" spc="-1" strike="noStrike">
                <a:solidFill>
                  <a:srgbClr val="000000"/>
                </a:solidFill>
                <a:latin typeface="HY견고딕"/>
                <a:ea typeface="HY견고딕"/>
              </a:rPr>
              <a:t>(19)</a:t>
            </a:r>
            <a:r>
              <a:rPr b="0" lang="ko-KR" sz="2200" spc="-1" strike="noStrike">
                <a:solidFill>
                  <a:srgbClr val="000000"/>
                </a:solidFill>
                <a:latin typeface="HY견고딕"/>
                <a:ea typeface="HY견고딕"/>
              </a:rPr>
              <a:t>내가 천국 열쇠를 네게 주리니 네가 땅에서 무엇이든지 매면 하늘에서도 매일 것이요 네가 땅에서 무엇이든지 풀면 하늘에서도 풀리리라 하시고  </a:t>
            </a:r>
            <a:r>
              <a:rPr b="0" lang="ko-KR" sz="2200" spc="-1" strike="noStrike">
                <a:solidFill>
                  <a:srgbClr val="000000"/>
                </a:solidFill>
                <a:latin typeface="HY견고딕"/>
                <a:ea typeface="HY견고딕"/>
              </a:rPr>
              <a:t>(20)</a:t>
            </a:r>
            <a:r>
              <a:rPr b="0" lang="ko-KR" sz="22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에 제자들에게 경고하사 자기가 그리스도인 것을 아무에게도 이르지 말라 하시니라 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HY견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-76320" y="2666880"/>
            <a:ext cx="914400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고린도전서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12:7&gt; 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사람에게 성령을 나타내심은 유익하게 하려 하심이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84120" indent="-3841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고린도전서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12:11&gt;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 모든 일은 같은 한 성령이 행하사 그의 뜻대로 각 사람에게 나누어 주시는 것이니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1066680"/>
            <a:ext cx="8686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  </a:t>
            </a:r>
            <a:r>
              <a:rPr b="0" lang="ko-KR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5. </a:t>
            </a:r>
            <a:r>
              <a:rPr b="0" lang="ko-KR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성령으로부터 교회 안에 여러가지 은사가 주어집니다</a:t>
            </a:r>
            <a:r>
              <a:rPr b="0" lang="ko-KR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52280" y="192240"/>
            <a:ext cx="849636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31720" indent="-5317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B. </a:t>
            </a:r>
            <a:r>
              <a:rPr b="1" lang="zh-CN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사람들을 거듭나게 하시는 성령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4876920"/>
            <a:ext cx="87138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 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에베소서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2:8&gt; 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너희는 그 은혜에 의하여 믿음으로 말미암아 구원을 받았으니 이것은 너희에게서 난 것이 아니요 하나님의 선물이라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103480"/>
            <a:ext cx="87850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1. </a:t>
            </a:r>
            <a:r>
              <a:rPr b="0" lang="zh-CN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회개하게 하십니다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4143240"/>
            <a:ext cx="8785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2. </a:t>
            </a:r>
            <a:r>
              <a:rPr b="0" lang="zh-CN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믿음을 갖게 하십니다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2819520"/>
            <a:ext cx="87138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요한복음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16:8&gt;  </a:t>
            </a:r>
            <a:r>
              <a:rPr b="0" lang="zh-CN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그가 와서 죄에 대하여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의에 대하여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심판에 대하여 세상을 책망하시리라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87012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요한복음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3:5&gt; 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예수께서 대답하시되 진실로 진실로 네게 이르노니 사람이 물과 성령으로 나지 아니하면 하나님의 나라에 들어갈 수 없느니라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8600" y="152280"/>
            <a:ext cx="8496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39640" indent="-5396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C. </a:t>
            </a:r>
            <a:r>
              <a:rPr b="1" lang="zh-CN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성도들이 영적생활을 하도록 일하십니다</a:t>
            </a:r>
            <a:r>
              <a:rPr b="1" lang="en-US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1066680"/>
            <a:ext cx="84963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90520" indent="-290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갈라디아서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5:22-23&gt; (22)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오직 성령의 열매는 사랑과 희락과 화평과 오래 참음과 자비와 양선과 충성과 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(23)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온유와 절제니 이같은 것을 금지할 법이 없느니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363760" y="2608200"/>
            <a:ext cx="4340160" cy="4016520"/>
            <a:chOff x="2363760" y="2608200"/>
            <a:chExt cx="4340160" cy="4016520"/>
          </a:xfrm>
        </p:grpSpPr>
        <p:sp>
          <p:nvSpPr>
            <p:cNvPr id="75" name=""/>
            <p:cNvSpPr/>
            <p:nvPr/>
          </p:nvSpPr>
          <p:spPr>
            <a:xfrm>
              <a:off x="2363760" y="2608200"/>
              <a:ext cx="4340160" cy="4016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000000"/>
                  </a:solidFill>
                  <a:latin typeface="Arial"/>
                </a:rPr>
                <a:t>성</a:t>
              </a:r>
              <a:endParaRPr b="0" lang="en-US" sz="2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000000"/>
                  </a:solidFill>
                  <a:latin typeface="Arial"/>
                </a:rPr>
                <a:t>령</a:t>
              </a:r>
              <a:endParaRPr b="0" lang="en-US" sz="2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363760" y="3276720"/>
              <a:ext cx="2664000" cy="26668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의 인</a:t>
              </a:r>
              <a:endParaRPr b="0" lang="en-US" sz="2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038480" y="3276720"/>
              <a:ext cx="2664000" cy="26668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성 화</a:t>
              </a:r>
              <a:endParaRPr b="0" lang="en-US" sz="2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08000" y="1143000"/>
            <a:ext cx="8807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* </a:t>
            </a:r>
            <a:r>
              <a:rPr b="0" lang="zh-CN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부활절 없는 오순절은 신비주의에 빠집니다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   </a:t>
            </a:r>
            <a:r>
              <a:rPr b="0" lang="zh-CN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그런가 하면 오순절 없는 부활절은 객관성에 치우치게 되어 결국은 우리와 관계가 없는 것이 되고 맙니다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. </a:t>
            </a:r>
            <a:r>
              <a:rPr b="0" lang="zh-CN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부활사건이 신앙사건으로 변하기까지에는 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HY헤드라인M"/>
                <a:ea typeface="HY헤드라인M"/>
              </a:rPr>
              <a:t>오순절</a:t>
            </a:r>
            <a:r>
              <a:rPr b="0" lang="zh-CN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의 역사가 있는 것입니다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-152280" y="51055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53920" indent="-8539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    </a:t>
            </a:r>
            <a:r>
              <a:rPr b="0" lang="ko-KR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* </a:t>
            </a:r>
            <a:r>
              <a:rPr b="0" lang="ko-KR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성령은 ‘감각의 대상’이 아니고 ‘신앙의 대상’입니다</a:t>
            </a:r>
            <a:r>
              <a:rPr b="0" lang="ko-KR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1T02:02:15Z</dcterms:created>
  <dc:creator>kjh</dc:creator>
  <dc:description/>
  <dc:language>en-US</dc:language>
  <cp:lastModifiedBy>Korea</cp:lastModifiedBy>
  <dcterms:modified xsi:type="dcterms:W3CDTF">2006-04-29T01:57:23Z</dcterms:modified>
  <cp:revision>207</cp:revision>
  <dc:subject/>
  <dc:title>PowerPoint 프레젠테이션</dc:title>
</cp:coreProperties>
</file>