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4F6-B13F-45F7-9160-32DC74B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280-A97A-4778-89D5-92B5D05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2A4-B285-448B-B90F-1C8E4E73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4B7-C7E3-44C1-BE15-F11660B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698-DA28-4412-8467-7629B95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DD1-C41D-4095-B857-46371E1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7CF-2893-4525-9DAE-0A724B5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44C-C603-4B4D-89B0-8B912917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04A-E81A-4DA3-9D7F-0A575957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B48-6EFA-4686-A82F-B7223E5B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D38-23FE-4841-BBE2-8EDA930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B20-B2DA-4B37-A0A3-538E047C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74A-C61B-466A-9C71-13AB22FA9F6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48127;&#51020;&#51032;%20&#44600;%206&#44284;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5876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31-32&gt;  (31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내가 너희에게 이르노니 사람에 대한 모든 죄와 모독은 사하심을 얻되 성령을 모독하는 것은 사하심을 얻지 못하겠고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2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누구든지 말로 인자를 거역하면 사하심을 얻되 누구든지 말로 성령을 거역하면 이 세상과 오는 세상에서도 사하심을 얻지 못하리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2240"/>
            <a:ext cx="8496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인격적인 하나님이신 성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36572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30&g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의 성령을 근심하게 하지 말라 그 안에서 너희가 구원의 날까지 인치심을 받았느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84160"/>
            <a:ext cx="8785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거역해서는 안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3686040"/>
            <a:ext cx="87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슬프게 하지 말아야 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5430960"/>
            <a:ext cx="8785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소멸치 말아야 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095880"/>
            <a:ext cx="87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데살로니가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9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성령을 소멸하지 말며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434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74680" y="162720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당신에게 성령님은 어떤 분이십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인격적인 하나님으로 믿고 따르고 계십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아니면 내 소원을 이루어 주는 도구로 생각하고 계신 것은 아닙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2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성령에 대한 호칭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(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별명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들 중에 당신에게 의미가 있는 호칭이 있다면 무엇입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04920" y="914400"/>
            <a:ext cx="8496360" cy="5326200"/>
            <a:chOff x="304920" y="914400"/>
            <a:chExt cx="8496360" cy="5326200"/>
          </a:xfrm>
        </p:grpSpPr>
        <p:sp>
          <p:nvSpPr>
            <p:cNvPr id="110" name=""/>
            <p:cNvSpPr/>
            <p:nvPr/>
          </p:nvSpPr>
          <p:spPr>
            <a:xfrm>
              <a:off x="304920" y="914400"/>
              <a:ext cx="8496360" cy="53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91440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914400"/>
              <a:ext cx="8496360" cy="52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4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외 울 말 씀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4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“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6) 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내가 아버지께 구하겠으니 그가 또 다른 보혜사를 너희에게 주사 영원토록 너희와 함께 있게 하리니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7)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는 진리의 영이라 세상은 능히 그를 받지 못하나니 이는 그를 보지도 못하고 알지도 못함이라 그러나 너희는 그를 아나니 그는 너희와 함께 거하심이요 또 너희 속에 계시겠음이라 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4:16-17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에베소서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:3-14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3) 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찬송하리로다 하나님 곧 우리 주 예수 그리스도의 아버지께서 그리스도 안에서 하늘에 속한 모든 신령한 복을 우리에게 주시되  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4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곧 창세 전에 그리스도 안에서 우리를 택하사 우리로 사랑 안에서 그 앞에 거룩하고 흠이 없게 하시려고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5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그 기쁘신 뜻대로 우리를 예정하사 예수 그리스도로 말미암아 자기의 아들들이 되게 하셨으니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6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이는 그가 사랑하시는 자 안에서 우리에게 거저 주시는 바 그의 은혜의 영광을 찬송하게 하려는 것이라  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7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우리는 그리스도 안에서 그의 은혜의 풍성함을 따라 그의 피로 말미암아 속량 곧 죄 사함을 받았느니라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8) 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이는 그가 모든 지혜와 총명을 우리에게 넘치게 하사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9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그 뜻의 비밀을 우리에게 알리신 것이요 그의 기뻐하심을 따라 그리스도 안에서 때가 찬 경륜을 위하여 예정하신 것이니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10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하늘에 있는 것이나 땅에 있는 것이 다 그리스도 안에서 통일되게 하려 하심이라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11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모든 일을 그의 뜻의 결정대로 일하시는 이의 계획을 따라 우리가 예정을 입어 그 안에서 기업이 되었으니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12) 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이는 우리가 그리스도 안에서 전부터 바라던 그의 영광의 찬송이 되게 하려 하심이라 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13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그 안에서 너희도 진리의 말씀 곧 너희의 구원의 복음을 듣고 그 안에서 또한 믿어 약속의 성령으로 인치심을 받았으니 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(14)</a:t>
            </a:r>
            <a:r>
              <a:rPr b="0" lang="en-US" sz="2200" spc="-1" strike="noStrike">
                <a:solidFill>
                  <a:srgbClr val="444444"/>
                </a:solidFill>
                <a:latin typeface="HY견고딕"/>
                <a:ea typeface="HY견고딕"/>
              </a:rPr>
              <a:t>이는 우리 기업의 보증이 되사 그 얻으신 것을 속량하시고 그의 영광을 찬송하게 하려 하심이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>
            <a:hlinkClick r:id="rId2"/>
          </p:cNvPr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마태복음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3:16&gt;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예수께서 세례를 받으시고 곧 물에서 올라오실새 하늘이 열리고 하나님의 성령이 비둘기 같이 내려 자기 위에 임하심을 보시더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505320"/>
            <a:ext cx="8305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사도행전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2:3&gt;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마치 불의 혀처럼 갈라지는 것들이 그들에게 보여 각 사람 위에 하나씩 임하여 있더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마태복음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25:4&gt;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슬기 있는 자들은 그릇에 기름을 담아 등과 함께 가져갔더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819520"/>
            <a:ext cx="8305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누가복음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4:18&gt;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주의 성령이 내게 임하셨으니 이는 가난한 자에게 복음을 전하게 하시려고 내게 기름을 부으시고 나를 보내사 포로 된 자에게 자유를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눈 먼 자에게 다시 보게 함을 전파하며 눌린 자를 자유롭게 하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요한복음</a:t>
            </a:r>
            <a:r>
              <a:rPr b="0" lang="ko-KR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7:38-39&gt;  (38)</a:t>
            </a:r>
            <a:r>
              <a:rPr b="0" lang="ko-KR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나를 믿는 자는 성경에 이름과 같이 그 배에서 생수의 강이 흘러나오리라 하시니  </a:t>
            </a:r>
            <a:r>
              <a:rPr b="0" lang="ko-KR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(39)</a:t>
            </a:r>
            <a:r>
              <a:rPr b="0" lang="ko-KR" sz="3200" spc="-1" strike="noStrike">
                <a:solidFill>
                  <a:srgbClr val="444444"/>
                </a:solidFill>
                <a:latin typeface="HY견고딕"/>
                <a:ea typeface="HY견고딕"/>
              </a:rPr>
              <a:t>이는 그를 믿는 자들이 받을 성령을 가리켜 말씀하신 것이라 예수께서 아직 영광을 받지 않으셨으므로 성령이 아직 그들에게 계시지 아니하시더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사도행전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2:2&gt;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홀연히 하늘로부터 급하고 강한 바람 같은 소리가 있어 그들이 앉은 온 집에 가득하며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276720"/>
            <a:ext cx="8305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사도행전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2:12-13&gt; (12)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다 놀라며 당황하여 서로 이르되 이 어찌 된 일이냐 하며 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(13)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또 어떤 이들은 조롱하여 이르되 그들이 새 술에 취하였다 하더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호세아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6:3&g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그러므로 우리가 여호와를 알자 힘써 여호와를 알자 그의 나타나심은 새벽 빛 같이 어김없나니 비와 같이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,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땅을 적시는 늦은 비와 같이 우리에게 임하시리라 하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438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욥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34:14&gt;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그가 만일 뜻을 정하시고 그의 영과 목숨을 거두실진대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1911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   </a:t>
            </a:r>
            <a:r>
              <a:rPr b="0" lang="en-US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에베소서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1:13&gt; </a:t>
            </a:r>
            <a:r>
              <a:rPr b="0" lang="ko-KR" sz="2800" spc="-1" strike="noStrike">
                <a:solidFill>
                  <a:srgbClr val="444444"/>
                </a:solidFill>
                <a:latin typeface="HY견고딕"/>
                <a:ea typeface="HY견고딕"/>
              </a:rPr>
              <a:t>그 안에서 너희도 진리의 말씀 곧 너희의 구원의 복음을 듣고 그 안에서 또한 믿어 약속의 성령으로 인치심을 받았으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223040" y="637524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-소망B"/>
              </a:rPr>
              <a:t>행복한교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성령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3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신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3048120"/>
            <a:ext cx="8496360" cy="3652200"/>
            <a:chOff x="304920" y="3048120"/>
            <a:chExt cx="8496360" cy="3652200"/>
          </a:xfrm>
        </p:grpSpPr>
        <p:sp>
          <p:nvSpPr>
            <p:cNvPr id="47" name=""/>
            <p:cNvSpPr/>
            <p:nvPr/>
          </p:nvSpPr>
          <p:spPr>
            <a:xfrm>
              <a:off x="304920" y="3048120"/>
              <a:ext cx="8496360" cy="36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304812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048120"/>
              <a:ext cx="8496360" cy="36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“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6) 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내가 아버지께 구하겠으니 그가 또 다른 보혜사를 너희에게 주사 영원토록 너희와 함께 있게 하리니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(17)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그는 진리의 영이라 세상은 능히 그를 받지 못하나니 이는 그를 보지도 못하고 알지도 못함이라 그러나 너희는 그를 아나니 그는 너희와 함께 거하심이요 또 너희 속에 계시겠음이라 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요한복음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4:16-17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4920" y="205740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삼위일체와 성령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927000"/>
            <a:ext cx="8218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이 그 여인과 함께 버스에 탔다면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,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은 그 여인을 보면서 어떤 생각이 들었겠습니까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30320" y="2743200"/>
            <a:ext cx="8785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76280" indent="-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무식하게 보이던 여인에게 위험한 상황을 피할 수 있도록 성령께서 알려주셨다면 왜 목사님에게는 알려주지 않으셨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800600"/>
            <a:ext cx="8218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.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우리는 실제적으로 얼마나 하나님의 영의 임재를 경험하고 살아가고 있습니까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609480"/>
            <a:ext cx="889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삼위일체 하나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981080"/>
            <a:ext cx="878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3:13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주 예수 그리스도의 은혜와 하나님의 사랑과 성령의 교통하심이 너희 무리와 함께 있을지어다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990720"/>
            <a:ext cx="878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삼위일체란 무엇일까요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276720"/>
            <a:ext cx="8785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&gt;&gt;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독교의 신관은 창조주 하나님과 구세주로서의 예수님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리고 역사 속에서 인간들에게 구원을 이루게 하시는 하나님의 영이신 성령이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분 하나님이심을 믿는 것입니다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세분이 한 하나님 안에 계시며 한 하나님은 세분으로 일하신다는 것을 우리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삼위일체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하나님이라고 합니다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하나님의 본성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즉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본질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은 하나이지만 세개의 다른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HY견고딕"/>
                <a:ea typeface="HY견고딕"/>
              </a:rPr>
              <a:t>인격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가지고 계신 것을 말합니다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156200"/>
            <a:ext cx="91440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성경은 삼위의 각 인격들에 대해 각각 이해하려는 것보다는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 인격들을 찬송할 것을 촉구하고 있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에베소서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:3-14&gt;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206280" y="2286000"/>
            <a:ext cx="8785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8:19&gt;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너희는 가서 모든 민족을 제자로 삼아 아버지와 아들과 성령의 이름으로 세례를 베풀고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404640"/>
            <a:ext cx="87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렇다면 삼위일체를 어떻게 설명할 수 있을까요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563840"/>
            <a:ext cx="878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HY견고딕"/>
                <a:ea typeface="HY견고딕"/>
              </a:rPr>
              <a:t>- </a:t>
            </a:r>
            <a:r>
              <a:rPr b="0" lang="zh-CN" sz="2400" spc="-1" strike="noStrike">
                <a:solidFill>
                  <a:srgbClr val="ff0000"/>
                </a:solidFill>
                <a:latin typeface="HY견고딕"/>
                <a:ea typeface="HY견고딕"/>
              </a:rPr>
              <a:t>그 작용은 다르나 그 근원은 하나이다</a:t>
            </a:r>
            <a:r>
              <a:rPr b="0" lang="en-US" sz="2400" spc="-1" strike="noStrike">
                <a:solidFill>
                  <a:srgbClr val="ff0000"/>
                </a:solidFill>
                <a:latin typeface="HY견고딕"/>
                <a:ea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876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2:31-32&gt;  (31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므로 내가 너희에게 이르노니 사람에 대한 모든 죄와 모독은 사하심을 얻되 성령을 모독하는 것은 사하심을 얻지 못하겠고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(32)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또 누구든지 말로 인자를 거역하면 사하심을 얻되 누구든지 말로 성령을 거역하면 이 세상과 오는 세상에서도 사하심을 얻지 못하리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92240"/>
            <a:ext cx="8496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인격적인 하나님이신 성령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36572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에베소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4:30&g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하나님의 성령을 근심하게 하지 말라 그 안에서 너희가 구원의 날까지 인치심을 받았느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84160"/>
            <a:ext cx="8785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거역해서는 안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686040"/>
            <a:ext cx="87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슬프게 하지 말아야 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4920" y="5430960"/>
            <a:ext cx="8785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스도인은 성령을 소멸치 말아야 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095880"/>
            <a:ext cx="87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데살로니가전서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9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성령을 소멸하지 말며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2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성령의 오심과 명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257800"/>
            <a:ext cx="8496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요한복음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14:16&gt;</a:t>
            </a:r>
            <a:r>
              <a:rPr b="0" lang="ko-KR" sz="2800" spc="-1" strike="noStrike">
                <a:solidFill>
                  <a:srgbClr val="000099"/>
                </a:solidFill>
                <a:latin typeface="HY견고딕"/>
                <a:ea typeface="HY견고딕"/>
              </a:rPr>
              <a:t>내가 아버지께 구하겠으니 그가 또 다른 보혜사를 너희에게 주사 영원토록 너희와 함께 있게 하리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57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&gt;&gt;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령을 가리키는 낱말로는 다음과 같은 것들이 있습니다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루아흐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원래는 ‘바람’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호흡’이란 뜻으로 사용되다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가 다시 ‘영’이란 뜻으로 사용</a:t>
            </a:r>
            <a:br>
              <a:rPr sz="2800"/>
            </a:b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프뉴마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앞 것과 같은 뜻으로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람’이라고 번역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영   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경에서 이 말이 사용될 때에는 언제나 권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능과 힘이라는 의미와 함께 사용</a:t>
            </a:r>
            <a:br>
              <a:rPr sz="2800"/>
            </a:br>
            <a:r>
              <a:rPr b="0" lang="ko-KR" sz="2800" spc="-1" strike="noStrike">
                <a:solidFill>
                  <a:srgbClr val="ff0000"/>
                </a:solidFill>
                <a:latin typeface="HY견고딕"/>
                <a:ea typeface="HY견고딕"/>
              </a:rPr>
              <a:t>성   신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: ‘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영’이라는 말과 함께 하나님을 가리키는 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말로 사용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결케 함                       비둘기                   마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:1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정하고 순함                    물같음                   행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르고 연단시킴            바람같음               마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5:4,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눅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4:1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을 줌                       불같음                   요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7:38-3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령을 적심                  기름같음                  행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윤활하게 함                    비같음                   행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2:12-1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근심제거와 담력              술같음                   호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6: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생명보존                      도장같음                  욥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34:1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약속과 보증                  기운같음                  엡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1:1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76212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9680" y="838080"/>
            <a:ext cx="16765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133720"/>
            <a:ext cx="1219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905120" y="2133360"/>
            <a:ext cx="18288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3429000"/>
            <a:ext cx="1752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09680" y="3428640"/>
            <a:ext cx="1524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47242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410080"/>
            <a:ext cx="18288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09680" y="5409720"/>
            <a:ext cx="1447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8380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1523880"/>
            <a:ext cx="167616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2133720"/>
            <a:ext cx="16002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029200" y="1523520"/>
            <a:ext cx="167652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480" y="2209680"/>
            <a:ext cx="13716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4114800"/>
            <a:ext cx="16761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05520" y="4114440"/>
            <a:ext cx="1600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5410080"/>
            <a:ext cx="1524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181480" y="5409720"/>
            <a:ext cx="1524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838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7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나 내가 너희에게 실상을 말하노니 내가 떠나가는 것이 너희에게 유익이라 내가 떠나가지 아니하면 보혜사가 너희에게로 오시지 아니할 것이요 가면 내가 그를 너희에게로 보내리니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20"/>
            <a:ext cx="878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복음적인 기능을 감당하시기 위해서 오셨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30320" y="2362320"/>
            <a:ext cx="878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예수 그리스도를 증거하시기 위해서 오셨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82600" y="3124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5:26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아버지께로부터 너희에게 보낼 보혜사 곧 아버지께로부터 나오시는 진리의 성령이 오실 때에 그가 나를 증언하실 것이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3920" indent="-8539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예수 그리스도를 영화롭게 하기시 위해서 오셨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56545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14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그가 내 영광을 나타내리니 내 것을 가지고 너희에게 알리시겠음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4-05T06:12:30Z</dcterms:modified>
  <cp:revision>201</cp:revision>
  <dc:subject/>
  <dc:title>PowerPoint 프레젠테이션</dc:title>
</cp:coreProperties>
</file>