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496-9986-45D2-93E2-343B293A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DE2-96E4-40F4-A749-A433F898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67D-9FA4-449C-9C78-FD4EF2E5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9B7-9146-4B5D-BC12-2936399B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159-7BDE-410B-ADC0-F3AFA2FA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F3C-FA91-4E3F-B74B-6CBFF91F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6D2-3F8F-4E68-B749-8F32F606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C10-102C-4C09-B007-0A1A980D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052-063F-4792-A7E3-AD8E3F90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10D-9BA7-40EA-8289-B3666110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CA7-16E5-4C6A-8BC6-6C7F5E0D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418-BDDF-451C-A035-1C51F8C8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9A26-FD45-4697-8217-CA00441EC7B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43" name=""/>
          <p:cNvSpPr/>
          <p:nvPr/>
        </p:nvSpPr>
        <p:spPr>
          <a:xfrm>
            <a:off x="2693160" y="102708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휴먼옛체"/>
                <a:ea typeface="휴먼옛체"/>
              </a:rPr>
              <a:t>삶의 가치를 향상 시켜주는 구원에 이르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29364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lt; </a:t>
            </a:r>
            <a:r>
              <a:rPr b="1" lang="zh-CN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확  신  편 </a:t>
            </a: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96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생각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34136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Q1. 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예수님께서 어서 속히 오셨으면 좋겠습니까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그 이유는 무엇입니까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Q2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나는 언제쯤 주님을 맞이하게 될 것 같습니까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396720" y="907920"/>
            <a:ext cx="8496360" cy="5175360"/>
            <a:chOff x="396720" y="907920"/>
            <a:chExt cx="8496360" cy="5175360"/>
          </a:xfrm>
        </p:grpSpPr>
        <p:sp>
          <p:nvSpPr>
            <p:cNvPr id="80" name=""/>
            <p:cNvSpPr/>
            <p:nvPr/>
          </p:nvSpPr>
          <p:spPr>
            <a:xfrm>
              <a:off x="396720" y="907920"/>
              <a:ext cx="8496360" cy="51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720" y="907920"/>
              <a:ext cx="849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720" y="907920"/>
              <a:ext cx="8496360" cy="51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성 경 말 씀 –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3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“</a:t>
              </a:r>
              <a:r>
                <a:rPr b="0" lang="zh-CN" sz="36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우리가 아직 죄인 되었을 때에 그리스도께서 우리를 위하여 죽으심으로 하나님께서 우리에 대한 자기의 사랑을 확증하셨느니라 ” 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                      </a:t>
              </a:r>
              <a:r>
                <a:rPr b="0" lang="en-US" sz="36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&lt;</a:t>
              </a:r>
              <a:r>
                <a:rPr b="0" lang="zh-CN" sz="36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로마서 </a:t>
              </a:r>
              <a:r>
                <a:rPr b="0" lang="en-US" sz="36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5:8&gt;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6560" y="154080"/>
            <a:ext cx="83534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1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부 믿음의 대상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권 예수그리스도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(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위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, 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성자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4000" y="3645000"/>
            <a:ext cx="8496000" cy="2875320"/>
            <a:chOff x="324000" y="3645000"/>
            <a:chExt cx="8496000" cy="2875320"/>
          </a:xfrm>
        </p:grpSpPr>
        <p:sp>
          <p:nvSpPr>
            <p:cNvPr id="47" name=""/>
            <p:cNvSpPr/>
            <p:nvPr/>
          </p:nvSpPr>
          <p:spPr>
            <a:xfrm>
              <a:off x="324000" y="3645000"/>
              <a:ext cx="8496000" cy="28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000" y="364500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3645000"/>
              <a:ext cx="849600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성 경 말 씀 –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  “</a:t>
              </a:r>
              <a:r>
                <a:rPr b="0" lang="zh-CN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우리가 아직 죄인 되었을 때에 그리스도께서 우리를 위하여 죽으심으로 하나님께서 우리에 대한 자기의 사랑을 확증하셨느니라 ” 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                                  </a:t>
              </a:r>
              <a:r>
                <a:rPr b="0" lang="en-US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&lt;</a:t>
              </a:r>
              <a:r>
                <a:rPr b="0" lang="zh-CN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로마서 </a:t>
              </a:r>
              <a:r>
                <a:rPr b="0" lang="en-US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5:8&gt;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692360" y="333360"/>
            <a:ext cx="863640" cy="7192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4920" y="2349360"/>
            <a:ext cx="6192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2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예수께서 하시는 일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000" spc="-1" strike="noStrike">
                <a:solidFill>
                  <a:srgbClr val="6600cc"/>
                </a:solidFill>
                <a:latin typeface="-청춘M"/>
                <a:ea typeface="-청춘M"/>
              </a:rPr>
              <a:t>마음열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062080"/>
            <a:ext cx="7850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3333cc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예수님은 어떤 일을 하셨다고  알고 계십니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3645000"/>
            <a:ext cx="8785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2.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주님이 다시 오실 때 우리는 어떻게 영접해야 하겠습니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49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말씀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982800"/>
            <a:ext cx="8893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A.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죄인된 우리를 구원하시기 위해 죽으셨습니다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040280"/>
            <a:ext cx="8785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5:17&gt;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내가 율법이나 선지자를 폐하러 온 줄로 생각하지 말라 폐하러 온 것이 아니요 완전하게 하려 함이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2349360"/>
            <a:ext cx="87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구약의 율법을 완성하심으로 하나님의 뜻을 알려주셨습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5300640"/>
            <a:ext cx="8785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마태복음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6:16&g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시몬 베드로가 대답하여 이르되 주는 그리스도시요 살아 계신 하나님의 아들이시니이다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08640"/>
            <a:ext cx="8785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3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예수는 우리의 주님으로 계십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700280"/>
            <a:ext cx="8785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5:8&g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우리가 아직 죄인 되었을 때에 그리스도께서 우리를 위하여 죽으심으로 하나님께서 우리에 대한 자기의 사랑을 확증하셨느니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베드로전서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:24&gt;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친히 나무에 달려 그 몸으로 우리 죄를 담당하셨으니 이는 우리로 죄에 대하여 죽고 의에 대하여 살게 하려 하심이라 그가 채찍에 맞음으로 너희는 나음을 얻었나니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4920" y="404640"/>
            <a:ext cx="87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2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런데 율법의 최종완성은 곧 십자가의 죽으심입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909720"/>
            <a:ext cx="849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9640" indent="-539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B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부활하심으로 영원한 생명의 보증을 주셨습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421000"/>
            <a:ext cx="8496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고린도전서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15:20&gt;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그러나 이제 그리스도께서 죽은 자 가운데서 다시 살아나사 잠자는 자들의 첫 열매가 되셨도다 </a:t>
            </a:r>
            <a:br>
              <a:rPr sz="2800"/>
            </a:b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  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6:8&gt; </a:t>
            </a:r>
            <a:r>
              <a:rPr b="0" lang="ko-KR" sz="2800" spc="-1" strike="noStrike">
                <a:solidFill>
                  <a:srgbClr val="3333cc"/>
                </a:solidFill>
                <a:latin typeface="HY견고딕"/>
                <a:ea typeface="HY견고딕"/>
              </a:rPr>
              <a:t>만일 우리가 그리스도와 함께 죽었으면 또한 그와 함께 살 줄을 믿노니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15920"/>
            <a:ext cx="8496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1720" indent="-531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C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승천하신 주님은 하나님 우편에서 우리를 위해 지금도 기도하십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3860640"/>
            <a:ext cx="8713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8:24&gt;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누가 정죄하리요 죽으실 뿐 아니라 다시 살아나신 이는 그리스도 예수시니 그는 하나님 우편에 계신 자요 우리를 위하여 간구하시는 자시니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341360"/>
            <a:ext cx="87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하나님의 우편에 계시다는 것은 그가 곧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&lt;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왕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&gt;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이라는 뜻입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2638440"/>
            <a:ext cx="878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2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승천하신 예수는 오늘도 우리의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&lt;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제사장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&gt;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이 되심을 말합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5084640"/>
            <a:ext cx="87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3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예수께서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&lt;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선지자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&gt;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로 계심을 의미합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15920"/>
            <a:ext cx="874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HY헤드라인M"/>
                <a:ea typeface="HY헤드라인M"/>
              </a:rPr>
              <a:t>D. </a:t>
            </a:r>
            <a:r>
              <a:rPr b="1" lang="zh-CN" sz="3200" spc="-1" strike="noStrike">
                <a:solidFill>
                  <a:srgbClr val="990099"/>
                </a:solidFill>
                <a:latin typeface="HY헤드라인M"/>
                <a:ea typeface="HY헤드라인M"/>
              </a:rPr>
              <a:t>그리스도는 장차 이 세상에 다시 오십니다</a:t>
            </a:r>
            <a:r>
              <a:rPr b="1" lang="en-US" sz="3200" spc="-1" strike="noStrike">
                <a:solidFill>
                  <a:srgbClr val="990099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60360" y="1944720"/>
            <a:ext cx="896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히브리서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9:28&gt;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와 같이 그리스도도 많은 사람의 죄를 담당하시려고 단번에 드리신 바 되셨고 구원에 이르게 하기 위하여 죄와 상관 없이 자기를 바라는 자들에게 두 번째 나타나시리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197000"/>
            <a:ext cx="835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구원하시려고 오십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005360"/>
            <a:ext cx="8353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2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세상을 심판하러 오십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797360"/>
            <a:ext cx="8640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로마서 </a:t>
            </a:r>
            <a:r>
              <a:rPr b="0" lang="en-US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:16&gt;  </a:t>
            </a:r>
            <a:r>
              <a:rPr b="0" lang="zh-CN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곧 나의 복음에 이른 바와 같이 하나님이 예수 그리스도로 말미암아 사람들의 은밀한 것을 심판하시는 그 날이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280" y="1844640"/>
            <a:ext cx="896472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계시록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11:15&gt;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일곱째 천사가 나팔을 불매 하늘에 큰 음성들이 나서 이르되 세상 나라가 우리 주와 그의 그리스도의 나라가 되어 그가 세세토록 왕 노릇 하시리로다 하니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   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&lt;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요한계시록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22:20&gt; </a:t>
            </a:r>
            <a:r>
              <a:rPr b="0" lang="ko-KR" sz="2400" spc="-1" strike="noStrike">
                <a:solidFill>
                  <a:srgbClr val="3333cc"/>
                </a:solidFill>
                <a:latin typeface="HY견고딕"/>
                <a:ea typeface="HY견고딕"/>
              </a:rPr>
              <a:t>이것들을 증언하신 이가 이르시되 내가 진실로 속히 오리라 하시거늘 아멘 주 예수여 오시옵소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620640"/>
            <a:ext cx="835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3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리고 이제 세상을 통치하실 것입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행복</cp:lastModifiedBy>
  <dcterms:modified xsi:type="dcterms:W3CDTF">2006-03-27T21:47:28Z</dcterms:modified>
  <cp:revision>187</cp:revision>
  <dc:subject/>
  <dc:title>PowerPoint 프레젠테이션</dc:title>
</cp:coreProperties>
</file>