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9D3-25F3-460C-9149-E0041A78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8BD-0F3E-4BDD-ABE5-2EE2C733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918-C047-4205-89DD-2B98305F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B15-424D-4E2F-B272-53CC9B40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035-80F8-46EC-812D-17FC1A86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3F5-A13B-4522-9037-996630BD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AC3-252A-47C6-AA55-877718DD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472-C523-4AFF-B229-197CFFA9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398-C778-473A-B428-EDDF3488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E0D-E462-4E68-BDAB-C560100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4D3-0284-4B0C-B6B6-DC9EDC94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6A7-50B5-4630-918D-A561DE3E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DB9F-0856-4C21-8E9B-B066CD4ECE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24000" y="1413000"/>
            <a:ext cx="8496000" cy="5103720"/>
            <a:chOff x="324000" y="1413000"/>
            <a:chExt cx="8496000" cy="5103720"/>
          </a:xfrm>
        </p:grpSpPr>
        <p:sp>
          <p:nvSpPr>
            <p:cNvPr id="70" name=""/>
            <p:cNvSpPr/>
            <p:nvPr/>
          </p:nvSpPr>
          <p:spPr>
            <a:xfrm>
              <a:off x="324000" y="1413000"/>
              <a:ext cx="849600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1413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000" y="1413000"/>
              <a:ext cx="8496000" cy="50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 –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“</a:t>
              </a:r>
              <a:r>
                <a:rPr b="0" lang="ko-KR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시몬 베드로가 대답하여 이르되 주는 그리스도시요 살아 계신 하나님의 아들이시니이다  ” 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</a:t>
              </a:r>
              <a:r>
                <a:rPr b="0" lang="ko-KR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ko-KR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마태복음</a:t>
              </a:r>
              <a:r>
                <a:rPr b="0" lang="ko-KR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16:16&gt;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24000" y="3645000"/>
            <a:ext cx="8496000" cy="2875320"/>
            <a:chOff x="324000" y="3645000"/>
            <a:chExt cx="8496000" cy="2875320"/>
          </a:xfrm>
        </p:grpSpPr>
        <p:sp>
          <p:nvSpPr>
            <p:cNvPr id="46" name=""/>
            <p:cNvSpPr/>
            <p:nvPr/>
          </p:nvSpPr>
          <p:spPr>
            <a:xfrm>
              <a:off x="324000" y="3645000"/>
              <a:ext cx="8496000" cy="28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4000" y="3645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3645000"/>
              <a:ext cx="849600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성 경 말 씀 –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buClr>
                  <a:srgbClr val="3333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“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시몬 베드로가 대답하여 이르되 주는 그리스도시요 살아 계신 하나님의 아들이시니이다  ”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                                  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&lt;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마태복음</a:t>
              </a:r>
              <a:r>
                <a:rPr b="0" lang="ko-KR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16:16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4920" y="2349360"/>
            <a:ext cx="619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1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예수 그리스도는 누구신가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  <p:sp>
        <p:nvSpPr>
          <p:cNvPr id="51" name=""/>
          <p:cNvSpPr/>
          <p:nvPr/>
        </p:nvSpPr>
        <p:spPr>
          <a:xfrm>
            <a:off x="466560" y="154080"/>
            <a:ext cx="8353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대상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예수그리스도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(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2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위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,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성자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062080"/>
            <a:ext cx="7850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예수님은 어떤 분이시라고 생각하십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645000"/>
            <a:ext cx="878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. ‘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주여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!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당신은 지금 내게 누구십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’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생명을 걸고 물어봅시다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838080"/>
            <a:ext cx="849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예수님은 사람이시면서 동시에 하나님이십  니다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요한일서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5:20&gt;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또 아는 것은 하나님의 아들이 이르러 우리에게 지각을 주사 우리로 참된 자를 알게 하신 것과 또한 우리가 참된 자 곧 그의 아들 예수 그리스도 안에 있는 것이니 그는 참 하나님이시요 영생이시라 </a:t>
            </a:r>
            <a:br>
              <a:rPr sz="2800"/>
            </a:br>
            <a:br>
              <a:rPr sz="2800"/>
            </a:b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요한복음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3:16&gt;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이 세상을 이처럼 사랑하사 독생자를 주셨으니 이는 그를 믿는 자마다 멸망하지 않고 영생을 얻게 하려 하심이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622440"/>
            <a:ext cx="7850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예수님은 하나님과 동일한 존재입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989000"/>
            <a:ext cx="849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요한복음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:1-3&gt;  (1) 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태초에 말씀이 계시니라 이 말씀이 하나님과 함께 계셨으니 이 말씀은 곧 하나님이시니라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2)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그가 태초에 하나님과 함께 계셨고 </a:t>
            </a:r>
            <a:br>
              <a:rPr sz="2800"/>
            </a:b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3)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만물이 그로 말미암아 지은 바 되었으니 지은 것이 하나도 그가 없이는 된 것이 없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5920"/>
            <a:ext cx="849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1720" indent="-531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예수님은 사람의 모습으로 이 땅에 오셨습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413000"/>
            <a:ext cx="853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디모데전서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:5&g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은 한 분이시요 또 하나님과 사람 사이에 중보자도 한 분이시니 곧 사람이신 그리스도 예수라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429000"/>
            <a:ext cx="8532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빌립보서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:6-8&gt;  (6)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그는 근본 하나님의 본체시나 하나님과 동등됨을 취할 것으로 여기지 아니하시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7) 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오히려 자기를 비워 종의 형체를 가지사 사람들과 같이 되셨고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8)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사람의 모양으로 나타나사 자기를 낮추시고 죽기까지 복종하셨으니 곧 십자가에 죽으심이라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5920"/>
            <a:ext cx="87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D. </a:t>
            </a:r>
            <a:r>
              <a:rPr b="1" lang="zh-CN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예수님은 친히 당신 자신을 인자라고 하셨습니다</a:t>
            </a:r>
            <a:r>
              <a:rPr b="1" lang="en-US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233360"/>
            <a:ext cx="87854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마태복음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4:30&gt;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그 때에 인자의 징조가 하늘에서 보이겠고 그 때에 땅의 모든 족속들이 통곡하며 그들이 인자가 구름을 타고 능력과 큰 영광으로 오는 것을 보리라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누가복음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:31, 35&gt;  (31)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보라 네가 잉태하여 아들을 낳으리니 그 이름을 예수라 하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35)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천사가 대답하여 이르되 성령이 네게 임하시고 지극히 높으신 이의 능력이 너를 덮으시리니 이러므로 나실 바 거룩한 이는 하나님의 아들이라 일컬어지리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15920"/>
            <a:ext cx="87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E. </a:t>
            </a:r>
            <a:r>
              <a:rPr b="1" lang="zh-CN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이제 우리의 선택만이 남아 있습니다</a:t>
            </a:r>
            <a:r>
              <a:rPr b="1" lang="en-US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38200"/>
            <a:ext cx="82087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중간적 태도는 있을 수 없습니다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지금 선택할 일입니다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선택하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사기꾼 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--------- (       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정신병자  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------- (       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3333cc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사실 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: </a:t>
            </a: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 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---- (       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341360"/>
            <a:ext cx="882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왕자가 시녀에게 사랑을 표현하는 방법에는 무엇이 있을까요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br>
              <a:rPr sz="3200"/>
            </a:b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Q2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천한 마부가 자기 주인집의 도령보다 이웃 대장간의 대장장이와 더 친한 까닭은 무엇입니까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br>
              <a:rPr sz="3200"/>
            </a:b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Q3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신병교육대에서 중대장이 훈련병이 되어 직접 체험해본 이야기나 학생되어 본 교수의 이야기를 이야기를 예로 들어 봅시다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김준호</cp:lastModifiedBy>
  <dcterms:modified xsi:type="dcterms:W3CDTF">2006-03-14T04:27:09Z</dcterms:modified>
  <cp:revision>184</cp:revision>
  <dc:subject/>
  <dc:title>PowerPoint 프레젠테이션</dc:title>
</cp:coreProperties>
</file>