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1B25-99F9-4341-8981-49B95D34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7EB-E1D4-4C4A-AFA6-E753AD0C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A9B-5D36-43DA-8BE7-9237DDE6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B804-D030-448C-86B0-C50B0B38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EDEC-A6B5-422B-A907-A6CB5379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4A85-6E59-40C5-A148-C051E66E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1D8B-3983-435D-813B-4178E98B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B496-15D5-4CB1-AB64-07D8D5EC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BA48-302F-4D3C-A3D9-DD4656B6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B1B4-A333-4D3A-9260-E788E616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A90F-8C3C-4B15-BF2C-FBE7CBB1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01EA-26F4-4307-A4D6-C842C4B2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D920-7115-49C4-BF66-3265911F190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48127;&#51020;&#51032;%20&#44600;%203&#44284;.ppt#15. &#50669;&#45824;&#49345;28:9" TargetMode="External"/><Relationship Id="rId3" Type="http://schemas.openxmlformats.org/officeDocument/2006/relationships/hyperlink" Target="file:///&#48127;&#51020;&#51032;%20&#44600;%203&#44284;.ppt#15. &#50669;&#45824;&#49345;28:9" TargetMode="External"/><Relationship Id="rId4" Type="http://schemas.openxmlformats.org/officeDocument/2006/relationships/hyperlink" Target="file:///&#48127;&#51020;&#51032;%20&#44600;%203&#44284;.ppt#16. &#47560;&#44032;&#48373;&#51020; 10:27" TargetMode="External"/><Relationship Id="rId5" Type="http://schemas.openxmlformats.org/officeDocument/2006/relationships/hyperlink" Target="file:///&#48127;&#51020;&#51032;%20&#44600;%203&#44284;.ppt#16. &#47560;&#44032;&#48373;&#51020; 10:27" TargetMode="External"/><Relationship Id="rId6" Type="http://schemas.openxmlformats.org/officeDocument/2006/relationships/hyperlink" Target="file:///&#48127;&#51020;&#51032;%20&#44600;%203&#44284;.ppt#17. &#44256;&#47536;&#46020;&#51204;&#49436; 8:6" TargetMode="External"/><Relationship Id="rId7" Type="http://schemas.openxmlformats.org/officeDocument/2006/relationships/hyperlink" Target="file:///&#48127;&#51020;&#51032;%20&#44600;%203&#44284;.ppt#17. &#44256;&#47536;&#46020;&#51204;&#49436; 8:6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-소망B"/>
              </a:rPr>
              <a:t>믿음의 길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-소망B"/>
              <a:ea typeface="-소망B"/>
            </a:endParaRPr>
          </a:p>
        </p:txBody>
      </p:sp>
      <p:sp>
        <p:nvSpPr>
          <p:cNvPr id="43" name=""/>
          <p:cNvSpPr/>
          <p:nvPr/>
        </p:nvSpPr>
        <p:spPr>
          <a:xfrm>
            <a:off x="2693160" y="102708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휴먼옛체"/>
                <a:ea typeface="휴먼옛체"/>
              </a:rPr>
              <a:t>삶의 가치를 향상 시켜주는 구원에 이르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29364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&lt; </a:t>
            </a:r>
            <a:r>
              <a:rPr b="1" lang="zh-CN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확  신  편 </a:t>
            </a:r>
            <a:r>
              <a:rPr b="1" lang="en-US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115920"/>
            <a:ext cx="8496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C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하나님은 영이시면서 인격을 가지셨습니다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836640"/>
            <a:ext cx="82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1. </a:t>
            </a:r>
            <a:r>
              <a:rPr b="1" lang="zh-CN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하나님은 영이십니다</a:t>
            </a:r>
            <a:r>
              <a:rPr b="1" lang="en-US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413000"/>
            <a:ext cx="853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요한복음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4:24&gt; 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하나님은 영이시니 예배하는 자가 영과 진리로 예배할지니라</a:t>
            </a:r>
            <a:r>
              <a:rPr b="0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2708280"/>
            <a:ext cx="87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2. </a:t>
            </a:r>
            <a:r>
              <a:rPr b="1" lang="zh-CN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영이신 하나님을 아는 것은 영으로 알 수 있습니다</a:t>
            </a:r>
            <a:r>
              <a:rPr b="1" lang="en-US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500280"/>
            <a:ext cx="8532720" cy="25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고린도전서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2:10-11&gt; (10)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오직 하나님이 성령으로 이것을 우리에게 보이셨으니 성령은 모든 것 곧 하나님의 깊은 것까지도 통달하시느니라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(11)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사람의 일을 사람의 속에 있는 영 외에 누가 알리요 이와 같이 하나님의 일도 하나님의 영 외에는 아무도 알지 못하느니라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9000"/>
            <a:ext cx="91440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 </a:t>
            </a:r>
            <a:r>
              <a:rPr b="1" lang="ko-KR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3. </a:t>
            </a:r>
            <a:r>
              <a:rPr b="1" lang="ko-KR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하나님께서 인격을 지니셨다는 말은 무슨 뜻입니까</a:t>
            </a:r>
            <a:r>
              <a:rPr b="1" lang="ko-KR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?</a:t>
            </a:r>
            <a:br>
              <a:rPr sz="2800"/>
            </a:b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&gt;&gt;&gt; </a:t>
            </a: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인격은 아는 능력을 가집니다</a:t>
            </a: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.</a:t>
            </a:r>
            <a:br>
              <a:rPr sz="2400"/>
            </a:b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하나님은 그의 우주를 아시며</a:t>
            </a: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, </a:t>
            </a: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당신에게 속한 자녀들을 알고 계십니다</a:t>
            </a: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. </a:t>
            </a: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하나님은 아버지로서 우리에게 다가오시는 인격적인 분이시며 우리의 모든 필요와 상황을 아시는 분이십니다</a:t>
            </a: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.</a:t>
            </a:r>
            <a:br>
              <a:rPr sz="2400"/>
            </a:b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하나님은 마음에 생각을 품으시고 드러내기도 하십니다</a:t>
            </a: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.</a:t>
            </a:r>
            <a:br>
              <a:rPr sz="2400"/>
            </a:b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때로는 슬퍼하기도 하시며</a:t>
            </a: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, </a:t>
            </a: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화도 내시고</a:t>
            </a: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, </a:t>
            </a: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가슴 아파하기도 하십니다</a:t>
            </a: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.  </a:t>
            </a: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하나님께서 나를 위하여 눈물을 흘리신다는 것을 상상해 보셨습니까</a:t>
            </a: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?  </a:t>
            </a: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하나님께서 감정을 드러내시는 것은 우리를 사랑하시기 때문입니다</a:t>
            </a: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. </a:t>
            </a:r>
            <a:br>
              <a:rPr sz="2400"/>
            </a:b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인격이란 말은 활동하신다는 뜻도 됩니다</a:t>
            </a: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.</a:t>
            </a:r>
            <a:br>
              <a:rPr sz="2400"/>
            </a:b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하나님은 이 세상을 지으신 후 방관하시는 분이 아니십니다</a:t>
            </a: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. </a:t>
            </a: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하나님을 인격적이라고 고백하는 것은 우리의 모든 삶 속에서 일하심을 말하는 것입니다</a:t>
            </a:r>
            <a:r>
              <a:rPr b="1" lang="ko-KR" sz="24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115920"/>
            <a:ext cx="88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HY헤드라인M"/>
                <a:ea typeface="HY헤드라인M"/>
              </a:rPr>
              <a:t>D. </a:t>
            </a:r>
            <a:r>
              <a:rPr b="1" lang="zh-CN" sz="3200" spc="-1" strike="noStrike">
                <a:solidFill>
                  <a:srgbClr val="990099"/>
                </a:solidFill>
                <a:latin typeface="HY헤드라인M"/>
                <a:ea typeface="HY헤드라인M"/>
              </a:rPr>
              <a:t>하나님의 이름과 우리와의 관계성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0792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말라기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2:10&gt;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우리는 한 아버지를 가지지 아니하였느냐   한 하나님께서 지으신 바가 아니냐 어찌하여 우리 각 사람이 자기 형제에게 거짓을 행하여 우리 조상들의 언약을 욕되게 하느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로마서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8:14-15&gt; (14)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무릇 하나님의 영으로 인도함을 받는 사람은 곧 하나님의 아들이라 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(15)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너희는 다시 무서워하는 종의 영을 받지 아니하고 양자의 영을 받았으므로 우리가 아빠 아버지라고 부르짖느니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갈라디아서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4:6&gt;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너희가 아들이므로 하나님이 그 아들의 영을 우리 마음 가운데 보내사 아빠 아버지라 부르게 하셨느니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496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400" spc="-1" strike="noStrike">
                <a:solidFill>
                  <a:srgbClr val="6600cc"/>
                </a:solidFill>
                <a:latin typeface="-청춘M"/>
                <a:ea typeface="-청춘M"/>
              </a:rPr>
              <a:t>생각열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125360"/>
            <a:ext cx="8820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Q1. 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하나님은 당신에게 어떤 분이십니까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Q2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어떻게 하나님을 부르고 계십니까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Q3. ‘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좋으신 하나님’ 노래를 부르고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,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한 주간 동안 어떻게 좋으신 하나님을 체험했는가를 서로 간증하며 나누어 봅시다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324000" y="1197000"/>
            <a:ext cx="8496000" cy="4530240"/>
            <a:chOff x="324000" y="1197000"/>
            <a:chExt cx="8496000" cy="4530240"/>
          </a:xfrm>
        </p:grpSpPr>
        <p:sp>
          <p:nvSpPr>
            <p:cNvPr id="89" name=""/>
            <p:cNvSpPr/>
            <p:nvPr/>
          </p:nvSpPr>
          <p:spPr>
            <a:xfrm>
              <a:off x="324000" y="1197000"/>
              <a:ext cx="8496000" cy="45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4000" y="119700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000" y="1197000"/>
              <a:ext cx="8496000" cy="44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buClr>
                  <a:srgbClr val="0000cc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외 울 말 씀 –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buClr>
                  <a:srgbClr val="0000cc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   “</a:t>
              </a:r>
              <a:r>
                <a:rPr b="0" lang="zh-CN" sz="36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하나님이 세상을 이처럼 사랑하사 독생자를 주셨으니 이는 그를 믿는 자마다 멸망하지 않고 영생을 얻게 하려 하심이라</a:t>
              </a:r>
              <a:r>
                <a:rPr b="0" lang="en-US" sz="36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 ” 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                      </a:t>
              </a:r>
              <a:r>
                <a:rPr b="0" lang="en-US" sz="36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&lt;</a:t>
              </a:r>
              <a:r>
                <a:rPr b="0" lang="zh-CN" sz="36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요한복음</a:t>
              </a:r>
              <a:r>
                <a:rPr b="0" lang="en-US" sz="36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3:16&gt;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역대상</a:t>
            </a:r>
            <a:r>
              <a:rPr b="0" lang="en-US" sz="4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8:9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1342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 아들 솔로몬아 너는 네 아버지의 하나님을 알고 온전한 마음과 기쁜 뜻으로 섬길지어다 여호와께서는 모든 마음을 감찰하사 모든 의도를 아시나니 네가 만일 그를 찾으면 만날 것이요 만일 네가 그를 버리면 그가 너를 영원히 버리시리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7164360" y="61405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Arial"/>
                <a:ea typeface="-소망B"/>
              </a:rPr>
              <a:t>행복한교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마가복음 </a:t>
            </a:r>
            <a:r>
              <a:rPr b="0" lang="en-US" sz="4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0:27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1342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예수께서 그들을 보시며 이르시되 사람으로는 할 수 없으되 하나님으로는 그렇지 아니하니 하나님으로서는 다 하실 수 있느니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7164360" y="61405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Arial"/>
                <a:ea typeface="-소망B"/>
              </a:rPr>
              <a:t>행복한교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린도전서 </a:t>
            </a:r>
            <a:r>
              <a:rPr b="0" lang="ko-KR" sz="4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8:6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1342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그러나 우리에게는 한 하나님 곧 아버지가 계시니 만물이 그에게서 났고 우리도 그를 위하여 있고 또한 한 주 예수 그리스도께서 계시니 만물이 그로 말미암고 우리도 그로 말미암아 있느니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7164360" y="61405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Arial"/>
                <a:ea typeface="-소망B"/>
              </a:rPr>
              <a:t>행복한교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134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r>
              <a:rPr b="0" lang="ko-KR" sz="4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편</a:t>
            </a:r>
            <a:r>
              <a:rPr b="0" lang="ko-KR" sz="4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90:2</a:t>
            </a: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산이 생기기 전</a:t>
            </a: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땅과 세계도 주께서 조성하시기 전 곧 영원부터 영원까지 주는 하나님이시니이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4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편</a:t>
            </a:r>
            <a:r>
              <a:rPr b="0" lang="ko-KR" sz="4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90:4</a:t>
            </a: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의 목전에는 천 년이 지나간 어제 같으며 밤의 한 순간 같을 뿐임이니이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7164360" y="61405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Arial"/>
                <a:ea typeface="-소망B"/>
              </a:rPr>
              <a:t>행복한교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r>
              <a:rPr b="0" lang="ko-KR" sz="4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</a:t>
            </a:r>
            <a:r>
              <a:rPr b="0" lang="ko-KR" sz="4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민수기</a:t>
            </a:r>
            <a:r>
              <a:rPr b="0" lang="ko-KR" sz="4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3:19)</a:t>
            </a: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나님은 사람이 아니시니 거짓말을 하지 않으시고 인생이 아니시니 후회가 없으시도다 어찌 그 말씀하신 바를 행하지 않으시며 하신 말씀을 실행하지 않으시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r>
              <a:rPr b="0" lang="ko-KR" sz="4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다니엘</a:t>
            </a:r>
            <a:r>
              <a:rPr b="0" lang="ko-KR" sz="4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6:26)</a:t>
            </a: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가 이제 조서를 내리노라 내 나라 관할 아래에 있는 사람들은 다 다니엘의 하나님 앞에서 떨며 두려워할지니 그는 살아 계시는 하나님이시요 영원히 변하지 않으실 이시며 그의 나라는 멸망하지 아니할 것이요 그의 권세는 무궁할 것이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7164360" y="61405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Arial"/>
                <a:ea typeface="-소망B"/>
              </a:rPr>
              <a:t>행복한교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24000" y="3429000"/>
            <a:ext cx="8496000" cy="1726200"/>
            <a:chOff x="324000" y="3429000"/>
            <a:chExt cx="8496000" cy="1726200"/>
          </a:xfrm>
        </p:grpSpPr>
        <p:sp>
          <p:nvSpPr>
            <p:cNvPr id="46" name=""/>
            <p:cNvSpPr/>
            <p:nvPr/>
          </p:nvSpPr>
          <p:spPr>
            <a:xfrm>
              <a:off x="324000" y="3429000"/>
              <a:ext cx="8496000" cy="17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4000" y="342900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4000" y="3429000"/>
              <a:ext cx="8496000" cy="170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- </a:t>
              </a:r>
              <a:r>
                <a:rPr b="0" lang="zh-CN" sz="28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성 경 말 씀 </a:t>
              </a:r>
              <a:r>
                <a:rPr b="0" lang="en-US" sz="28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     “</a:t>
              </a:r>
              <a:r>
                <a:rPr b="0" lang="zh-CN" sz="2800" spc="-1" strike="noStrike">
                  <a:solidFill>
                    <a:srgbClr val="3333cc"/>
                  </a:solidFill>
                  <a:latin typeface="-소망B"/>
                  <a:ea typeface="-소망B"/>
                </a:rPr>
                <a:t>하나님이 세상을 이처럼 사랑하사 독생자를 주셨으니 이는 그를 믿는 자마다 멸망하지 않고 영생을 얻게 하려 하심이라</a:t>
              </a:r>
              <a:r>
                <a:rPr b="0" lang="en-US" sz="28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 ” 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                                  </a:t>
              </a:r>
              <a:r>
                <a:rPr b="0" lang="en-US" sz="28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&lt;</a:t>
              </a:r>
              <a:r>
                <a:rPr b="0" lang="zh-CN" sz="28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요한복음</a:t>
              </a:r>
              <a:r>
                <a:rPr b="0" lang="en-US" sz="28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3:16&gt;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692360" y="333360"/>
            <a:ext cx="863640" cy="7192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74920" y="2349360"/>
            <a:ext cx="6192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제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2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</a:rPr>
              <a:t>과 하나님은 어떤 분이신가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Y견고딕"/>
              <a:ea typeface="HY견고딕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115920"/>
            <a:ext cx="69120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   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1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부 믿음의 대상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1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권 하나님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(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1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위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, 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성부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예레미야 </a:t>
            </a:r>
            <a:r>
              <a:rPr b="0" lang="ko-KR" sz="4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3:24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1342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2686680"/>
            <a:ext cx="835344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여호와의 말씀이니라 사람이 내게 보이지 아니하려고 누가 자신을 은밀한 곳에 숨길 수 있겠느냐 여호와가 말하노라 나는 천지에 충만하지 아니하냐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7164360" y="61405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c"/>
                </a:solidFill>
                <a:latin typeface="Arial"/>
                <a:ea typeface="-소망B"/>
              </a:rPr>
              <a:t>행복한교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000" spc="-1" strike="noStrike">
                <a:solidFill>
                  <a:srgbClr val="6600cc"/>
                </a:solidFill>
                <a:latin typeface="-청춘M"/>
                <a:ea typeface="-청춘M"/>
              </a:rPr>
              <a:t>마음열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38200" y="1557360"/>
            <a:ext cx="7850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50000"/>
              </a:lnSpc>
              <a:buClr>
                <a:srgbClr val="3333cc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당신은 하나님을 어떻게 경험하고 있습니까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3284640"/>
            <a:ext cx="8785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2. 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당신에게 하나님은 어떤 분이십니까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? 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삶 속에서 경험하고 있는 하나님에 대해 말씀해 보십시오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496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400" spc="-1" strike="noStrike">
                <a:solidFill>
                  <a:srgbClr val="6600cc"/>
                </a:solidFill>
                <a:latin typeface="-청춘M"/>
                <a:ea typeface="-청춘M"/>
              </a:rPr>
              <a:t>말씀열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682560" y="550800"/>
            <a:ext cx="7850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A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하나님은 절대자이십니다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628640"/>
            <a:ext cx="8353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1.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하나님에게는 고유한 속성이 있습니다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연결지어 보십시오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2852640"/>
            <a:ext cx="885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70000"/>
              </a:lnSpc>
              <a:buClr>
                <a:srgbClr val="000000"/>
              </a:buClr>
              <a:buFont typeface="HY헤드라인M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독립하심             모든 것을 알고 계십니다</a:t>
            </a: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(</a:t>
            </a:r>
            <a:r>
              <a:rPr b="0" lang="ko-KR" sz="2200" spc="-1" strike="noStrike" u="sng">
                <a:solidFill>
                  <a:srgbClr val="6600cc"/>
                </a:solidFill>
                <a:uFillTx/>
                <a:latin typeface="HY헤드라인M"/>
                <a:ea typeface="HY헤드라인M"/>
                <a:hlinkClick r:id="rId2"/>
              </a:rPr>
              <a:t>대상</a:t>
            </a:r>
            <a:r>
              <a:rPr b="0" lang="ko-KR" sz="2200" spc="-1" strike="noStrike" u="sng">
                <a:solidFill>
                  <a:srgbClr val="6600cc"/>
                </a:solidFill>
                <a:uFillTx/>
                <a:latin typeface="HY헤드라인M"/>
                <a:ea typeface="HY헤드라인M"/>
                <a:hlinkClick r:id="rId3"/>
              </a:rPr>
              <a:t>28:9</a:t>
            </a: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buClr>
                <a:srgbClr val="000000"/>
              </a:buClr>
              <a:buFont typeface="HY헤드라인M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전능하심             모든 것을 하실 수 있습니다</a:t>
            </a: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(</a:t>
            </a:r>
            <a:r>
              <a:rPr b="0" lang="ko-KR" sz="2200" spc="-1" strike="noStrike" u="sng">
                <a:solidFill>
                  <a:srgbClr val="6600cc"/>
                </a:solidFill>
                <a:uFillTx/>
                <a:latin typeface="HY헤드라인M"/>
                <a:ea typeface="HY헤드라인M"/>
                <a:hlinkClick r:id="rId4"/>
              </a:rPr>
              <a:t>막</a:t>
            </a:r>
            <a:r>
              <a:rPr b="0" lang="ko-KR" sz="2200" spc="-1" strike="noStrike" u="sng">
                <a:solidFill>
                  <a:srgbClr val="6600cc"/>
                </a:solidFill>
                <a:uFillTx/>
                <a:latin typeface="HY헤드라인M"/>
                <a:ea typeface="HY헤드라인M"/>
                <a:hlinkClick r:id="rId5"/>
              </a:rPr>
              <a:t>10:27</a:t>
            </a: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buClr>
                <a:srgbClr val="000000"/>
              </a:buClr>
              <a:buFont typeface="HY헤드라인M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전지하심             하나님은 한분이십니다</a:t>
            </a: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(</a:t>
            </a:r>
            <a:r>
              <a:rPr b="0" lang="ko-KR" sz="2200" spc="-1" strike="noStrike" u="sng">
                <a:solidFill>
                  <a:srgbClr val="6600cc"/>
                </a:solidFill>
                <a:uFillTx/>
                <a:latin typeface="HY헤드라인M"/>
                <a:ea typeface="HY헤드라인M"/>
                <a:hlinkClick r:id="rId6"/>
              </a:rPr>
              <a:t>고전</a:t>
            </a:r>
            <a:r>
              <a:rPr b="0" lang="ko-KR" sz="2200" spc="-1" strike="noStrike" u="sng">
                <a:solidFill>
                  <a:srgbClr val="6600cc"/>
                </a:solidFill>
                <a:uFillTx/>
                <a:latin typeface="HY헤드라인M"/>
                <a:ea typeface="HY헤드라인M"/>
                <a:hlinkClick r:id="rId7"/>
              </a:rPr>
              <a:t>8:6</a:t>
            </a: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buClr>
                <a:srgbClr val="000000"/>
              </a:buClr>
              <a:buFont typeface="HY헤드라인M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편재하심             하나님은 영원하십니다</a:t>
            </a: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(</a:t>
            </a: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</a:t>
            </a: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90:2, 4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buClr>
                <a:srgbClr val="000000"/>
              </a:buClr>
              <a:buFont typeface="HY헤드라인M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불변하심             하나님은 변함이 없으십니다</a:t>
            </a: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(</a:t>
            </a: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민</a:t>
            </a: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3:19, </a:t>
            </a: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단</a:t>
            </a: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6:26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0000"/>
              </a:lnSpc>
              <a:buClr>
                <a:srgbClr val="000000"/>
              </a:buClr>
              <a:buFont typeface="HY헤드라인M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영원하심             하나님은 어디에나 계십니다</a:t>
            </a: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(</a:t>
            </a: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렘</a:t>
            </a: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3:24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3357720"/>
            <a:ext cx="1151280" cy="107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3860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08000" y="3357720"/>
            <a:ext cx="1079640" cy="107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5013360"/>
            <a:ext cx="115128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908000" y="5589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79640" y="5013000"/>
            <a:ext cx="107964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260280"/>
            <a:ext cx="8353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2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우리가 믿고 있는 하나님은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413000"/>
            <a:ext cx="8353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0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마가복음</a:t>
            </a:r>
            <a:r>
              <a:rPr b="0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10:27&gt; </a:t>
            </a:r>
            <a:r>
              <a:rPr b="0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예수께서 그들을 보시며 이르시되 사람으로는 할 수 없으되 하나님으로는 그렇지 아니하니 하나님으로서는 다 하실 수 있느니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076640"/>
            <a:ext cx="8353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예레미야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23:24&gt;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여호와의 말씀이니라 사람이 내게 보이지 아니하려고 누가 자신을 은밀한 곳에 숨길 수 있겠느냐 여호와가 말하노라 나는 천지에 충만하지 아니하냐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476280"/>
            <a:ext cx="835344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&gt;&gt;&gt;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한 분이신 하나님은 못하시는 것이 없는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HY헤드라인M"/>
                <a:ea typeface="HY헤드라인M"/>
              </a:rPr>
              <a:t>전능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하신 분이십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그분은 나의 과거와 현재 미래의 모든 것을 알고 계신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HY헤드라인M"/>
                <a:ea typeface="HY헤드라인M"/>
              </a:rPr>
              <a:t>전지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하신 분이십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 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그 하나님의 눈을 피해서 도망갈 곳은 이 세상에 전혀 없습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왜냐하면 하나님은 어디에나 계시는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HY헤드라인M"/>
                <a:ea typeface="HY헤드라인M"/>
              </a:rPr>
              <a:t>편재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하시는 분이시기 때문입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또한 우리는 정해진 시간 안에 유한하지만 하나님은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HY헤드라인M"/>
                <a:ea typeface="HY헤드라인M"/>
              </a:rPr>
              <a:t>영원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하신 분이십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그분은 회전하시는 그림자도 없으실 만큼 절대 변하지 않는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HY헤드라인M"/>
                <a:ea typeface="HY헤드라인M"/>
              </a:rPr>
              <a:t>불변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하시는 분이십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404640"/>
            <a:ext cx="7850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B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하나님은 도덕적 성품을 가지셨습니다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1989000"/>
            <a:ext cx="8353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베드로전서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1:16&gt; 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기록되었으되 내가 거룩하니 너희도 거룩할지어다 하셨느니라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413000"/>
            <a:ext cx="835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1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하나님은 거룩하십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718080"/>
            <a:ext cx="835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2.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하나님은 공의로우십니다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437000"/>
            <a:ext cx="83534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신명기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32:4&gt; 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그는 반석이시니 그가 하신 일이 완전하고 그의 모든 길이 정의롭고 진실하고 거짓이 없으신 하나님이시니 공의로우시고 바르시도다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5280" y="1341360"/>
            <a:ext cx="8353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요한일서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4:16&gt;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하나님이 우리를 사랑하시는 사랑을 우리가 알고 믿었노니 하나님은 사랑이시라 사랑 안에 거하는 자는 하나님 안에 거하고 하나님도 그의 안에 거하시느니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476280"/>
            <a:ext cx="835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3. </a:t>
            </a:r>
            <a:r>
              <a:rPr b="0" lang="zh-CN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하나님은 사랑이십니다</a:t>
            </a:r>
            <a:r>
              <a:rPr b="0" lang="en-US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3932280"/>
            <a:ext cx="83534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요한복음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3:16&gt;  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하나님이 세상을 이처럼 사랑하사 독생자를 주셨으니 이는 그를 믿는 자마다 멸망하지 않고 영생을 얻게 하려 하심이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476280"/>
            <a:ext cx="87138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&gt;&gt;&gt;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이 구절은 성경 중에서 가장 빛나는 귀한 보석입니다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 </a:t>
            </a:r>
            <a:br>
              <a:rPr sz="2800"/>
            </a:b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하나님을 떠난 죄인들을 구원하는 대사업은 하나님 편에서 착수하였고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,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구속하는 방법은 그 </a:t>
            </a:r>
            <a:r>
              <a:rPr b="1" lang="ko-KR" sz="2800" spc="-1" strike="noStrike" u="sng">
                <a:solidFill>
                  <a:srgbClr val="ff0000"/>
                </a:solidFill>
                <a:uFillTx/>
                <a:latin typeface="HY헤드라인M"/>
                <a:ea typeface="HY헤드라인M"/>
              </a:rPr>
              <a:t>독생자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를 세상에 보내어 </a:t>
            </a:r>
            <a:r>
              <a:rPr b="1" lang="ko-KR" sz="2800" spc="-1" strike="noStrike" u="sng">
                <a:solidFill>
                  <a:srgbClr val="ff0000"/>
                </a:solidFill>
                <a:uFillTx/>
                <a:latin typeface="HY헤드라인M"/>
                <a:ea typeface="HY헤드라인M"/>
              </a:rPr>
              <a:t>십자가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에 다는 일입니다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그런데 그 구속사업의 동기는 어디까지나 하나님의 무한하신 </a:t>
            </a:r>
            <a:r>
              <a:rPr b="1" lang="ko-KR" sz="2800" spc="-1" strike="noStrike" u="sng">
                <a:solidFill>
                  <a:srgbClr val="ff0000"/>
                </a:solidFill>
                <a:uFillTx/>
                <a:latin typeface="HY헤드라인M"/>
                <a:ea typeface="HY헤드라인M"/>
              </a:rPr>
              <a:t>사랑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에서 나온 것입니다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 </a:t>
            </a:r>
            <a:br>
              <a:rPr sz="2800"/>
            </a:b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그러므로 “나는 아버지이신 하나님을 믿는다”는 신앙고백을 하는 것은  곧 하나님께서 예수 그리스도를 통하여 사랑의 아버지로서 죄인된 나를 찾아오시는 은혜를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,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감사와 신뢰로써 응답하고 받아들인다는 뜻이 됩니다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김준호</cp:lastModifiedBy>
  <dcterms:modified xsi:type="dcterms:W3CDTF">2006-03-07T04:20:39Z</dcterms:modified>
  <cp:revision>180</cp:revision>
  <dc:subject/>
  <dc:title>PowerPoint 프레젠테이션</dc:title>
</cp:coreProperties>
</file>