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AE5C-DC31-4746-B6A3-BE7503E4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A49D-C81B-478D-BAFF-327082A5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41C3-CDA9-4919-865F-3D75876A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AD4-08C5-4F9D-B82D-B9AB9C8B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4103-1370-43DC-BC45-861621B5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CB3F-22D6-44DC-8DF4-783BF994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3317-5636-48B1-8CD5-6CBA1B96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ECA-66B8-48DB-BA95-1432EA22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6A8A-AC2F-4227-9808-EEFC5E84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E563-D7CC-4213-9E9D-755FBF2F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3DE-C594-4460-84AF-F3628F8F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41E5-5D45-4C70-821E-F561DDED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06C6-310F-4B34-AD11-470650EC45A8}" type="slidenum"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HY견고딕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80" name=""/>
          <p:cNvSpPr/>
          <p:nvPr/>
        </p:nvSpPr>
        <p:spPr>
          <a:xfrm>
            <a:off x="2525400" y="185760"/>
            <a:ext cx="397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(한)문화방송"/>
                <a:ea typeface="(한)문화방송"/>
              </a:rPr>
              <a:t>삶의 가치를 향상 시켜주는 구원에 이르는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44988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lt; </a:t>
            </a:r>
            <a:r>
              <a:rPr b="0" lang="zh-CN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확  신  편 </a:t>
            </a: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gt;</a:t>
            </a:r>
            <a:endParaRPr b="0" lang="en-US" sz="36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9280" y="1251000"/>
            <a:ext cx="8785440" cy="54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자랑의 면류관                   썩지 아니함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(</a:t>
            </a:r>
            <a:r>
              <a:rPr b="0" lang="ko-KR" sz="2400" spc="-1" strike="noStrike" u="sng">
                <a:solidFill>
                  <a:srgbClr val="3333cc"/>
                </a:solidFill>
                <a:uFillTx/>
                <a:latin typeface="HY견고딕"/>
                <a:ea typeface="HY견고딕"/>
                <a:hlinkClick r:id="rId2" action="ppaction://hlinksldjump"/>
              </a:rPr>
              <a:t>고전</a:t>
            </a:r>
            <a:r>
              <a:rPr b="0" lang="ko-KR" sz="2400" spc="-1" strike="noStrike" u="sng">
                <a:solidFill>
                  <a:srgbClr val="3333cc"/>
                </a:solidFill>
                <a:uFillTx/>
                <a:latin typeface="HY견고딕"/>
                <a:ea typeface="HY견고딕"/>
                <a:hlinkClick r:id="rId3" action="ppaction://hlinksldjump"/>
              </a:rPr>
              <a:t>9:24-25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아름다운 면류관                   진실한 목자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(</a:t>
            </a:r>
            <a:r>
              <a:rPr b="0" lang="ko-KR" sz="2400" spc="-1" strike="noStrike" u="sng">
                <a:solidFill>
                  <a:srgbClr val="3333cc"/>
                </a:solidFill>
                <a:uFillTx/>
                <a:latin typeface="HY견고딕"/>
                <a:ea typeface="HY견고딕"/>
                <a:hlinkClick r:id="rId4" action="ppaction://hlinksldjump"/>
              </a:rPr>
              <a:t>벧전</a:t>
            </a:r>
            <a:r>
              <a:rPr b="0" lang="ko-KR" sz="2400" spc="-1" strike="noStrike" u="sng">
                <a:solidFill>
                  <a:srgbClr val="3333cc"/>
                </a:solidFill>
                <a:uFillTx/>
                <a:latin typeface="HY견고딕"/>
                <a:ea typeface="HY견고딕"/>
                <a:hlinkClick r:id="rId5" action="ppaction://hlinksldjump"/>
              </a:rPr>
              <a:t>5:2-4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  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의의 면류관                   충성스러운 자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계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2:10,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약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1:12)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영광의 면류관                   영혼의 승리자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살전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2:19)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생명의 면류관                   속죄자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계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4:4,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시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21:3)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      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금면류관                   기대하는 자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딤후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4:7-8)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승리의 면류관                   공의와 구원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사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62:3)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56000" y="1773360"/>
            <a:ext cx="1800000" cy="22320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2637000"/>
            <a:ext cx="1800000" cy="35287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2556000" y="3284640"/>
            <a:ext cx="1800000" cy="21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627280" y="2565360"/>
            <a:ext cx="1728720" cy="14400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556000" y="3357720"/>
            <a:ext cx="1800000" cy="1439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556000" y="4724280"/>
            <a:ext cx="1800000" cy="720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556000" y="1844640"/>
            <a:ext cx="1800000" cy="43927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8920" y="119700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   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&gt;&gt;&gt;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각 사람이 행한 대로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,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즉  기회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(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달란트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)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에 비례하고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(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마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25:14-30),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충성에 비례하여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(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삼상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16:7)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상을 주십니다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2412720" y="44280"/>
            <a:ext cx="439092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고린도전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3:12-15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2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만일 누구든지 금이나 은이나 보석이나 나무나 풀이나 짚으로 이 터 위에 세우면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3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각 사람의 공적이 나타날 터인데 그 날이 공적을 밝히리니 이는 불로 나타내고 그 불이 각 사람의 공적이 어떠한 것을 시험할 것임이라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4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만일 누구든지 그 위에 세운 공적이 그대로 있으면 상을 받고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5)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누구든지 그 공적이 불타면 해를 받으리니 그러나 자신은 구원을 받되 불 가운데서 받은 것 같으리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rot="5400000">
            <a:off x="3096000" y="-1215000"/>
            <a:ext cx="3024000" cy="82803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계시록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9:7-8&gt;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7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우리가 즐거워하고 크게 기뻐하며 그에게 영광을 돌리세 어린 양의 혼인 기약이 이르렀고 그의 아내가 자신을 준비하였으므로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8)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에게 빛나고 깨끗한 세마포 옷을 입도록 허락하셨으니 이 세마포 옷은 성도들의 옳은 행실이로다 하더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3781800" y="1556280"/>
            <a:ext cx="1654200" cy="828180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계시록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6:15&gt;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 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보라 내가 도둑 같이 오리니 누구든지 깨어 자기 옷을 지켜 벌거벗고 다니지 아니하며 자기의 부끄러움을 보이지 아니하는 자는 복이 있도다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816720" y="-1864440"/>
            <a:ext cx="158292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골로새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3:4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우리 생명이신 그리스도께서 나타나실 그 때에 너희도 그와 함께 영광 중에 나타나리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1361160" y="1052640"/>
            <a:ext cx="45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4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영광 중에 주님 앞에 서기를 바랍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3023640" y="728640"/>
            <a:ext cx="316872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데살로니가후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:11-12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1) 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이러므로 우리도 항상 너희를 위하여 기도함은 우리 하나님이 너희를 그 부르심에 합당한 자로 여기시고 모든 선을 기뻐함과 믿음의 역사를 능력으로 이루게 하시고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2) 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우리 하나님과 주 예수 그리스도의 은혜대로 우리 주 예수의 이름이 너희 가운데서 영광을 받으시고 너희도 그 안에서 영광을 받게 하려 함이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341360"/>
            <a:ext cx="3024000" cy="6476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-소망B"/>
                <a:ea typeface="-소망B"/>
              </a:rPr>
              <a:t>C. </a:t>
            </a:r>
            <a:r>
              <a:rPr b="0" lang="zh-CN" sz="3200" spc="-1" strike="noStrike">
                <a:solidFill>
                  <a:srgbClr val="ffffff"/>
                </a:solidFill>
                <a:latin typeface="-소망B"/>
                <a:ea typeface="-소망B"/>
              </a:rPr>
              <a:t>부활신앙</a:t>
            </a:r>
            <a:endParaRPr b="0" lang="en-US" sz="32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1094400" y="23335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우리는 부활할 것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2988000" y="619920"/>
            <a:ext cx="324000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고전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5:44,49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44)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육의 몸으로 심고 신령한 몸으로 다시 살아나나니 육의 몸이 있은즉 또 영의 몸도 있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49)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우리가 흙에 속한 자의 형상을 입은 것 같이 또한 하늘에 속한 이의 형상을 입으리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2448360" y="-280080"/>
            <a:ext cx="431964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고전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5:51-53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51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보라 내가 너희에게 비밀을 말하노니 우리가 다 잠 잘 것이 아니요 마지막 나팔에 순식간에 홀연히 다 변화되리니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52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나팔 소리가 나매 죽은 자들이 썩지 아니할 것으로 다시 살아나고 우리도 변화되리라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53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이 썩을 것이 반드시 썩지 아니할 것을 입겠고 이 죽을 것이 죽지 아니함을 입으리로다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1708200" y="1125360"/>
            <a:ext cx="581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우리가 부활할 때에는 어떤 몸이 될 것입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&gt;&gt;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부활하신 예수님의 몸이 어떠하셨는가를 살펴보면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~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2412000" y="187920"/>
            <a:ext cx="439236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누가복음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4:39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내 손과 발을 보고 나인 줄 알라 또 나를 만져 보라 영은 살과 뼈가 없으되 너희 보는 바와 같이 나는 있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0:20, 27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20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이 말씀을 하시고 손과 옆구리를 보이시니 제자들이 주를 보고 기뻐하더라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27)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도마에게 이르시되 네 손가락을 이리 내밀어 내 손을 보고 네 손을 내밀어 내 옆구리에 넣어 보라 그리하여 믿음 없는 자가 되지 말고 믿는 자가 되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1907640" y="-315720"/>
            <a:ext cx="540072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마태복음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8:7-10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7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또 빨리 가서 그의 제자들에게 이르되 그가 죽은 자 가운데서 살아나셨고 너희보다 먼저 갈릴리로 가시나니 거기서 너희가 뵈오리라 하라 보라 내가 너희에게 일렀느니라 하거늘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8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 여자들이 무서움과 큰 기쁨으로 빨리 무덤을 떠나 제자들에게 알리려고 달음질할새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9)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예수께서 그들을 만나 이르시되 평안하냐 하시거늘 여자들이 나아가 그 발을 붙잡고 경배하니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0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이에 예수께서 이르시되 무서워하지 말라 가서 내 형제들에게 갈릴리로 가라 하라 거기서 나를 보리라 하시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3527640" y="-1935720"/>
            <a:ext cx="216072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0:19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이 날 곧 안식 후 첫날 저녁 때에 제자들이 유대인들을 두려워하여 모인 곳의 문들을 닫았더니 예수께서 오사 가운데 서서 이르시되 너희에게 평강이 있을지어다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3347640" y="836280"/>
            <a:ext cx="252108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누가복음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4:30, 42, 43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30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들과 함께 음식 잡수실 때에 떡을 가지사 축사하시고 떼어 그들에게 주시니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42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이에 구운 생선 한 토막을 드리니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43)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받으사 그 앞에서 잡수시더라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3563640" y="-674640"/>
            <a:ext cx="208908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고린도전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5:42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죽은 자의 부활도 그와 같으니 썩을 것으로 심고 썩지 아니할 것으로 다시 살아나며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539640" y="3573360"/>
            <a:ext cx="8209080" cy="3379680"/>
            <a:chOff x="539640" y="3573360"/>
            <a:chExt cx="8209080" cy="3379680"/>
          </a:xfrm>
        </p:grpSpPr>
        <p:sp>
          <p:nvSpPr>
            <p:cNvPr id="83" name=""/>
            <p:cNvSpPr/>
            <p:nvPr/>
          </p:nvSpPr>
          <p:spPr>
            <a:xfrm>
              <a:off x="539640" y="3619800"/>
              <a:ext cx="8209080" cy="33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9640" y="3573360"/>
              <a:ext cx="820908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9640" y="3619800"/>
              <a:ext cx="8209080" cy="32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- </a:t>
              </a:r>
              <a:r>
                <a:rPr b="0" lang="zh-CN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성 경 말 씀 </a:t>
              </a:r>
              <a:r>
                <a:rPr b="0" lang="en-US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-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“</a:t>
              </a:r>
              <a:r>
                <a:rPr b="0" lang="zh-CN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또 미리 정하신 그들을 또한 부르시고 부르신 그들을 또한 의롭다 하시고 의롭다 하신 그들을 또한 영화롭게 하셨느니라 ” 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zh-CN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로마서 </a:t>
              </a:r>
              <a:r>
                <a:rPr b="0" lang="en-US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8:30&gt;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620720" y="44280"/>
            <a:ext cx="863640" cy="719280"/>
          </a:xfrm>
          <a:prstGeom prst="rect">
            <a:avLst/>
          </a:prstGeom>
          <a:noFill/>
          <a:ln w="28440">
            <a:solidFill>
              <a:srgbClr val="af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25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9640" y="1484280"/>
            <a:ext cx="7921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6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마무리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3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과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미래에 완성되는 구원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-243000"/>
            <a:ext cx="835344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구원의 완성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3384000" y="-1503000"/>
            <a:ext cx="244800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5:28-29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28)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이를 놀랍게 여기지 말라 무덤 속에 있는 자가 다 그의 음성을 들을 때가 오나니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29) 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선한 일을 행한 자는 생명의 부활로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,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악한 일을 행한 자는 심판의 부활로 나오리라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3600000" y="1160280"/>
            <a:ext cx="201636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다니엘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2:2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땅의 티끌 가운데에서 자는 자 중에서 많은 사람이 깨어나 영생을 받는 자도 있겠고 수치를 당하여서 영원히 부끄러움을 당할 자도 있을 것이며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1779480"/>
            <a:ext cx="80931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3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기독교인은 부활신앙을 소유해야 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3707280" y="332280"/>
            <a:ext cx="2016360" cy="777744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고린도후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4:9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박해를 받아도 버린 바 되지 아니하며 거꾸러뜨림을 당하여도 망하지 아니하고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02920" y="-27000"/>
            <a:ext cx="4537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-청춘M"/>
                <a:ea typeface="-청춘M"/>
              </a:rPr>
              <a:t>▣ </a:t>
            </a:r>
            <a:r>
              <a:rPr b="1" lang="zh-CN" sz="5600" spc="-1" strike="noStrike">
                <a:solidFill>
                  <a:srgbClr val="ffffff"/>
                </a:solidFill>
                <a:latin typeface="-청춘M"/>
                <a:ea typeface="-청춘M"/>
              </a:rPr>
              <a:t>생각열기</a:t>
            </a:r>
            <a:endParaRPr b="0" lang="en-US" sz="5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1911240"/>
            <a:ext cx="860400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zh-CN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주 앞에 섰을 때 면류관 대신 개털모자를 받지는 않겠습니까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Q2. </a:t>
            </a:r>
            <a:r>
              <a:rPr b="0" lang="zh-CN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죽기 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5</a:t>
            </a:r>
            <a:r>
              <a:rPr b="0" lang="zh-CN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분전에 예수 믿고 천당 가겠다는 말을 하는 사람이 있습니다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r>
              <a:rPr b="0" lang="zh-CN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어떻게 생각하십니까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Q3. </a:t>
            </a:r>
            <a:r>
              <a:rPr b="0" lang="zh-CN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부활신앙이 없는 사람들은 어떻게 살아갑니까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050920" y="63360"/>
            <a:ext cx="26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 </a:t>
            </a:r>
            <a:r>
              <a:rPr b="0" lang="zh-CN" sz="4000" spc="-1" strike="noStrike">
                <a:solidFill>
                  <a:srgbClr val="ffffff"/>
                </a:solidFill>
                <a:latin typeface="-소망B"/>
                <a:ea typeface="-소망B"/>
              </a:rPr>
              <a:t>외 울 말 씀 </a:t>
            </a: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39640" y="2205000"/>
            <a:ext cx="8209080" cy="3379680"/>
            <a:chOff x="539640" y="2205000"/>
            <a:chExt cx="8209080" cy="3379680"/>
          </a:xfrm>
        </p:grpSpPr>
        <p:sp>
          <p:nvSpPr>
            <p:cNvPr id="153" name=""/>
            <p:cNvSpPr/>
            <p:nvPr/>
          </p:nvSpPr>
          <p:spPr>
            <a:xfrm>
              <a:off x="539640" y="2251440"/>
              <a:ext cx="8209080" cy="33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9640" y="2205000"/>
              <a:ext cx="820908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9640" y="2251440"/>
              <a:ext cx="8209080" cy="32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“</a:t>
              </a:r>
              <a:r>
                <a:rPr b="0" lang="zh-CN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또 미리 정하신 그들을 또한 부르시고 부르신 그들을 또한 의롭다 하시고 의롭다 하신 그들을 또한 영화롭게 하셨느니라 ” 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    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zh-CN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로마서 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8:30&gt;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HY견고딕"/>
              </a:rPr>
              <a:t>고전</a:t>
            </a:r>
            <a:r>
              <a:rPr b="0" lang="en-US" sz="3400" spc="-1" strike="noStrike">
                <a:solidFill>
                  <a:srgbClr val="ffffff"/>
                </a:solidFill>
                <a:latin typeface="HY견고딕"/>
              </a:rPr>
              <a:t>9:24-25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91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(24)    </a:t>
            </a:r>
            <a:r>
              <a:rPr b="0" lang="zh-CN" sz="2400" spc="-1" strike="noStrike">
                <a:solidFill>
                  <a:srgbClr val="000066"/>
                </a:solidFill>
                <a:latin typeface="HY견고딕"/>
              </a:rPr>
              <a:t>운동장에서 달음질하는 자들이 다 달릴지라도 오직 상을 받는 사람은 한 사람인 줄을 너희가 알지 못하느냐 너희도 상을 받도록 이와 같이 달음질하라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(25)    </a:t>
            </a:r>
            <a:r>
              <a:rPr b="0" lang="zh-CN" sz="2400" spc="-1" strike="noStrike">
                <a:solidFill>
                  <a:srgbClr val="000066"/>
                </a:solidFill>
                <a:latin typeface="HY견고딕"/>
              </a:rPr>
              <a:t>이기기를 다투는 자마다 모든 일에 절제하나니 그들은 썩을 승리자의 관을 얻고자 하되 우리는 썩지 아니할 것을 얻고자 하노라 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58" name=""/>
          <p:cNvSpPr/>
          <p:nvPr/>
        </p:nvSpPr>
        <p:spPr>
          <a:xfrm>
            <a:off x="7562880" y="621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행복한교회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fffff"/>
                </a:solidFill>
                <a:latin typeface="HY견고딕"/>
              </a:rPr>
              <a:t>베드로전서</a:t>
            </a:r>
            <a:r>
              <a:rPr b="0" lang="ko-KR" sz="3400" spc="-1" strike="noStrike">
                <a:solidFill>
                  <a:srgbClr val="ffffff"/>
                </a:solidFill>
                <a:latin typeface="HY견고딕"/>
              </a:rPr>
              <a:t>5:2-4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 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(2)    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너희 중에 있는 하나님의 양 무리를 치되 억지로 하지 말고 하나님의 뜻을 따라 자원함으로 하며 더러운 이득을 위하여 하지 말고 기꺼이 하며 </a:t>
            </a:r>
            <a:br>
              <a:rPr sz="2400"/>
            </a:b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(3)   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맡은 자들에게 주장하는 자세를 하지 말고 양 무리의 본이 되라 </a:t>
            </a:r>
            <a:br>
              <a:rPr sz="2400"/>
            </a:b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(4)   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그리하면 목자장이 나타나실 때에 시들지 아니하는 영광의 관을 얻으리라 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61" name=""/>
          <p:cNvSpPr/>
          <p:nvPr/>
        </p:nvSpPr>
        <p:spPr>
          <a:xfrm>
            <a:off x="7562880" y="621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행복한교회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03280" y="-7128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fffff"/>
                </a:solidFill>
                <a:latin typeface="HY견고딕"/>
              </a:rPr>
              <a:t>요한계시록</a:t>
            </a:r>
            <a:r>
              <a:rPr b="0" lang="ko-KR" sz="3400" spc="-1" strike="noStrike">
                <a:solidFill>
                  <a:srgbClr val="ffffff"/>
                </a:solidFill>
                <a:latin typeface="HY견고딕"/>
              </a:rPr>
              <a:t>2:10  </a:t>
            </a:r>
            <a:r>
              <a:rPr b="0" lang="ko-KR" sz="3400" spc="-1" strike="noStrike">
                <a:solidFill>
                  <a:srgbClr val="ffffff"/>
                </a:solidFill>
                <a:latin typeface="HY견고딕"/>
              </a:rPr>
              <a:t>야고보서</a:t>
            </a:r>
            <a:r>
              <a:rPr b="0" lang="ko-KR" sz="3400" spc="-1" strike="noStrike">
                <a:solidFill>
                  <a:srgbClr val="ffffff"/>
                </a:solidFill>
                <a:latin typeface="HY견고딕"/>
              </a:rPr>
              <a:t>1:12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&lt;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요한계시록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2:10&gt;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     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너는 장차 받을 고난을 두려워하지 말라 볼지어다 마귀가 장차 너희 가운데에서 몇 사람을 옥에 던져 시험을 받게 하리니 너희가 십 일 동안 환난을 받으리라 네가 죽도록 충성하라 그리하면 내가 생명의 관을 네게 주리라 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&lt;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야고보서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1:12&gt;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    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시험을 참는 자는 복이 있나니 이는 시련을 견디어 낸 자가 주께서 자기를 사랑하는 자들에게 약속하신 생명의 면류관을 얻을 것이기 때문이라 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64" name=""/>
          <p:cNvSpPr/>
          <p:nvPr/>
        </p:nvSpPr>
        <p:spPr>
          <a:xfrm>
            <a:off x="7562880" y="621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행복한교회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fffff"/>
                </a:solidFill>
                <a:latin typeface="HY견고딕"/>
              </a:rPr>
              <a:t>데살로니가전서 </a:t>
            </a:r>
            <a:r>
              <a:rPr b="0" lang="ko-KR" sz="3400" spc="-1" strike="noStrike">
                <a:solidFill>
                  <a:srgbClr val="ffffff"/>
                </a:solidFill>
                <a:latin typeface="HY견고딕"/>
              </a:rPr>
              <a:t>2:19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      </a:t>
            </a:r>
            <a:r>
              <a:rPr b="0" lang="zh-CN" sz="2400" spc="-1" strike="noStrike">
                <a:solidFill>
                  <a:srgbClr val="000066"/>
                </a:solidFill>
                <a:latin typeface="HY견고딕"/>
              </a:rPr>
              <a:t>우리의 소망이나 기쁨이나 자랑의 면류관이 무엇이냐 그가 강림하실 때 우리 주 예수 앞에 너희가 아니냐 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67" name=""/>
          <p:cNvSpPr/>
          <p:nvPr/>
        </p:nvSpPr>
        <p:spPr>
          <a:xfrm>
            <a:off x="7562880" y="621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행복한교회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HY견고딕"/>
              </a:rPr>
              <a:t>요한계시록</a:t>
            </a:r>
            <a:r>
              <a:rPr b="0" lang="en-US" sz="3400" spc="-1" strike="noStrike">
                <a:solidFill>
                  <a:srgbClr val="ffffff"/>
                </a:solidFill>
                <a:latin typeface="HY견고딕"/>
              </a:rPr>
              <a:t>4:4  </a:t>
            </a:r>
            <a:r>
              <a:rPr b="0" lang="zh-CN" sz="3400" spc="-1" strike="noStrike">
                <a:solidFill>
                  <a:srgbClr val="ffffff"/>
                </a:solidFill>
                <a:latin typeface="HY견고딕"/>
              </a:rPr>
              <a:t>시편</a:t>
            </a:r>
            <a:r>
              <a:rPr b="0" lang="en-US" sz="3400" spc="-1" strike="noStrike">
                <a:solidFill>
                  <a:srgbClr val="ffffff"/>
                </a:solidFill>
                <a:latin typeface="HY견고딕"/>
              </a:rPr>
              <a:t>21:3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    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&lt;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요한계시록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4:4&gt;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     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또 보좌에 둘려 이십사 보좌들이 있고 그 보좌들 위에 이십사 장로들이 흰 옷을 입고 머리에 금관을 쓰고 앉았더라 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    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&lt;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시편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21:3&gt;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    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주의 아름다운 복으로 그를 영접하시고 순금 관을 그의 머리에 씌우셨나이다 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70" name=""/>
          <p:cNvSpPr/>
          <p:nvPr/>
        </p:nvSpPr>
        <p:spPr>
          <a:xfrm>
            <a:off x="7562880" y="621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행복한교회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fffff"/>
                </a:solidFill>
                <a:latin typeface="HY견고딕"/>
              </a:rPr>
              <a:t>디모데후서 </a:t>
            </a:r>
            <a:r>
              <a:rPr b="0" lang="ko-KR" sz="3400" spc="-1" strike="noStrike">
                <a:solidFill>
                  <a:srgbClr val="ffffff"/>
                </a:solidFill>
                <a:latin typeface="HY견고딕"/>
              </a:rPr>
              <a:t>4:7-8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 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(7)    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나는 선한 싸움을 싸우고 나의 달려갈 길을 마치고 믿음을 지켰으니 </a:t>
            </a:r>
            <a:br>
              <a:rPr sz="2400"/>
            </a:b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(8)    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이제 후로는 나를 위하여 의의 면류관이 예비되었으므로 주 곧 의로우신 재판장이 그 날에 내게 주실 것이며 내게만 아니라 주의 나타나심을 사모하는 모든 자에게도니라 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73" name=""/>
          <p:cNvSpPr/>
          <p:nvPr/>
        </p:nvSpPr>
        <p:spPr>
          <a:xfrm>
            <a:off x="7562880" y="621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행복한교회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마음열기</a:t>
            </a:r>
            <a:endParaRPr b="0" lang="en-US" sz="5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062080"/>
            <a:ext cx="82072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484200">
              <a:lnSpc>
                <a:spcPct val="150000"/>
              </a:lnSpc>
              <a:buClr>
                <a:srgbClr val="ccccff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144360" y="2205000"/>
            <a:ext cx="8891640" cy="3240000"/>
          </a:xfrm>
          <a:prstGeom prst="roundRect">
            <a:avLst>
              <a:gd name="adj" fmla="val 10037"/>
            </a:avLst>
          </a:prstGeom>
          <a:solidFill>
            <a:srgbClr val="ffffff"/>
          </a:solidFill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항상 깨어 준비하는 자세는 어떠해야 할까요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지금 이 순간이 주님 앞에 서는 시간이라면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HY견고딕"/>
              </a:rPr>
              <a:t>이사야 </a:t>
            </a:r>
            <a:r>
              <a:rPr b="0" lang="en-US" sz="3400" spc="-1" strike="noStrike">
                <a:solidFill>
                  <a:srgbClr val="ffffff"/>
                </a:solidFill>
                <a:latin typeface="HY견고딕"/>
              </a:rPr>
              <a:t>62:3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      </a:t>
            </a:r>
            <a:r>
              <a:rPr b="0" lang="zh-CN" sz="2400" spc="-1" strike="noStrike">
                <a:solidFill>
                  <a:srgbClr val="000066"/>
                </a:solidFill>
                <a:latin typeface="HY견고딕"/>
              </a:rPr>
              <a:t>너는 또 여호와의 손의 아름다운 관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, </a:t>
            </a:r>
            <a:r>
              <a:rPr b="0" lang="zh-CN" sz="2400" spc="-1" strike="noStrike">
                <a:solidFill>
                  <a:srgbClr val="000066"/>
                </a:solidFill>
                <a:latin typeface="HY견고딕"/>
              </a:rPr>
              <a:t>네 하나님의 손의 왕관이 될 것이라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76" name=""/>
          <p:cNvSpPr/>
          <p:nvPr/>
        </p:nvSpPr>
        <p:spPr>
          <a:xfrm>
            <a:off x="7562880" y="621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행복한교회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말씀열기</a:t>
            </a:r>
            <a:endParaRPr b="0" lang="en-US" sz="5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4920" y="1270080"/>
            <a:ext cx="5113440" cy="7189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A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그리스도인의 완전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780360" y="906840"/>
            <a:ext cx="1654200" cy="828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마태복음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5:48&gt;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러므로 하늘에 계신 너희 아버지의 온전하심과 같이 너희도 온전하라  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758160" y="2752560"/>
            <a:ext cx="4836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아버지의 완전하심과 같이 되어라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rot="5400000">
            <a:off x="3780360" y="-1034280"/>
            <a:ext cx="1654200" cy="828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마태복음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6:41&gt;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시험에 들지 않게 깨어 기도하라 마음에는 원이로되 육신이 약하도다 하시고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702720" y="1341360"/>
            <a:ext cx="5082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못한 것이  아니라 안한 것입니다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3781800" y="1338840"/>
            <a:ext cx="1654200" cy="828180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히브리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2:4&gt;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너희가 죄와 싸우되 아직 피흘리기까지는 대항하지 아니하고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8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38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06960" y="2060640"/>
            <a:ext cx="4959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3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완전이란 ‘사랑 안에서의 완전’을 말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3743280" y="80640"/>
            <a:ext cx="165744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에베소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4:15&gt;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오직 사랑 안에서 참된 것을 하여 범사에 그에게까지 자랄지라 그는 머리니 곧 그리스도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8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385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38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38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8000" y="1341360"/>
            <a:ext cx="446400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B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종말론적인 신앙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99280" y="1016640"/>
            <a:ext cx="2087280" cy="748980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마태복음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5:13&gt;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런즉 깨어 있으라 너희는 그 날과 그 때를 알지 못하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6560" y="2421000"/>
            <a:ext cx="799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66"/>
              </a:buClr>
              <a:buFont typeface="HY견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항상 준비하는 자세가 필요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8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38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023280" y="-927720"/>
            <a:ext cx="3313080" cy="856944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히브리서 </a:t>
            </a:r>
            <a:r>
              <a:rPr b="0" lang="en-US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10:35-39&gt;</a:t>
            </a:r>
            <a:endParaRPr b="0" lang="en-US" sz="22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(35)</a:t>
            </a:r>
            <a:r>
              <a:rPr b="0" lang="zh-CN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러므로 너희 담대함을 버리지 말라 이것이 큰 상을 얻게 하느니라  </a:t>
            </a:r>
            <a:r>
              <a:rPr b="0" lang="en-US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(36)</a:t>
            </a:r>
            <a:r>
              <a:rPr b="0" lang="zh-CN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너희에게 인내가 필요함은 너희가 하나님의 뜻을 행한 후에 약속하신 것을 받기 위함이라  </a:t>
            </a:r>
            <a:r>
              <a:rPr b="0" lang="en-US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(37)</a:t>
            </a:r>
            <a:r>
              <a:rPr b="0" lang="zh-CN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잠시 잠깐 후면 오실 이가 오시리니 지체하지 아니하시리라  </a:t>
            </a:r>
            <a:r>
              <a:rPr b="0" lang="en-US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(38)</a:t>
            </a:r>
            <a:r>
              <a:rPr b="0" lang="zh-CN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나의 의인은 믿음으로 말미암아 살리라 또한 뒤로 물러가면 내 마음이 그를 기뻐하지 아니하리라 하셨느니라  </a:t>
            </a:r>
            <a:r>
              <a:rPr b="0" lang="en-US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(39)</a:t>
            </a:r>
            <a:r>
              <a:rPr b="0" lang="zh-CN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우리는 뒤로 물러가 멸망할 자가 아니요 오직 영혼을 구원함에 이르는 믿음을 가진 자니라 </a:t>
            </a:r>
            <a:endParaRPr b="0" lang="en-US" sz="22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1503000" y="1038240"/>
            <a:ext cx="49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소망을 가지고 그날까지 인내 할 것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3960000" y="1664280"/>
            <a:ext cx="1439640" cy="856944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 </a:t>
            </a:r>
            <a:r>
              <a:rPr b="0" lang="en-US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8:18&gt; </a:t>
            </a:r>
            <a:endParaRPr b="0" lang="en-US" sz="22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zh-CN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생각하건대 현재의 고난은 장차 우리에게 나타날 영광과 비교할 수 없도다</a:t>
            </a:r>
            <a:endParaRPr b="0" lang="en-US" sz="22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3708000" y="331560"/>
            <a:ext cx="180036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마태복음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6:27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인자가 아버지의 영광으로 그 천사들과 함께 오리니 그 때에 각 사람이 행한 대로 갚으리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75080" y="2405160"/>
            <a:ext cx="54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3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렇다면 어떤 상이 우리를 기다리고 있을까요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Korea</cp:lastModifiedBy>
  <dcterms:modified xsi:type="dcterms:W3CDTF">2007-01-16T06:06:14Z</dcterms:modified>
  <cp:revision>328</cp:revision>
  <dc:subject/>
  <dc:title>PowerPoint 프레젠테이션</dc:title>
</cp:coreProperties>
</file>