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26D-B1F5-4DE1-8F0B-D8C67EF4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654E-2F69-4B29-BDC7-5038425F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24E-AB2E-4CD7-A590-E632D4CD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8201-FEAA-475C-9341-A4129362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342-8059-42FF-A564-6A9594F6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B8EB-0C5F-40DF-9BCE-15F71F90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7753-C1C6-4283-B78A-291324FC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2B22-0448-455E-BFDB-CD4780A8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A3A-5541-4585-B870-95A5B2AC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0B10-8E36-4B48-9D6D-4B76D6FC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EBE-00DB-4776-9351-120B4648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48E-E7B6-40DB-8BAB-2062D00D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6A86-FB1A-40A4-9878-A867B56C4FEE}" type="slidenum"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80" name=""/>
          <p:cNvSpPr/>
          <p:nvPr/>
        </p:nvSpPr>
        <p:spPr>
          <a:xfrm>
            <a:off x="2525400" y="185760"/>
            <a:ext cx="397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삶의 가치를 향상 시켜주는 구원에 이르는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44988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lt; </a:t>
            </a:r>
            <a:r>
              <a:rPr b="0" lang="zh-CN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확  신  편 </a:t>
            </a: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gt;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2664000" y="-135360"/>
            <a:ext cx="388800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에베소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4:22-24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2) 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너희는 유혹의 욕심을 따라 썩어져 가는 구습을 따르는 옛 사람을 벗어 버리고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3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오직 너희의 심령이 새롭게 되어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4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하나님을 따라 의와 진리의 거룩함으로 지으심을 받은 새 사람을 입으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404360" y="1341360"/>
            <a:ext cx="43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거룩해지는 데는 시간이 필요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-36360" y="1197000"/>
            <a:ext cx="9216720" cy="576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-소망B"/>
                <a:ea typeface="-소망B"/>
              </a:rPr>
              <a:t>C. </a:t>
            </a:r>
            <a:r>
              <a:rPr b="0" lang="zh-CN" sz="2800" spc="-1" strike="noStrike">
                <a:solidFill>
                  <a:srgbClr val="ffffff"/>
                </a:solidFill>
                <a:latin typeface="-소망B"/>
                <a:ea typeface="-소망B"/>
              </a:rPr>
              <a:t>그리스도인으로 살아가면서 겪는 고난이 있습니다</a:t>
            </a:r>
            <a:r>
              <a:rPr b="0" lang="en-US" sz="2800" spc="-1" strike="noStrike">
                <a:solidFill>
                  <a:srgbClr val="ffffff"/>
                </a:solidFill>
                <a:latin typeface="-소망B"/>
                <a:ea typeface="-소망B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179360" y="2046240"/>
            <a:ext cx="43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내 속에서 일어나는 갈등이 있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2772000" y="403920"/>
            <a:ext cx="367200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7:21-23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1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러므로 내가 한 법을 깨달았노니 곧 선을 행하기 원하는 나에게 악이 함께 있는 것이로다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2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내 속사람으로는 하나님의 법을 즐거워하되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3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내 지체 속에서 한 다른 법이 내 마음의 법과 싸워 내 지체 속에 있는 죄의 법으로 나를 사로잡는 것을 보는도다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1392120" y="132552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밖으로부터 오는 고난이 또한 있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2627640" y="-27360"/>
            <a:ext cx="396072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5:18-19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8) 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세상이 너희를 미워하면 너희보다 먼저 나를 미워한 줄을 알라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9) 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너희가 세상에 속하였으면 세상이 자기의 것을 사랑할 것이나 너희는 세상에 속한 자가 아니요 도리어 내가 너희를 세상에서 택하였기 때문에 세상이 너희를 미워하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779480"/>
            <a:ext cx="8093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제자가 되기 위해서는 이러한 고난을 기꺼이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감수해야 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3600000" y="296640"/>
            <a:ext cx="201636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마가복음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8:34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무리와 제자들을 불러 이르시되 누구든지 나를 따라오려거든 자기를 부인하고 자기 십자가를 지고 나를 따를 것이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2920" y="-27000"/>
            <a:ext cx="4537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-청춘M"/>
                <a:ea typeface="-청춘M"/>
              </a:rPr>
              <a:t>▣ </a:t>
            </a:r>
            <a:r>
              <a:rPr b="1" lang="zh-CN" sz="5600" spc="-1" strike="noStrike">
                <a:solidFill>
                  <a:srgbClr val="ffffff"/>
                </a:solidFill>
                <a:latin typeface="-청춘M"/>
                <a:ea typeface="-청춘M"/>
              </a:rPr>
              <a:t>생각열기</a:t>
            </a:r>
            <a:endParaRPr b="0" lang="en-US" sz="5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397160"/>
            <a:ext cx="860400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모든 살아있는 것은 성장하게 되어 있습니다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자라나지 않는다면 그 원인을 진단해 보십시오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Q2. 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히브리서 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4:1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을 읽고 묵상하십시오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히브리서</a:t>
            </a:r>
            <a:r>
              <a:rPr b="0" lang="en-US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4:1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0" lang="zh-CN" sz="2400" spc="-1" strike="noStrike">
                <a:solidFill>
                  <a:srgbClr val="660066"/>
                </a:solidFill>
                <a:latin typeface="-소망B"/>
                <a:ea typeface="-소망B"/>
              </a:rPr>
              <a:t>그러므로 우리는 두려워할지니 그의 안식에 들어갈 약속이 남아 있을지라도 너희 중에는 혹 이르지 못할 자가 있을까 함이라</a:t>
            </a:r>
            <a:r>
              <a:rPr b="0" lang="en-US" sz="2400" spc="-1" strike="noStrike">
                <a:solidFill>
                  <a:srgbClr val="000066"/>
                </a:solidFill>
                <a:latin typeface="-소망B"/>
                <a:ea typeface="-소망B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Q3. 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세상 속에서 세상과 구별된 하나님의 자녀로 살아가기 위해 어떤 노력과 대가를 지불하고 있습니까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50920" y="63360"/>
            <a:ext cx="26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 </a:t>
            </a:r>
            <a:r>
              <a:rPr b="0" lang="zh-CN" sz="4000" spc="-1" strike="noStrike">
                <a:solidFill>
                  <a:srgbClr val="ffffff"/>
                </a:solidFill>
                <a:latin typeface="-소망B"/>
                <a:ea typeface="-소망B"/>
              </a:rPr>
              <a:t>외 울 말 씀 </a:t>
            </a: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9640" y="2060640"/>
            <a:ext cx="8209080" cy="3379320"/>
            <a:chOff x="539640" y="2060640"/>
            <a:chExt cx="8209080" cy="3379320"/>
          </a:xfrm>
        </p:grpSpPr>
        <p:sp>
          <p:nvSpPr>
            <p:cNvPr id="125" name=""/>
            <p:cNvSpPr/>
            <p:nvPr/>
          </p:nvSpPr>
          <p:spPr>
            <a:xfrm>
              <a:off x="539640" y="2107080"/>
              <a:ext cx="8209080" cy="333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9640" y="2060640"/>
              <a:ext cx="820908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9640" y="2107080"/>
              <a:ext cx="8209080" cy="32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“ 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그러므로 나의 사랑하는 자들아 너희가 나 있을 때뿐 아니라 더욱 지금 나 없을 때에도 항상 복종하여 두렵고 떨림으로 너희 구원을 이루라 ” 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  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빌립보서 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2:12&gt;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539640" y="3213000"/>
            <a:ext cx="8209080" cy="3379680"/>
            <a:chOff x="539640" y="3213000"/>
            <a:chExt cx="8209080" cy="3379680"/>
          </a:xfrm>
        </p:grpSpPr>
        <p:sp>
          <p:nvSpPr>
            <p:cNvPr id="83" name=""/>
            <p:cNvSpPr/>
            <p:nvPr/>
          </p:nvSpPr>
          <p:spPr>
            <a:xfrm>
              <a:off x="539640" y="3259440"/>
              <a:ext cx="8209080" cy="33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9640" y="3213000"/>
              <a:ext cx="820908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9640" y="3259440"/>
              <a:ext cx="8209080" cy="32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성 경 말 씀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“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그러므로 나의 사랑하는 자들아 너희가 나 있을 때뿐 아니라 더욱 지금 나 없을 때에도 항상 복종하여 두렵고 떨림으로 너희 구원을 이루라”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         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빌립보서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2:12&gt;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620720" y="44280"/>
            <a:ext cx="863640" cy="719280"/>
          </a:xfrm>
          <a:prstGeom prst="rect">
            <a:avLst/>
          </a:prstGeom>
          <a:noFill/>
          <a:ln w="28440">
            <a:solidFill>
              <a:srgbClr val="af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24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9640" y="1484280"/>
            <a:ext cx="7921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6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마무리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2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구원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, 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또 다른 시작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-243000"/>
            <a:ext cx="835344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구원의 완성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마음열기</a:t>
            </a:r>
            <a:endParaRPr b="0" lang="en-US" sz="5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062080"/>
            <a:ext cx="8207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484200">
              <a:lnSpc>
                <a:spcPct val="150000"/>
              </a:lnSpc>
              <a:buClr>
                <a:srgbClr val="ccccff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52360" y="2060640"/>
            <a:ext cx="8640720" cy="4176720"/>
          </a:xfrm>
          <a:prstGeom prst="roundRect">
            <a:avLst>
              <a:gd name="adj" fmla="val 10037"/>
            </a:avLst>
          </a:prstGeom>
          <a:solidFill>
            <a:srgbClr val="ffffff"/>
          </a:solidFill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이 소설의 이야기를 통하여 우리는 무엇에 대해 말할 수 있을까요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구원받은 후의 나의 삶은 어떻게 변화되었습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여러분은 얼마만큼 성장하고 있습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말씀열기</a:t>
            </a:r>
            <a:endParaRPr b="0" lang="en-US" sz="5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4920" y="1270080"/>
            <a:ext cx="9037800" cy="7189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A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생명이 자라나서 열매를 맺어야 합니다</a:t>
            </a: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.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744720" y="585720"/>
            <a:ext cx="165420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일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3:14&gt;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우리는 형제를 사랑함으로 사망에서 옮겨 생명으로 들어간 줄을 알거니와 사랑하지 아니하는 자는 사망에 머물러 있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08680" y="2752560"/>
            <a:ext cx="428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사랑으로 구원을 얻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rot="5400000">
            <a:off x="3817800" y="1087200"/>
            <a:ext cx="165420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히브리서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4:1&gt;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러므로 우리는 두려워할지니 그의 안식에 들어갈 약속이 남아 있을지라도 너희 중에는 혹 이르지 못할 자가 있을까 함이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3744720" y="-1431720"/>
            <a:ext cx="165420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빌립보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:12&gt;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러므로 나의 사랑하는 자들아 너희가 나 있을 때뿐 아니라 더욱 지금 나 없을 때에도 항상 복종하여 두렵고 떨림으로 너희 구원을 이루라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81640" y="1111320"/>
            <a:ext cx="3062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생명이 자라나야 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2663640" y="-207720"/>
            <a:ext cx="381636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에베소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4:13-15&gt; (13)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우리가 다 하나님의 아들을 믿는 것과 아는 일에 하나가 되어 온전한 사람을 이루어 그리스도의 장성한 분량이 충만한 데까지 이르리니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4)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이는 우리가 이제부터 어린 아이가 되지 아니하여 사람의 속임수와 간사한 유혹에 빠져 온갖 교훈의 풍조에 밀려 요동하지 않게 하려 함이라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5)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오직 사랑 안에서 참된 것을 하여 범사에 그에게까지 자랄지라 그는 머리니 곧 그리스도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8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38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79000" y="907920"/>
            <a:ext cx="4008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우리의 성장은 열매로 나타납니다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635280" y="-1684080"/>
            <a:ext cx="187308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5:16&gt;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너희가 나를 택한 것이 아니요 내가 너희를 택하여 세웠나니 이는 너희로 가서 열매를 맺게 하고 또 너희 열매가 항상 있게 하여 내 이름으로 아버지께 무엇을 구하든지 다 받게 하려 함이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073320" y="966600"/>
            <a:ext cx="299736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에베소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:8-10&gt; (8)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너희는 그 은혜에 의하여 믿음으로 말미암아 구원을 받았으니 이것은 너희에게서 난 것이 아니요 하나님의 선물이라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9)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행위에서 난 것이 아니니 이는 누구든지 자랑하지 못하게 함이라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0)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우리는 그가 만드신 바라 그리스도 예수 안에서 선한 일을 위하여 지으심을 받은 자니 이 일은 하나님이 전에 예비하사 우리로 그 가운데서 행하게 하려 하심이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8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38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8000" y="1341360"/>
            <a:ext cx="896472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B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성도가 되었으니 거룩해지라고 하십니다</a:t>
            </a: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.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28000" y="872280"/>
            <a:ext cx="208764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에베소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:4&gt;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곧 창세 전에 그리스도 안에서 우리를 택하사 우리로 사랑 안에서 그 앞에 거룩하고 흠이 없게 하시려고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466560" y="242100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66"/>
              </a:buClr>
              <a:buFont typeface="HY견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우리를 선택하신 목적은 거룩하고 흠이 없게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하시려  함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8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38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38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38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rot="5400000">
            <a:off x="3492360" y="981000"/>
            <a:ext cx="215892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베드로전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:15-16&gt;  (15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오직 너희를 부르신 거룩한 이처럼 너희도 모든 행실에 거룩한 자가 되라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6)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기록되었으되 내가 거룩하니 너희도 거룩할지어다 하셨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600360" y="-1576080"/>
            <a:ext cx="194292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고린도후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7:1&gt;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런즉 사랑하는 자들아 이 약속을 가진 우리는 하나님을 두려워하는 가운데서 거룩함을 온전히 이루어 육과 영의 온갖 더러운 것에서 자신을 깨끗하게 하자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Korea</cp:lastModifiedBy>
  <dcterms:modified xsi:type="dcterms:W3CDTF">2007-01-17T09:23:33Z</dcterms:modified>
  <cp:revision>312</cp:revision>
  <dc:subject/>
  <dc:title>PowerPoint 프레젠테이션</dc:title>
</cp:coreProperties>
</file>