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18C-3FD4-4622-9051-245D925A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5E2-DEEB-40D1-A48A-4547DD4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227-A4B7-4A20-9B9F-AF139B4C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49F-D60E-4A01-BA11-507260F3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730-854D-4D6D-8BDE-83852CC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D3D-2BD3-4F3F-A90B-C6307AAA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1EF-7FCB-4193-A3F2-48C3300C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C96-BEA9-4367-8763-51CDE39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578-C193-401A-AA36-E2CF7C6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FAD-DFA0-4195-A16A-8A12FE1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1B4-904A-4AC5-B919-BA5F25E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625-B2BA-451C-8BD5-9FAF81A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380-0ADA-459F-B8BB-5AE8EE4B3EAE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197000"/>
            <a:ext cx="655164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그리스도인의 신분과 수준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037160" y="2046240"/>
            <a:ext cx="38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명칭과 수준은 차이가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3744360" y="-711000"/>
            <a:ext cx="172728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형제들아 내가 신령한 자들을 대함과 같이 너희에게 말할 수 없어서 육신에 속한 자 곧 그리스도 안에서 어린 아이들을 대함과 같이 하노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888360" y="1303920"/>
            <a:ext cx="143964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2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호라 나는 곤고한 사람이로다 이 사망의 몸에서 누가 나를 건져내랴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125360"/>
            <a:ext cx="54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님은 우리를 당신의 자녀로 삼아주셨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672360" y="-1359720"/>
            <a:ext cx="187164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1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성령이 친히 우리의 영과 더불어 우리가 하나님의 자녀인 것을 증언하시나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3672360" y="1087920"/>
            <a:ext cx="187164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그리스도 예수 안에 있는 생명의 성령의 법이 죄와 사망의 법에서 너를 해방하였음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320840" y="177336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이 땅은 완성되기 위한 훈련소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3312000" y="153000"/>
            <a:ext cx="2592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빌립보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이미 얻었다 함도 아니요 온전히 이루었다 함도 아니라 오직 내가 그리스도 예수께 잡힌 바 된 그것을 잡으려고 달려가노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397160"/>
            <a:ext cx="860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은 믿음으로 말미암아서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행함으로 말미암아서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믿고 행함으로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니면 순전히 믿음만으로 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크리스챤은 믿음으로 구원을 얻었습니다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D-day)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나 아직 구원의 완성을 받지 않은 상태 속에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Already, Not yet)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의 완성을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V-day)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바라보는 자로서 사는 것입니다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이제 우리는 어떻게 살아야 한다고 생각하십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3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신앙의 훈련소인 이 땅에서 여러분은 어떤 훈련을 받고 있습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413000"/>
            <a:ext cx="8209080" cy="4888440"/>
            <a:chOff x="539640" y="1413000"/>
            <a:chExt cx="8209080" cy="4888440"/>
          </a:xfrm>
        </p:grpSpPr>
        <p:sp>
          <p:nvSpPr>
            <p:cNvPr id="140" name=""/>
            <p:cNvSpPr/>
            <p:nvPr/>
          </p:nvSpPr>
          <p:spPr>
            <a:xfrm>
              <a:off x="539640" y="1480320"/>
              <a:ext cx="8209080" cy="48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640" y="1413000"/>
              <a:ext cx="820908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9640" y="1480320"/>
              <a:ext cx="8209080" cy="47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내가 진실로 진실로 너희에게 이르노니 내 말을 듣고 또 나 보내신 이를 믿는 자는 영생을 얻었고 심판에 이르지 아니하나니 사망에서 생명으로 옮겼느니라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5:24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구원의 완성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9640" y="3068640"/>
            <a:ext cx="8209080" cy="3571200"/>
            <a:chOff x="539640" y="3068640"/>
            <a:chExt cx="8209080" cy="3571200"/>
          </a:xfrm>
        </p:grpSpPr>
        <p:sp>
          <p:nvSpPr>
            <p:cNvPr id="84" name=""/>
            <p:cNvSpPr/>
            <p:nvPr/>
          </p:nvSpPr>
          <p:spPr>
            <a:xfrm>
              <a:off x="539640" y="3117600"/>
              <a:ext cx="8209080" cy="35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640" y="3068640"/>
              <a:ext cx="8209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640" y="3117600"/>
              <a:ext cx="820908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내가 진실로 진실로 너희에게 이르노니 내 말을 듣고 또 나 보내신 이를 믿는 자는 영생을 얻었고 심판에 이르지 아니하나니 사망에서 생명으로 옮겼느니라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5:24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90800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23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484280"/>
            <a:ext cx="792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6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마무리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구원을 이미 받았습니다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060640"/>
            <a:ext cx="8640720" cy="374472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이미 우리가 구원을 받았음에도 불구하고 미처 깨닫지 못한 것은 아닙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이 이루어지기까지 수용소 안에 있던 이들이 한 일은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341360"/>
            <a:ext cx="52578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구원의 세가지 차원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672360" y="1159560"/>
            <a:ext cx="179892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0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가 이같이 큰 사망에서 우리를 건지셨고 또 건지실 것이며 이 후에도 건지시기를 그에게 바라노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478880" y="2590920"/>
            <a:ext cx="6400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&gt;&gt;&gt;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예수 그리스도께서는 이미 죄와 죽음의 세력을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꺾으시므로 구원이 시작되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나 그 완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전한 승리는 미래에 보유되어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9200" y="1052640"/>
            <a:ext cx="5025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&gt;&gt;&gt;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은 세 차원에서 생각할 수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2412000" y="-27360"/>
            <a:ext cx="4319640" cy="8496000"/>
          </a:xfrm>
          <a:prstGeom prst="cube">
            <a:avLst>
              <a:gd name="adj" fmla="val 0"/>
            </a:avLst>
          </a:prstGeom>
          <a:solidFill>
            <a:srgbClr val="000066">
              <a:alpha val="11000"/>
            </a:srgbClr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HY견고딕"/>
                <a:ea typeface="HY견고딕"/>
              </a:rPr>
              <a:t>◈ </a:t>
            </a:r>
            <a:r>
              <a:rPr b="0" lang="zh-CN" sz="2400" spc="-1" strike="noStrike">
                <a:solidFill>
                  <a:srgbClr val="ccccff"/>
                </a:solidFill>
                <a:latin typeface="HY견고딕"/>
                <a:ea typeface="HY견고딕"/>
              </a:rPr>
              <a:t>이미 임한 천국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과거적인 것으로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예수의 오심이 바로 천국의 시작이다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HY견고딕"/>
                <a:ea typeface="HY견고딕"/>
              </a:rPr>
              <a:t>◈ </a:t>
            </a:r>
            <a:r>
              <a:rPr b="0" lang="zh-CN" sz="2400" spc="-1" strike="noStrike">
                <a:solidFill>
                  <a:srgbClr val="ccccff"/>
                </a:solidFill>
                <a:latin typeface="HY견고딕"/>
                <a:ea typeface="HY견고딕"/>
              </a:rPr>
              <a:t>확장되는 천국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현재적인 것으로 천국이 확장되어 나가는 것이다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HY견고딕"/>
                <a:ea typeface="HY견고딕"/>
              </a:rPr>
              <a:t>◈ </a:t>
            </a:r>
            <a:r>
              <a:rPr b="0" lang="zh-CN" sz="2400" spc="-1" strike="noStrike">
                <a:solidFill>
                  <a:srgbClr val="ccccff"/>
                </a:solidFill>
                <a:latin typeface="HY견고딕"/>
                <a:ea typeface="HY견고딕"/>
              </a:rPr>
              <a:t>완성되는 천국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미래적인 것으로 예수의 재림과 함께 임하게 되는 천국이다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419120"/>
            <a:ext cx="8769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이것은 마치 히브리백성들이 이집트에서 탈출하여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광야를 거쳐 가나안 땅에 들어가는 것과도 같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23640" y="3382920"/>
            <a:ext cx="8424720" cy="2206800"/>
            <a:chOff x="323640" y="3382920"/>
            <a:chExt cx="8424720" cy="2206800"/>
          </a:xfrm>
        </p:grpSpPr>
        <p:grpSp>
          <p:nvGrpSpPr>
            <p:cNvPr id="100" name=""/>
            <p:cNvGrpSpPr/>
            <p:nvPr/>
          </p:nvGrpSpPr>
          <p:grpSpPr>
            <a:xfrm>
              <a:off x="323640" y="3933000"/>
              <a:ext cx="8424720" cy="1656720"/>
              <a:chOff x="323640" y="3933000"/>
              <a:chExt cx="8424720" cy="165672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431280" y="3825720"/>
                <a:ext cx="1656000" cy="1871640"/>
              </a:xfrm>
              <a:prstGeom prst="cube">
                <a:avLst>
                  <a:gd name="adj" fmla="val 0"/>
                </a:avLst>
              </a:prstGeom>
              <a:solidFill>
                <a:srgbClr val="e1e1ff">
                  <a:alpha val="85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15920" rIns="115920" tIns="57240" bIns="57240" anchor="t" anchorCtr="1" vert="eaVert" rot="10800000">
                <a:noAutofit/>
              </a:bodyPr>
              <a:p>
                <a:pPr marL="82440" indent="-82440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    </a:t>
                </a:r>
                <a:r>
                  <a:rPr b="0" lang="zh-CN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애  굽 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  <a:p>
                <a:pPr marL="82440" indent="-82440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마귀의 나라 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3671280" y="3825720"/>
                <a:ext cx="1656000" cy="1871640"/>
              </a:xfrm>
              <a:prstGeom prst="cube">
                <a:avLst>
                  <a:gd name="adj" fmla="val 0"/>
                </a:avLst>
              </a:prstGeom>
              <a:solidFill>
                <a:srgbClr val="e1e1ff">
                  <a:alpha val="85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15920" rIns="115920" tIns="57240" bIns="57240" anchor="t" anchorCtr="1" vert="eaVert" rot="10800000">
                <a:noAutofit/>
              </a:bodyPr>
              <a:p>
                <a:pPr marL="82440" indent="-82440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     </a:t>
                </a:r>
                <a:r>
                  <a:rPr b="0" lang="zh-CN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광  야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  <a:p>
                <a:pPr marL="82440" indent="-82440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     </a:t>
                </a:r>
                <a:r>
                  <a:rPr b="0" lang="zh-CN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세  상 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6984360" y="3825720"/>
                <a:ext cx="1656000" cy="1871640"/>
              </a:xfrm>
              <a:prstGeom prst="cube">
                <a:avLst>
                  <a:gd name="adj" fmla="val 0"/>
                </a:avLst>
              </a:prstGeom>
              <a:solidFill>
                <a:srgbClr val="e1e1ff">
                  <a:alpha val="85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15920" rIns="115920" tIns="57240" bIns="57240" anchor="t" anchorCtr="1" vert="eaVert" rot="10800000">
                <a:noAutofit/>
              </a:bodyPr>
              <a:p>
                <a:pPr marL="82440" indent="-82440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    </a:t>
                </a:r>
                <a:r>
                  <a:rPr b="0" lang="zh-CN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가나안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  <a:p>
                <a:pPr marL="82440" indent="-82440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    </a:t>
                </a:r>
                <a:r>
                  <a:rPr b="0" lang="zh-CN" sz="2400" spc="-1" strike="noStrike">
                    <a:solidFill>
                      <a:srgbClr val="3333cc"/>
                    </a:solidFill>
                    <a:latin typeface="HY견고딕"/>
                    <a:ea typeface="HY견고딕"/>
                  </a:rPr>
                  <a:t>천   국 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2410920" y="3933000"/>
                <a:ext cx="1081800" cy="1585080"/>
                <a:chOff x="2410920" y="3933000"/>
                <a:chExt cx="1081800" cy="1585080"/>
              </a:xfrm>
            </p:grpSpPr>
            <p:cxnSp>
              <p:nvCxnSpPr>
                <p:cNvPr id="105" name=""/>
                <p:cNvCxnSpPr/>
                <p:nvPr/>
              </p:nvCxnSpPr>
              <p:spPr>
                <a:xfrm flipH="1" flipV="1" rot="5400000">
                  <a:off x="1871280" y="4472640"/>
                  <a:ext cx="1585080" cy="505800"/>
                </a:xfrm>
                <a:prstGeom prst="curvedConnector5">
                  <a:avLst>
                    <a:gd name="adj1" fmla="val 50000"/>
                    <a:gd name="adj2" fmla="val 50000"/>
                    <a:gd name="adj3" fmla="val 50000"/>
                  </a:avLst>
                </a:prstGeom>
                <a:ln w="255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106" name=""/>
                <p:cNvCxnSpPr/>
                <p:nvPr/>
              </p:nvCxnSpPr>
              <p:spPr>
                <a:xfrm flipH="1" flipV="1" rot="5400000">
                  <a:off x="2483280" y="4509000"/>
                  <a:ext cx="1513440" cy="505440"/>
                </a:xfrm>
                <a:prstGeom prst="curvedConnector5">
                  <a:avLst>
                    <a:gd name="adj1" fmla="val 49940"/>
                    <a:gd name="adj2" fmla="val 49964"/>
                    <a:gd name="adj3" fmla="val 49940"/>
                  </a:avLst>
                </a:prstGeom>
                <a:ln w="255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107" name=""/>
                <p:cNvCxnSpPr/>
                <p:nvPr/>
              </p:nvCxnSpPr>
              <p:spPr>
                <a:xfrm flipH="1" flipV="1" rot="5400000">
                  <a:off x="2195280" y="4509720"/>
                  <a:ext cx="1513440" cy="504000"/>
                </a:xfrm>
                <a:prstGeom prst="curvedConnector5">
                  <a:avLst>
                    <a:gd name="adj1" fmla="val 49940"/>
                    <a:gd name="adj2" fmla="val 49964"/>
                    <a:gd name="adj3" fmla="val 49940"/>
                  </a:avLst>
                </a:prstGeom>
                <a:ln w="25560">
                  <a:solidFill>
                    <a:srgbClr val="000066"/>
                  </a:solidFill>
                  <a:miter/>
                </a:ln>
              </p:spPr>
            </p:cxnSp>
            <p:sp>
              <p:nvSpPr>
                <p:cNvPr id="108" name=""/>
                <p:cNvSpPr/>
                <p:nvPr/>
              </p:nvSpPr>
              <p:spPr>
                <a:xfrm>
                  <a:off x="2572920" y="451656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660066"/>
                      </a:solidFill>
                      <a:latin typeface="(한)문화방송"/>
                      <a:ea typeface="(한)문화방송"/>
                    </a:rPr>
                    <a:t>홍해</a:t>
                  </a:r>
                  <a:endParaRPr b="0" lang="en-US" sz="28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650920" y="4004640"/>
                <a:ext cx="1081800" cy="1585080"/>
                <a:chOff x="5650920" y="4004640"/>
                <a:chExt cx="1081800" cy="1585080"/>
              </a:xfrm>
            </p:grpSpPr>
            <p:cxnSp>
              <p:nvCxnSpPr>
                <p:cNvPr id="110" name=""/>
                <p:cNvCxnSpPr/>
                <p:nvPr/>
              </p:nvCxnSpPr>
              <p:spPr>
                <a:xfrm flipH="1" flipV="1" rot="5400000">
                  <a:off x="5111280" y="4544280"/>
                  <a:ext cx="1585080" cy="505800"/>
                </a:xfrm>
                <a:prstGeom prst="curvedConnector5">
                  <a:avLst>
                    <a:gd name="adj1" fmla="val 50000"/>
                    <a:gd name="adj2" fmla="val 50000"/>
                    <a:gd name="adj3" fmla="val 50000"/>
                  </a:avLst>
                </a:prstGeom>
                <a:ln w="255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111" name=""/>
                <p:cNvCxnSpPr/>
                <p:nvPr/>
              </p:nvCxnSpPr>
              <p:spPr>
                <a:xfrm flipH="1" flipV="1" rot="5400000">
                  <a:off x="5723280" y="4580640"/>
                  <a:ext cx="1513440" cy="505440"/>
                </a:xfrm>
                <a:prstGeom prst="curvedConnector5">
                  <a:avLst>
                    <a:gd name="adj1" fmla="val 49940"/>
                    <a:gd name="adj2" fmla="val 49964"/>
                    <a:gd name="adj3" fmla="val 49940"/>
                  </a:avLst>
                </a:prstGeom>
                <a:ln w="255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112" name=""/>
                <p:cNvCxnSpPr/>
                <p:nvPr/>
              </p:nvCxnSpPr>
              <p:spPr>
                <a:xfrm flipH="1" flipV="1" rot="5400000">
                  <a:off x="5435280" y="4581360"/>
                  <a:ext cx="1513440" cy="504000"/>
                </a:xfrm>
                <a:prstGeom prst="curvedConnector5">
                  <a:avLst>
                    <a:gd name="adj1" fmla="val 49940"/>
                    <a:gd name="adj2" fmla="val 49964"/>
                    <a:gd name="adj3" fmla="val 49940"/>
                  </a:avLst>
                </a:prstGeom>
                <a:ln w="25560">
                  <a:solidFill>
                    <a:srgbClr val="000066"/>
                  </a:solidFill>
                  <a:miter/>
                </a:ln>
              </p:spPr>
            </p:cxnSp>
            <p:sp>
              <p:nvSpPr>
                <p:cNvPr id="113" name=""/>
                <p:cNvSpPr/>
                <p:nvPr/>
              </p:nvSpPr>
              <p:spPr>
                <a:xfrm>
                  <a:off x="5706000" y="458820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660066"/>
                      </a:solidFill>
                      <a:latin typeface="(한)문화방송"/>
                      <a:ea typeface="(한)문화방송"/>
                    </a:rPr>
                    <a:t>요단강</a:t>
                  </a:r>
                  <a:endParaRPr b="0" lang="en-US" sz="28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654120" y="338292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-소망B"/>
                  <a:ea typeface="-소망B"/>
                </a:rPr>
                <a:t>세속적인 삶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0600" y="342900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오늘의 삶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3680" y="342900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-소망B"/>
                  <a:ea typeface="-소망B"/>
                </a:rPr>
                <a:t>미래의 삶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773360"/>
            <a:ext cx="8496000" cy="439236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칭의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/</a:t>
            </a: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과거–나는 죄의 형벌에서 구원받았다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.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           </a:t>
            </a: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나의 ‘위치’는 그리스도 안에 있다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.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성화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/</a:t>
            </a: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현재–나는 죄의 권세로부터 벗어나고 있다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.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           </a:t>
            </a: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나의 ‘상태’는 그리스도를 닮아가고 있다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.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영화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/</a:t>
            </a: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미래–나는 죄의 존재로부터 구원받게 된다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.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           </a:t>
            </a:r>
            <a:r>
              <a:rPr b="0" lang="zh-CN" sz="2700" spc="-1" strike="noStrike">
                <a:solidFill>
                  <a:srgbClr val="000099"/>
                </a:solidFill>
                <a:latin typeface="-소망B"/>
                <a:ea typeface="-소망B"/>
              </a:rPr>
              <a:t>나의 ‘기대’는 그리스도와 같아지는 것이다</a:t>
            </a:r>
            <a:r>
              <a:rPr b="0" lang="en-US" sz="2700" spc="-1" strike="noStrike">
                <a:solidFill>
                  <a:srgbClr val="000099"/>
                </a:solidFill>
                <a:latin typeface="-소망B"/>
                <a:ea typeface="-소망B"/>
              </a:rPr>
              <a:t>. 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360" y="1486080"/>
            <a:ext cx="662472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믿음으로 구원을 받았습니다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.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3384360" y="728640"/>
            <a:ext cx="237492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2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진실로 진실로 너희에게 이르노니 내 말을 듣고 또 나 보내신 이를 믿는 자는 영생을 얻었고 심판에 이르지 아니하나니 사망에서 생명으로 옮겼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907920" y="2550960"/>
            <a:ext cx="323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이미 구원을 받았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384360" y="-63360"/>
            <a:ext cx="244764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5-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육신을 따르는 자는 육신의 일을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영을 따르는 자는 영의 일을 생각하나니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6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육신의 생각은 사망이요 영의 생각은 생명과 평안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629720" y="1973160"/>
            <a:ext cx="59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믿음으로 구원받은 사람은 밀월의 시간을 살아갑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12-20T02:51:11Z</dcterms:modified>
  <cp:revision>305</cp:revision>
  <dc:subject/>
  <dc:title>PowerPoint 프레젠테이션</dc:title>
</cp:coreProperties>
</file>