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9D7-6135-4421-A2F6-FFD0096B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C97-719E-4A9C-A49F-64233B02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39F-EC2A-4161-9B0D-26F641F2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C95-0FF9-4DC5-915C-18FF07A2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FF1-5573-429F-B59B-5E07740A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C7B-9BBF-430F-857B-E30D34EF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667-3BF4-4945-88FD-ECF4B70C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534-971C-473C-9F48-E5455E27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83A-9D74-4189-B134-915BE323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947-D3B5-4305-B65A-E8B64D37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29F-5A83-4489-AF0A-84F28E0A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B79-F7E8-45B7-917F-22460131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BF15-E67F-481D-8F75-116EB61CF70B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383640" y="8640"/>
            <a:ext cx="244764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일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1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그리스도이심을 믿는 자마다 하나님께로부터 난 자니 또한 낳으신 이를 사랑하는 자마다 그에게서 난 자를 사랑하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1658160" y="1989000"/>
            <a:ext cx="56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마음에 일어난 변화를 통하여 그 증거를 얻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672720" y="-1070640"/>
            <a:ext cx="201600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일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께로부터 난 자마다 죄를 짓지 아니하나니 이는 하나님의 씨가 그의 속에 거함이요 그도 범죄하지 못하는 것은 하나님께로부터 났음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888360" y="1232640"/>
            <a:ext cx="158436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일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을 사랑하는 것은 이것이니 우리가 그의 계명들을 지키는 것이라 그의 계명들은 무거운 것이 아니로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644840" y="1325520"/>
            <a:ext cx="55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생활에 변화되는 체험을 통하여 증거를 얻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64720" y="-62640"/>
            <a:ext cx="403200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8:14-1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4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무릇 하나님의 영으로 인도함을 받는 사람은 곧 하나님의 아들이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5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는 다시 무서워하는 종의 영을 받지 아니하고 양자의 영을 받았으므로 우리가 아빠 아버지라고 부르짖느니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6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성령이 친히 우리의 영과 더불어 우리가 하나님의 자녀인 것을 증언하시나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321560" y="132552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4.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성령께서 우리 마음에서 증거하십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5400000">
            <a:off x="3779280" y="-1684080"/>
            <a:ext cx="165744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2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가 또한 우리에게 인치시고 보증으로 우리 마음에 성령을 주셨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384000" y="873000"/>
            <a:ext cx="24480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일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2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의 계명을 지키는 자는 주 안에 거하고 주는 그의 안에 거하시나니 우리에게 주신 성령으로 말미암아 그가 우리 안에 거하시는 줄을 우리가 아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1197000"/>
            <a:ext cx="792000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※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이제 우리는 누구 안에 있습니까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287280" y="213372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-소망B"/>
                <a:ea typeface="-소망B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-소망B"/>
                <a:ea typeface="-소망B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-소망B"/>
                <a:ea typeface="-소망B"/>
              </a:rPr>
              <a:t>고린도전서</a:t>
            </a:r>
            <a:r>
              <a:rPr b="0" lang="ko-KR" sz="2800" spc="-1" strike="noStrike">
                <a:solidFill>
                  <a:srgbClr val="3333cc"/>
                </a:solidFill>
                <a:latin typeface="-소망B"/>
                <a:ea typeface="-소망B"/>
              </a:rPr>
              <a:t>1:30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-소망B"/>
                <a:ea typeface="-소망B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-소망B"/>
                <a:ea typeface="-소망B"/>
              </a:rPr>
              <a:t>너희는 하나님으로부터 나서 그리스도 예수 안에 있고 예수는 하나님으로부터 나와서 우리에게 지혜와 의로움과 거룩함과 구원함이 되셨으니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4222800"/>
            <a:ext cx="5257800" cy="7189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※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누구의 자녀입니까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507996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-소망B"/>
                <a:ea typeface="-소망B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-소망B"/>
                <a:ea typeface="-소망B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-소망B"/>
                <a:ea typeface="-소망B"/>
              </a:rPr>
              <a:t>요한복음 </a:t>
            </a:r>
            <a:r>
              <a:rPr b="0" lang="en-US" sz="2800" spc="-1" strike="noStrike">
                <a:solidFill>
                  <a:srgbClr val="3333cc"/>
                </a:solidFill>
                <a:latin typeface="-소망B"/>
                <a:ea typeface="-소망B"/>
              </a:rPr>
              <a:t>1:12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-소망B"/>
                <a:ea typeface="-소망B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-소망B"/>
                <a:ea typeface="-소망B"/>
              </a:rPr>
              <a:t>영접하는 자 곧 그 이름을 믿는 자들에게는 하나님의 자녀가 되는 권세를 주셨으니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1197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fffff"/>
                </a:solidFill>
                <a:latin typeface="-소망B"/>
                <a:ea typeface="-소망B"/>
              </a:rPr>
              <a:t>※ </a:t>
            </a:r>
            <a:r>
              <a:rPr b="0" lang="ko-KR" sz="3400" spc="-1" strike="noStrike">
                <a:solidFill>
                  <a:srgbClr val="ffffff"/>
                </a:solidFill>
                <a:latin typeface="-소망B"/>
                <a:ea typeface="-소망B"/>
              </a:rPr>
              <a:t>무엇을 얻습니까</a:t>
            </a:r>
            <a:r>
              <a:rPr b="0" lang="ko-KR" sz="3400" spc="-1" strike="noStrike">
                <a:solidFill>
                  <a:srgbClr val="ffff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87280" y="216360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-소망B"/>
                <a:ea typeface="-소망B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-소망B"/>
                <a:ea typeface="-소망B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-소망B"/>
                <a:ea typeface="-소망B"/>
              </a:rPr>
              <a:t>고린도전서 </a:t>
            </a:r>
            <a:r>
              <a:rPr b="0" lang="ko-KR" sz="2400" spc="-1" strike="noStrike">
                <a:solidFill>
                  <a:srgbClr val="000099"/>
                </a:solidFill>
                <a:latin typeface="-소망B"/>
                <a:ea typeface="-소망B"/>
              </a:rPr>
              <a:t>6:11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-소망B"/>
                <a:ea typeface="-소망B"/>
              </a:rPr>
              <a:t>   </a:t>
            </a:r>
            <a:r>
              <a:rPr b="0" lang="ko-KR" sz="2400" spc="-1" strike="noStrike">
                <a:solidFill>
                  <a:srgbClr val="000099"/>
                </a:solidFill>
                <a:latin typeface="-소망B"/>
                <a:ea typeface="-소망B"/>
              </a:rPr>
              <a:t>너희 중에 이와 같은 자들이 있더니 주 예수 그리스도의 이름과 우리 하나님의 성령 안에서 씻음과 거룩함과 의롭다 하심을 받았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222800"/>
            <a:ext cx="7777080" cy="7189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※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우리 안에 누가 거하고 계십니까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533700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고린도전서 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3:1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너희는 너희가 하나님의 성전인 것과 하나님의 성령이 너희 안에 계시는 것을 알지 못하느냐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1052640"/>
            <a:ext cx="5184720" cy="7189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※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누구의 지체입니까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7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고린도전서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6:15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   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너희 몸이 그리스도의 지체인 줄을 알지 못하느냐 내가 그리스도의 지체를 가지고 창녀의 지체를 만들겠느냐 결코 그럴 수 없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3357720"/>
            <a:ext cx="7777080" cy="7189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※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어떻게 살아야 하는 것입니까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414972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에베소서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4:22-24, 5: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4:(22)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너희는 유혹의 욕심을 따라 썩어져 가는 구습을 따르는 옛 사람을 벗어 버리고 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(23)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오직 너희의 심령이 새롭게 되어 </a:t>
            </a:r>
            <a:br>
              <a:rPr sz="2400"/>
            </a:b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(24)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하나님을 따라 의와 진리의 거룩함으로 지으심을 받은 새 사람을 입으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5: (9)</a:t>
            </a:r>
            <a:r>
              <a:rPr b="0" lang="ko-KR" sz="2400" spc="-1" strike="noStrike">
                <a:solidFill>
                  <a:srgbClr val="000066"/>
                </a:solidFill>
                <a:latin typeface="-소망B"/>
                <a:ea typeface="-소망B"/>
              </a:rPr>
              <a:t>빛의 열매는 모든 착함과 의로움과 진실함에 있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801800"/>
            <a:ext cx="860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여러분은 구원받았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증거는 무엇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여러분 자신의 말로 구체적으로 표현해 보십시오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예수님의 이름을 들으면 여러분의 영이 움직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9640" y="1484280"/>
            <a:ext cx="8209080" cy="3571200"/>
            <a:chOff x="539640" y="1484280"/>
            <a:chExt cx="8209080" cy="3571200"/>
          </a:xfrm>
        </p:grpSpPr>
        <p:sp>
          <p:nvSpPr>
            <p:cNvPr id="160" name=""/>
            <p:cNvSpPr/>
            <p:nvPr/>
          </p:nvSpPr>
          <p:spPr>
            <a:xfrm>
              <a:off x="539640" y="1533240"/>
              <a:ext cx="8209080" cy="35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9640" y="1484280"/>
              <a:ext cx="820908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1533240"/>
              <a:ext cx="8209080" cy="34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4) 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무릇 하나님의 영으로 인도함을 받는 사람은 곧 하나님의 아들이라 </a:t>
              </a:r>
              <a:br>
                <a:rPr sz="2800"/>
              </a:b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5) 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너희는 다시 무서워하는 종의 영을 받지 아니하고 양자의 영을 받았으므로 우리가 아빠 아버지라고 부르짖느니라 </a:t>
              </a:r>
              <a:br>
                <a:rPr sz="2800"/>
              </a:b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6) 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령이 친히 우리의 영과 더불어 우리가 하나님의 자녀인 것을 증언하시나니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8:14-16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5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의 확신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9640" y="3068640"/>
            <a:ext cx="8209080" cy="3571200"/>
            <a:chOff x="539640" y="3068640"/>
            <a:chExt cx="8209080" cy="3571200"/>
          </a:xfrm>
        </p:grpSpPr>
        <p:sp>
          <p:nvSpPr>
            <p:cNvPr id="84" name=""/>
            <p:cNvSpPr/>
            <p:nvPr/>
          </p:nvSpPr>
          <p:spPr>
            <a:xfrm>
              <a:off x="539640" y="3117600"/>
              <a:ext cx="8209080" cy="35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640" y="3068640"/>
              <a:ext cx="820908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640" y="3117600"/>
              <a:ext cx="8209080" cy="34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4) 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무릇 하나님의 영으로 인도함을 받는 사람은 곧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하나님의 아들이라 </a:t>
              </a:r>
              <a:br>
                <a:rPr sz="2400"/>
              </a:b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5) 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너희는 다시 무서워하는 종의 영을 받지 아니하고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양자의 영을 받았으므로 우리가 아빠 아버지라고  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부르짖느니라 </a:t>
              </a:r>
              <a:br>
                <a:rPr sz="2400"/>
              </a:b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6) 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령이 친히 우리의 영과 더불어 우리가 하나님의    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자녀인 것을 증언하시나니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8:14-16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22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2205000"/>
            <a:ext cx="691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3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거듭난 이의 모습과 증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2060640"/>
            <a:ext cx="8640720" cy="374472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“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렇군요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나는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~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스도를 사랑하고 있음을 깨닫게 되는 군요”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마음의 변화된 이것은 무엇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1341360"/>
            <a:ext cx="770580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구원의 확신을 갖지 못하는 이유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096360" y="799200"/>
            <a:ext cx="295092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:9-10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9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행위에서 난 것이 아니니 이는 누구든지 자랑하지 못하게 함이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0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는 그가 만드신 바라 그리스도 예수 안에서 선한 일을 위하여 지으심을 받은 자니 이 일은 하나님이 전에 예비하사 우리로 그 가운데서 행하게 하려 하심이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957680" y="2311560"/>
            <a:ext cx="5156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이 무엇이며 어떻게 구원받는지를 모르기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때문이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71000" y="1484280"/>
            <a:ext cx="5054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은 길이 너무 단순하고 쉬워서 의심하기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때문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3204360" y="477000"/>
            <a:ext cx="2735280" cy="8496000"/>
          </a:xfrm>
          <a:prstGeom prst="cube">
            <a:avLst>
              <a:gd name="adj" fmla="val 0"/>
            </a:avLst>
          </a:prstGeom>
          <a:solidFill>
            <a:srgbClr val="e1e1ff">
              <a:alpha val="85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14-15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4) 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모세가 광야에서 뱀을 든 것 같이 인자도 들려야 하리니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5) 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는 그를 믿는 자마다 영생을 얻게 하려 하심이니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8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38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66960" y="1492200"/>
            <a:ext cx="5175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의 근거를 인간의 감정과 기분에 의존하기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때문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2842920" y="476280"/>
            <a:ext cx="3457800" cy="8496000"/>
          </a:xfrm>
          <a:prstGeom prst="cube">
            <a:avLst>
              <a:gd name="adj" fmla="val 0"/>
            </a:avLst>
          </a:prstGeom>
          <a:solidFill>
            <a:srgbClr val="e1e1ff">
              <a:alpha val="85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6:1-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)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우리가 그리스도의 도의 초보를 버리고 죽은 행실을 회개함과 하나님께 대한 신앙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)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세례들과 안수와 죽은 자의 부활과 영원한 심판에 관한 교훈의 터를 다시 닦지 말고 완전한 데로 나아갈지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21840" y="4005360"/>
            <a:ext cx="8498160" cy="2178360"/>
            <a:chOff x="321840" y="4005360"/>
            <a:chExt cx="8498160" cy="2178360"/>
          </a:xfrm>
        </p:grpSpPr>
        <p:sp>
          <p:nvSpPr>
            <p:cNvPr id="102" name=""/>
            <p:cNvSpPr/>
            <p:nvPr/>
          </p:nvSpPr>
          <p:spPr>
            <a:xfrm>
              <a:off x="1630080" y="4005360"/>
              <a:ext cx="6156360" cy="21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66"/>
                  </a:solidFill>
                  <a:latin typeface="HY수평선B"/>
                  <a:ea typeface="HY수평선B"/>
                </a:rPr>
                <a:t>사실                          믿음                         감정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66"/>
                  </a:solidFill>
                  <a:latin typeface="HY수평선B"/>
                  <a:ea typeface="HY수평선B"/>
                </a:rPr>
                <a:t>유효특효약                 복용               체내에서 약 효과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HY수평선B"/>
                  <a:ea typeface="HY수평선B"/>
                </a:rPr>
                <a:t>Fact                          Faith                    Feeling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18920" y="4523040"/>
              <a:ext cx="2303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4523040"/>
              <a:ext cx="2303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55640" y="5243760"/>
              <a:ext cx="1295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9280" y="5243760"/>
              <a:ext cx="1295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8920" y="5963040"/>
              <a:ext cx="2303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640" y="5963040"/>
              <a:ext cx="18003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cxnSp>
          <p:nvCxnSpPr>
            <p:cNvPr id="109" name=""/>
            <p:cNvCxnSpPr/>
            <p:nvPr/>
          </p:nvCxnSpPr>
          <p:spPr>
            <a:xfrm flipH="1" flipV="1" rot="5400000">
              <a:off x="-217800" y="5062680"/>
              <a:ext cx="1440360" cy="361080"/>
            </a:xfrm>
            <a:prstGeom prst="bentConnector3">
              <a:avLst>
                <a:gd name="adj1" fmla="val 98575"/>
              </a:avLst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10" name=""/>
            <p:cNvSpPr/>
            <p:nvPr/>
          </p:nvSpPr>
          <p:spPr>
            <a:xfrm>
              <a:off x="322200" y="5963040"/>
              <a:ext cx="3603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2200" y="5243760"/>
              <a:ext cx="3603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28000" y="4523040"/>
              <a:ext cx="7920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04000" y="5243760"/>
              <a:ext cx="2160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99280" y="5963040"/>
              <a:ext cx="720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820000" y="4523040"/>
              <a:ext cx="0" cy="1440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-1044720" y="1265400"/>
            <a:ext cx="9289800" cy="2606040"/>
            <a:chOff x="-1044720" y="1265400"/>
            <a:chExt cx="9289800" cy="2606040"/>
          </a:xfrm>
        </p:grpSpPr>
        <p:pic>
          <p:nvPicPr>
            <p:cNvPr id="117" name="_x35932192" descr=""/>
            <p:cNvPicPr/>
            <p:nvPr/>
          </p:nvPicPr>
          <p:blipFill>
            <a:blip r:embed="rId2"/>
            <a:stretch/>
          </p:blipFill>
          <p:spPr>
            <a:xfrm>
              <a:off x="-1044720" y="1265400"/>
              <a:ext cx="9289800" cy="19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742400" y="17575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기관실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1880" y="17575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연료실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18280" y="177336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객  실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90400" y="2924280"/>
              <a:ext cx="107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사 실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(Fact)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93040" y="2924280"/>
              <a:ext cx="1217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믿 음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(Faith)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960" y="2924280"/>
              <a:ext cx="159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감 정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(Feeling)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2360" y="1486080"/>
            <a:ext cx="5614920" cy="7189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거듭남의 증거와 결과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3384360" y="728640"/>
            <a:ext cx="237492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24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진실로 진실로 너희에게 이르노니 내 말을 듣고 또 나 보내신 이를 믿는 자는 영생을 얻었고 심판에 이르지 아니하나니 사망에서 생명으로 옮겼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587240" y="2550960"/>
            <a:ext cx="5429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성경의 증거를 통하여 구원의 확신을 얻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rot="5400000">
            <a:off x="3635640" y="-2115000"/>
            <a:ext cx="194472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일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10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의 아들을 믿는 자는 자기 안에 증거가 있고 하나님을 믿지 아니하는 자는 하나님을 거짓말하는 자로 만드나니 이는 하나님께서 그 아들에 대하여 증언하신 증거를 믿지 아니하였음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000960" y="705600"/>
            <a:ext cx="314172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일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11-1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1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또 증거는 이것이니 하나님이 우리에게 영생을 주신 것과 이 생명이 그의 아들 안에 있는 그것이니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2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아들이 있는 자에게는 생명이 있고 하나님의 아들이 없는 자에게는 생명이 없느니라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3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하나님의 아들의 이름을 믿는 너희에게 이것을 쓰는 것은 너희로 하여금 너희에게 영생이 있음을 알게 하려 함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12-13T09:43:09Z</dcterms:modified>
  <cp:revision>300</cp:revision>
  <dc:subject/>
  <dc:title>PowerPoint 프레젠테이션</dc:title>
</cp:coreProperties>
</file>