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073-0257-44CA-A6D9-9952D46D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AFD-4B20-4161-83F1-DF2BFEC6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5B8-EB47-43DB-A501-6A0F23D8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0F0-EEE2-4C21-9A04-E296013B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F1B-47A3-4FD7-9897-8B547C2C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F41-54A1-4EB9-A28C-1B155FB4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5A9-4D4E-4E48-932D-5136B2D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210-65A4-4C8F-8B60-9AB794B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C21-6340-4554-8874-588AE13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191-62D8-416F-A954-A3049F6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3D6-7687-4D63-B36B-CE1C48F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50A-1027-48AF-AF92-433B4C2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080-9982-4627-8B7B-E4E17FEBB464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2360" y="1125360"/>
            <a:ext cx="525636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거듭남에 대한 인식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671640" y="-928440"/>
            <a:ext cx="1800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8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바람이 임의로 불매 네가 그 소리는 들어도 어디서 와서 어디로 가는지 알지 못하나니 성령으로 난 사람도 다 그러하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687680"/>
            <a:ext cx="5522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을 반드시 감지할 수 있는 것은 아닙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07360"/>
            <a:ext cx="8569440" cy="1959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buClr>
                <a:srgbClr val="ff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여러분은 몇살까지 젖을 먹었습니까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기억나십니까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아이들이 태어나서 언제부터 사물을 보기 시작합니까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여러분의 생일을 어떻게 아십니까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3707640" y="-1612080"/>
            <a:ext cx="180000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도행전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9:18-1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8) 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즉시 사울의 눈에서 비늘 같은 것이 벗어져 다시 보게 된지라 일어나 세례를 받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9) 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음식을 먹으매 강건하여지니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263240" y="110952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을 인식하는 경우도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540600" y="1507320"/>
            <a:ext cx="213372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 주 예수 그리스도의 아버지 하나님을 찬송하리로다 그의 많으신 긍휼대로 예수 그리스도를 죽은 자 가운데서 부활하게 하심으로 말미암아 우리를 거듭나게 하사 산 소망이 있게 하시며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609920" y="371628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지금 내가 거듭난 사람이란 사실을 깨닫는 것이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중요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08000" y="119700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우리를 향한 그분의 사랑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334880" y="213372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의 확신과 기쁨을 간직하십시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851640" y="-748440"/>
            <a:ext cx="151128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그 안에서 그를 믿음으로 말미암아 담대함과 확신을 가지고 하나님께 나아감을 얻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599280" y="1232280"/>
            <a:ext cx="201636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1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소망의 하나님이 모든 기쁨과 평강을 믿음 안에서 너희에게 충만하게 하사 성령의 능력으로 소망이 넘치게 하시기를 원하노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260000" y="146988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께서 나를 택하신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951280" y="-280800"/>
            <a:ext cx="317016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1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나를 택한 것이 아니요 내가 너희를 택하여 세웠나니 이는 너희로 가서 열매를 맺게 하고 또 너희 열매가 항상 있게 하여 내 이름으로 아버지께 무엇을 구하든지 다 받게 하려 함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5400000">
            <a:off x="3599280" y="-1864440"/>
            <a:ext cx="20178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빌립보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이미 얻었다 함도 아니요 온전히 이루었다 함도 아니라 오직 내가 그리스도 예수께 잡힌 바 된 그것을 잡으려고 달려가노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310920" y="871560"/>
            <a:ext cx="25941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5,1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)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기쁘신 뜻대로 우리를 예정하사 예수 그리스도로 말미암아 자기의 아들들이 되게 하셨으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1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모든 일을 그의 뜻의 결정대로 일하시는 이의 계획을 따라 우리가 예정을 입어 그 안에서 기업이 되었으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400000">
            <a:off x="3708000" y="-1539720"/>
            <a:ext cx="1800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4:8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살아도 주를 위하여 살고 죽어도 주를 위하여 죽나니 그러므로 사나 죽으나 우리가 주의 것이로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3527640" y="1088280"/>
            <a:ext cx="216072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도행전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다른 이로써는 구원을 받을 수 없나니 천하 사람 중에 구원을 받을 만한 다른 이름을 우리에게 주신 일이 없음이라 하였더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608840" y="1268280"/>
            <a:ext cx="56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의 구원을 영원토록 지켜주실 것을 믿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347280" y="-1180080"/>
            <a:ext cx="24494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0:28-2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8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그들에게 영생을 주노니 영원히 멸망하지 아니할 것이요 또 그들을 내 손에서 빼앗을 자가 없느니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9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들을 주신 내 아버지는 만물보다 크시매 아무도 아버지 손에서 빼앗을 수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634920" y="1339560"/>
            <a:ext cx="2016000" cy="86425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디모데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로 말미암아 내가 또 이 고난을 받되 부끄러워하지 아니함은 내가 믿는 자를 내가 알고 또한 내가 의탁한 것을 그 날까지 그가 능히 지키실 줄을 확신함이라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801800"/>
            <a:ext cx="860400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자신이 믿음을 얻게 된 과정을 이야기 해 보십시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의 구원이 영원히 지속되리라는 확신의 근거는 어디에 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9640" y="1628640"/>
            <a:ext cx="8209080" cy="4601880"/>
            <a:chOff x="539640" y="1628640"/>
            <a:chExt cx="8209080" cy="4601880"/>
          </a:xfrm>
        </p:grpSpPr>
        <p:sp>
          <p:nvSpPr>
            <p:cNvPr id="135" name=""/>
            <p:cNvSpPr/>
            <p:nvPr/>
          </p:nvSpPr>
          <p:spPr>
            <a:xfrm>
              <a:off x="539640" y="1628640"/>
              <a:ext cx="8209080" cy="46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1628640"/>
              <a:ext cx="820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1628640"/>
              <a:ext cx="820908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4)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우리 구주 하나님의 자비와 사람 사랑하심이    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나타날 때에 </a:t>
              </a:r>
              <a:br>
                <a:rPr sz="2600"/>
              </a:b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5)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우리를 구원하시되 우리가 행한 바 의로운 행  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위로 말미암지 아니하고 오직 그의 긍휼하심을 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따라 중생의 씻음과 성령의 새롭게 하심으로 하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셨나니 ” 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디도서</a:t>
              </a:r>
              <a:r>
                <a:rPr b="0" lang="ko-KR" sz="26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4-5&gt;</a:t>
              </a:r>
              <a:endParaRPr b="0" lang="en-US" sz="26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5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의 확신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640" y="3213000"/>
            <a:ext cx="8209080" cy="3523680"/>
            <a:chOff x="539640" y="3213000"/>
            <a:chExt cx="8209080" cy="3523680"/>
          </a:xfrm>
        </p:grpSpPr>
        <p:sp>
          <p:nvSpPr>
            <p:cNvPr id="84" name=""/>
            <p:cNvSpPr/>
            <p:nvPr/>
          </p:nvSpPr>
          <p:spPr>
            <a:xfrm>
              <a:off x="539640" y="3213000"/>
              <a:ext cx="8209080" cy="35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213000"/>
              <a:ext cx="820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3213000"/>
              <a:ext cx="8209080" cy="34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4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우리 구주 하나님의 자비와 사람 사랑하심이 나타날 때에 </a:t>
              </a:r>
              <a:br>
                <a:rPr sz="2400"/>
              </a:b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5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우리를 구원하시되 우리가 행한 바 의로운 행위로 말미암지 아니하고 오직 그의 긍휼하심을 따라 중생의 씻음과 성령의 새롭게 하심으로 하셨나니 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디도서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4-5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1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2205000"/>
            <a:ext cx="691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어떻게 거듭나는 것입니까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?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060640"/>
            <a:ext cx="8640720" cy="374472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은 어떻게 예수를 믿게 되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가 예수 그리스도를 택한 것이 아니라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께서 우리를 택하신 것이라는 사실을 어떻게 고백할 수 있을까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341360"/>
            <a:ext cx="56898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물과 성령으로 거듭남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204360" y="619560"/>
            <a:ext cx="273528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디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5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를 구원하시되 우리가 행한 바 의로운 행위로 말미암지 아니하고 오직 그의 긍휼하심을 따라 중생의 씻음과 성령의 새롭게 하심으로 하셨나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992880" y="262260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‘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물과 성령’의 의미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3743280" y="-1576440"/>
            <a:ext cx="1800000" cy="835344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0:1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믿음은 들음에서 나며 들음은 그리스도의 말씀으로 말미암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972000" y="1052640"/>
            <a:ext cx="32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믿음은 어떻게 생깁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3310920" y="1089000"/>
            <a:ext cx="2735280" cy="8281800"/>
          </a:xfrm>
          <a:prstGeom prst="cube">
            <a:avLst>
              <a:gd name="adj" fmla="val 0"/>
            </a:avLst>
          </a:prstGeom>
          <a:solidFill>
            <a:srgbClr val="e1e1ff">
              <a:alpha val="85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내가 너희에게 알리노니 하나님의 영으로 말하는 자는 누구든지 예수를 저주할 자라 하지 아니하고 또 성령으로 아니하고는 누구든지 예수를 주시라 할 수 없느니라      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5400000">
            <a:off x="3258000" y="-1629360"/>
            <a:ext cx="259236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2-13&gt; 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접하는 자 곧 그 이름을 믿는 자들에게는 하나님의 자녀가 되는 권세를 주셨으니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 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혈통으로나 육정으로나 사람의 뜻으로 나지 아니하고 오직 하나님께로부터 난 자들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616560" y="1142280"/>
            <a:ext cx="1944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1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 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대답하여 이르시되 바요나 시몬아 네가 복이 있도다 이를 네게 알게 한 이는 혈육이 아니요 하늘에 계신 내 아버지시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31880" y="1374840"/>
            <a:ext cx="576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의 구원은 하나님과 사람의 협동역사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합작품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096360" y="153000"/>
            <a:ext cx="2951280" cy="8496000"/>
          </a:xfrm>
          <a:prstGeom prst="cube">
            <a:avLst>
              <a:gd name="adj" fmla="val 0"/>
            </a:avLst>
          </a:prstGeom>
          <a:solidFill>
            <a:srgbClr val="e1e1ff">
              <a:alpha val="85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6-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6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나는 심었고 아볼로는 물을 주었으되 오직 하나님께서 자라나게 하셨나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7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런즉 심는 이나 물 주는 이는 아무 것도 아니로되 오직 자라게 하시는 이는 하나님뿐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8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38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1324440"/>
            <a:ext cx="8569440" cy="535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 피아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TV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를 보기 위해 필요한 두가지 조건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은 무엇입니까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?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 피아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눈을 뜨면 사물이 보입니까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?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 피아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비가 오면 그릇에 물이 담깁니까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?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 피아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핸드폰이 진동해도 거부하면 통화가 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이루어지지 않습니다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.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 피아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구원은 믿음으로 받나요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? 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  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하나님의 은혜로 받나요</a:t>
            </a:r>
            <a:r>
              <a:rPr b="1" lang="ko-KR" sz="3600" spc="-1" strike="noStrike">
                <a:solidFill>
                  <a:srgbClr val="ffffff"/>
                </a:solidFill>
                <a:latin typeface=" 피아노M"/>
                <a:ea typeface=" 피아노M"/>
              </a:rPr>
              <a:t>?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20280" y="139716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※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론의 차이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81080" y="2276640"/>
            <a:ext cx="8712000" cy="388908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90000"/>
              </a:lnSpc>
              <a:buClr>
                <a:srgbClr val="660066"/>
              </a:buClr>
              <a:buFont typeface="HY견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예   정   론 – 하나님의 은혜를 강조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택하심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230000"/>
              </a:lnSpc>
              <a:buClr>
                <a:srgbClr val="660066"/>
              </a:buClr>
              <a:buFont typeface="HY견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자유의지론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인간의 믿음을 강조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인간의지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의 은혜가 비처럼 내리고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전체 혹은 일부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)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인간은 그 은혜를 믿음이라는 그릇에 담는 것이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1-22T07:15:11Z</dcterms:modified>
  <cp:revision>288</cp:revision>
  <dc:subject/>
  <dc:title>PowerPoint 프레젠테이션</dc:title>
</cp:coreProperties>
</file>