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B867-6555-4D2E-9BB7-CE653874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E0A5-C48A-4E12-9CD0-7BE23BA3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44E-AA9D-415C-98C2-015DF4AB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48B-643D-474D-B6BF-12F63664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FB22-B2C3-4D10-8363-1902A33B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BE2-4A5B-46AF-8854-041D6BAC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52B5-C237-4852-A5EB-C271BBBE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FD4-E21A-4DC7-94D0-831B3555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ED6-49DA-43B7-B437-FEC1FF6D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92C-732B-4427-A5C5-C225850B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9270-1133-4DD7-B098-129CAA65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E52C-2447-4AF2-8E10-9C93D15A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3" marL="16002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6E75-1EA0-46D4-9941-74B5E276BF1E}" type="slidenum">
              <a:rPr b="0" lang="ko-KR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HY견고딕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-소망B"/>
              </a:rPr>
              <a:t>믿음의 길</a:t>
            </a:r>
            <a:endParaRPr b="0" lang="en-US" sz="32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-소망B"/>
              <a:ea typeface="-소망B"/>
            </a:endParaRPr>
          </a:p>
        </p:txBody>
      </p:sp>
      <p:sp>
        <p:nvSpPr>
          <p:cNvPr id="80" name=""/>
          <p:cNvSpPr/>
          <p:nvPr/>
        </p:nvSpPr>
        <p:spPr>
          <a:xfrm>
            <a:off x="2525400" y="185760"/>
            <a:ext cx="397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(한)문화방송"/>
                <a:ea typeface="(한)문화방송"/>
              </a:rPr>
              <a:t>삶의 가치를 향상 시켜주는 구원에 이르는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44988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lt; </a:t>
            </a:r>
            <a:r>
              <a:rPr b="0" lang="zh-CN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확  신  편 </a:t>
            </a: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gt;</a:t>
            </a:r>
            <a:endParaRPr b="0" lang="en-US" sz="36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341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C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명확하고도 즉각적인 체험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1250640" y="2838600"/>
            <a:ext cx="40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거듭남은 즉각적으로 체험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3671640" y="583920"/>
            <a:ext cx="1871640" cy="871380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누가복음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9:9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예수께서 이르시되 오늘 구원이 이 집에 이르렀으니 이 사람도 아브라함의 자손임이로다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1036800" y="1109520"/>
            <a:ext cx="37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거듭남은 일회적인 체험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3670920" y="-1577160"/>
            <a:ext cx="1873080" cy="871380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3:10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예수께서 이르시되 이미 목욕한 자는 발밖에 씻을 필요가 없느니라 온 몸이 깨끗하니라 너희가 깨끗하나 다는 아니니라 하시니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4222800"/>
            <a:ext cx="8569440" cy="2226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세 종류의 출생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첫 번째 출생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육체적인 탄생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두 번째 출생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영적인 거듭남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세 번째 출생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죽음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새생명의 문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857520" y="1484280"/>
            <a:ext cx="358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3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거듭남은 명확한 체험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2496960" y="30240"/>
            <a:ext cx="4149720" cy="864216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에베소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:3-5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3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전에는 우리도 다 그 가운데서 우리 육체의 욕심을 따라 지내며 육체와 마음의 원하는 것을 하여 다른 이들과 같이 본질상 진노의 자녀이었더니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4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긍휼이 풍성하신 하나님이 우리를 사랑하신 그 큰 사랑을 인하여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5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허물로 죽은 우리를 그리스도와 함께 살리셨고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너희는 은혜로 구원을 받은 것이라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)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555920"/>
            <a:ext cx="85690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&gt;&gt;&gt; 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최초의 출생은 우리에게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육체적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인 생명을 부여하는데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거듭남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중생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)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의 의미는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영적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 생명을 가져오며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최초의 출생은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무의식적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이고 나의 의지와 관련없이 태어나게 되었으나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거듭남은 나의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의식적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인 의지의 결단에 의해서이며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,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육체적인 생명의 출생은 결국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죽음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으로 그치나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,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거듭난 영적 생명은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영원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한 것입니다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2920" y="-27000"/>
            <a:ext cx="4537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-청춘M"/>
                <a:ea typeface="-청춘M"/>
              </a:rPr>
              <a:t>▣ </a:t>
            </a:r>
            <a:r>
              <a:rPr b="1" lang="zh-CN" sz="5600" spc="-1" strike="noStrike">
                <a:solidFill>
                  <a:srgbClr val="ffffff"/>
                </a:solidFill>
                <a:latin typeface="-청춘M"/>
                <a:ea typeface="-청춘M"/>
              </a:rPr>
              <a:t>생각열기</a:t>
            </a:r>
            <a:endParaRPr b="0" lang="en-US" sz="56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484280"/>
            <a:ext cx="860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당신은 거듭난 그리스도인입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언제 어디서 거듭남의 체험을 하셨습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Q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거듭난 이후 변화된 점은 무엇입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말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생각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행동 등 구체적인 면에서 자신의 변화된 점을 나누어 보십시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0920" y="63360"/>
            <a:ext cx="26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 </a:t>
            </a:r>
            <a:r>
              <a:rPr b="0" lang="zh-CN" sz="4000" spc="-1" strike="noStrike">
                <a:solidFill>
                  <a:srgbClr val="ffffff"/>
                </a:solidFill>
                <a:latin typeface="-소망B"/>
                <a:ea typeface="-소망B"/>
              </a:rPr>
              <a:t>외 울 말 씀 </a:t>
            </a: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39640" y="1874880"/>
            <a:ext cx="8064720" cy="4211640"/>
            <a:chOff x="539640" y="1874880"/>
            <a:chExt cx="8064720" cy="4211640"/>
          </a:xfrm>
        </p:grpSpPr>
        <p:sp>
          <p:nvSpPr>
            <p:cNvPr id="130" name=""/>
            <p:cNvSpPr/>
            <p:nvPr/>
          </p:nvSpPr>
          <p:spPr>
            <a:xfrm>
              <a:off x="539640" y="1932840"/>
              <a:ext cx="8064720" cy="41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9640" y="1874880"/>
              <a:ext cx="80647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9640" y="1932840"/>
              <a:ext cx="8064720" cy="40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“</a:t>
              </a:r>
              <a:r>
                <a:rPr b="0" lang="ko-KR" sz="32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예수께서 대답하여 이르시되 진실로 진실로 네게 이르노니 사람이 거듭나지 아니하면 하나님의 나라를 볼 수 없느니라” </a:t>
              </a:r>
              <a:endParaRPr b="0" lang="en-US" sz="3200" spc="-1" strike="noStrike">
                <a:solidFill>
                  <a:srgbClr val="000066"/>
                </a:solidFill>
                <a:latin typeface="굴림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            </a:t>
              </a:r>
              <a:r>
                <a:rPr b="0" lang="ko-KR" sz="32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ko-KR" sz="32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요한복음</a:t>
              </a:r>
              <a:r>
                <a:rPr b="0" lang="ko-KR" sz="32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3:3&gt;</a:t>
              </a:r>
              <a:endParaRPr b="0" lang="en-US" sz="32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-243000"/>
            <a:ext cx="835344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-소망B"/>
                <a:ea typeface="-소망B"/>
              </a:rPr>
              <a:t>   </a:t>
            </a: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ffffff"/>
                </a:solidFill>
                <a:latin typeface="-소망B"/>
                <a:ea typeface="-소망B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부 믿음의 기초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5f5f5f"/>
                </a:solidFill>
                <a:latin typeface="-소망B"/>
                <a:ea typeface="-소망B"/>
              </a:rPr>
              <a:t>5</a:t>
            </a:r>
            <a:r>
              <a:rPr b="0" lang="zh-CN" sz="4400" spc="-1" strike="noStrike">
                <a:solidFill>
                  <a:srgbClr val="5f5f5f"/>
                </a:solidFill>
                <a:latin typeface="-소망B"/>
                <a:ea typeface="-소망B"/>
              </a:rPr>
              <a:t>권 구원의 확신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39640" y="3789360"/>
            <a:ext cx="8064720" cy="3092400"/>
            <a:chOff x="539640" y="3789360"/>
            <a:chExt cx="8064720" cy="3092400"/>
          </a:xfrm>
        </p:grpSpPr>
        <p:sp>
          <p:nvSpPr>
            <p:cNvPr id="84" name=""/>
            <p:cNvSpPr/>
            <p:nvPr/>
          </p:nvSpPr>
          <p:spPr>
            <a:xfrm>
              <a:off x="539640" y="3789360"/>
              <a:ext cx="8064720" cy="30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9640" y="3789360"/>
              <a:ext cx="8064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9640" y="3789360"/>
              <a:ext cx="8064720" cy="30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-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성 경 말 씀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-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“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예수께서 대답하여 이르시되 진실로 진실로 네게 이르노니 사람이 거듭나지 아니하면 하나님의 나라를 볼 수 없느니라” 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           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요한복음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3:3&gt;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547640" y="44280"/>
            <a:ext cx="863640" cy="719280"/>
          </a:xfrm>
          <a:prstGeom prst="rect">
            <a:avLst/>
          </a:prstGeom>
          <a:noFill/>
          <a:ln w="28440">
            <a:solidFill>
              <a:srgbClr val="af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20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47920" y="2060640"/>
            <a:ext cx="61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제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1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과 영적으로 거듭난다는 것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마음열기</a:t>
            </a:r>
            <a:endParaRPr b="0" lang="en-US" sz="5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062080"/>
            <a:ext cx="82072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484200">
              <a:lnSpc>
                <a:spcPct val="150000"/>
              </a:lnSpc>
              <a:buClr>
                <a:srgbClr val="ccccff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108000" y="2563920"/>
            <a:ext cx="8964720" cy="4105080"/>
          </a:xfrm>
          <a:prstGeom prst="roundRect">
            <a:avLst>
              <a:gd name="adj" fmla="val 10037"/>
            </a:avLst>
          </a:prstGeom>
          <a:solidFill>
            <a:srgbClr val="ffffff"/>
          </a:solidFill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괴로움 속에서 뒤척이던 그날 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그 여인은 하나님의 사랑을 발견하기에 이르렀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잠자리를 박차고 일어나 영감의 글을 쓰기 시작했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그가 낯선 사나이로부터 창피를 받지 않았다면 아주 얌전하고 아름답고 상냥하고 유능하게 보였을지는 몰라도 하나님께는 그 영혼이 잃어버릴 뻔했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당신은 구원의 확신이 있습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거듭남의 확신이 있습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176040" y="1262520"/>
            <a:ext cx="8643960" cy="1068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-소망B"/>
                <a:ea typeface="-소망B"/>
              </a:rPr>
              <a:t>찬송 </a:t>
            </a:r>
            <a:r>
              <a:rPr b="0" lang="ko-KR" sz="3200" spc="-1" strike="noStrike">
                <a:solidFill>
                  <a:srgbClr val="ffffff"/>
                </a:solidFill>
                <a:latin typeface="-소망B"/>
                <a:ea typeface="-소망B"/>
              </a:rPr>
              <a:t>339</a:t>
            </a:r>
            <a:r>
              <a:rPr b="0" lang="ko-KR" sz="3200" spc="-1" strike="noStrike">
                <a:solidFill>
                  <a:srgbClr val="ffffff"/>
                </a:solidFill>
                <a:latin typeface="-소망B"/>
                <a:ea typeface="-소망B"/>
              </a:rPr>
              <a:t>장 작사가 </a:t>
            </a:r>
            <a:endParaRPr b="0" lang="en-US" sz="3200" spc="-1" strike="noStrike">
              <a:solidFill>
                <a:srgbClr val="000066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-소망B"/>
                <a:ea typeface="-소망B"/>
              </a:rPr>
              <a:t>엘리오트</a:t>
            </a:r>
            <a:r>
              <a:rPr b="0" lang="ko-KR" sz="3000" spc="-1" strike="noStrike">
                <a:solidFill>
                  <a:srgbClr val="ffffff"/>
                </a:solidFill>
                <a:latin typeface="-소망B"/>
                <a:ea typeface="-소망B"/>
              </a:rPr>
              <a:t>(Charlotte Elliott)</a:t>
            </a:r>
            <a:r>
              <a:rPr b="0" lang="ko-KR" sz="3200" spc="-1" strike="noStrike">
                <a:solidFill>
                  <a:srgbClr val="ffffff"/>
                </a:solidFill>
                <a:latin typeface="-소망B"/>
                <a:ea typeface="-소망B"/>
              </a:rPr>
              <a:t>이야기</a:t>
            </a:r>
            <a:r>
              <a:rPr b="0" lang="ko-KR" sz="3000" spc="-1" strike="noStrike">
                <a:solidFill>
                  <a:srgbClr val="ffffff"/>
                </a:solidFill>
                <a:latin typeface="-소망B"/>
                <a:ea typeface="-소망B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말씀열기</a:t>
            </a:r>
            <a:endParaRPr b="0" lang="en-US" sz="5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06200" y="1125360"/>
            <a:ext cx="475308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fffff"/>
                </a:solidFill>
                <a:latin typeface="-소망B"/>
                <a:ea typeface="-소망B"/>
              </a:rPr>
              <a:t>A. </a:t>
            </a:r>
            <a:r>
              <a:rPr b="0" lang="ko-KR" sz="3400" spc="-1" strike="noStrike">
                <a:solidFill>
                  <a:srgbClr val="ffffff"/>
                </a:solidFill>
                <a:latin typeface="-소망B"/>
                <a:ea typeface="-소망B"/>
              </a:rPr>
              <a:t>새생명을 심는 일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2448000" y="-136440"/>
            <a:ext cx="4248000" cy="864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</a:t>
            </a: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3:3-4&gt; 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(3) </a:t>
            </a: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예수께서 대답하여 이르시되 진실로 진실로 네게 이르노니 사람이 거듭나지 아니하면 하나님의 나라를 볼 수 없느니라 </a:t>
            </a:r>
            <a:br>
              <a:rPr sz="2600"/>
            </a:b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(4) </a:t>
            </a: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니고데모가 이르되 사람이 늙으면 어떻게 날 수 있사옵나이까 두 번째 모태에 들어갔다가 날 수 있사옵나이까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말씀열기</a:t>
            </a:r>
            <a:endParaRPr b="0" lang="en-US" sz="5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3527280" y="-1360080"/>
            <a:ext cx="2089080" cy="864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거듭난다는 것은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공간적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g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으로는 위에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,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하나님께로부터 이루어지는 것이고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시간적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g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으로는 다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,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새롭게 태어나는 것을 말합니다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거듭남은 하나님의 구원의 시작으로 새생명을 심는 일입니다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03160" y="1268280"/>
            <a:ext cx="56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거듭남은 사람의 마음속에서 이루어지는 것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673280" y="4352760"/>
            <a:ext cx="558792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거듭남 </a:t>
            </a:r>
            <a:r>
              <a:rPr b="0" lang="en-US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= </a:t>
            </a:r>
            <a:r>
              <a:rPr b="0" lang="zh-CN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다시 난다</a:t>
            </a:r>
            <a:r>
              <a:rPr b="0" lang="en-US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(</a:t>
            </a:r>
            <a:r>
              <a:rPr b="0" lang="zh-CN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중생</a:t>
            </a:r>
            <a:r>
              <a:rPr b="0" lang="en-US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), </a:t>
            </a:r>
            <a:r>
              <a:rPr b="0" lang="zh-CN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새로 난다</a:t>
            </a:r>
            <a:r>
              <a:rPr b="0" lang="en-US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(</a:t>
            </a:r>
            <a:r>
              <a:rPr b="0" lang="zh-CN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신생</a:t>
            </a:r>
            <a:r>
              <a:rPr b="0" lang="en-US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)</a:t>
            </a:r>
            <a:r>
              <a:rPr b="0" lang="zh-CN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라는 의미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          </a:t>
            </a:r>
            <a:r>
              <a:rPr b="0" lang="en-US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(1) </a:t>
            </a:r>
            <a:r>
              <a:rPr b="0" lang="zh-CN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사람이 늙은 후 다시 모태에 들어갔다가 나오는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                </a:t>
            </a:r>
            <a:r>
              <a:rPr b="0" lang="zh-CN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물리적인 현상이 아님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          </a:t>
            </a:r>
            <a:r>
              <a:rPr b="0" lang="en-US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(2) </a:t>
            </a:r>
            <a:r>
              <a:rPr b="0" lang="zh-CN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하나님의 자녀로 바뀌는 영적 부활을 말합니다</a:t>
            </a:r>
            <a:r>
              <a:rPr b="0" lang="en-US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          </a:t>
            </a:r>
            <a:r>
              <a:rPr b="0" lang="en-US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(3) </a:t>
            </a:r>
            <a:r>
              <a:rPr b="0" lang="zh-CN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거듭남은 하나님의 구원의 시작입니다</a:t>
            </a:r>
            <a:r>
              <a:rPr b="0" lang="en-US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8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38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1325520"/>
            <a:ext cx="44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거듭남은 생명의 씨를 심는 것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689640" y="-1557720"/>
            <a:ext cx="172872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갈라디아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4:6&gt;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너희가 아들이므로 하나님이 그 아들의 영을 우리 마음 가운데 보내사 아빠 아버지라 부르게 하셨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1563120" y="4062240"/>
            <a:ext cx="48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3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거듭남은 하나님 나라에 이르는 문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724560" y="1178640"/>
            <a:ext cx="172872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3:5&gt;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예수께서 대답하시되 진실로 진실로 네게 이르노니 사람이 물과 성령으로 나지 아니하면 하나님의 나라에 들어갈 수 없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8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385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38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38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8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385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38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38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9280" y="981000"/>
            <a:ext cx="604836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B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가장 근본적인 삶의 변화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815280" y="-1215000"/>
            <a:ext cx="1513080" cy="864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로마서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4:8&gt;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우리가 살아도 주를 위하여 살고 죽어도 주를 위하여 죽나니 그러므로 사나 죽으나 우리가 주의 것이로다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1347840" y="1557360"/>
            <a:ext cx="4603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66"/>
              </a:buClr>
              <a:buFont typeface="HY견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거듭남은 삶의 목적이 변하는 것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4292640"/>
            <a:ext cx="8569080" cy="2087640"/>
          </a:xfrm>
          <a:prstGeom prst="rect">
            <a:avLst/>
          </a:prstGeom>
          <a:solidFill>
            <a:srgbClr val="83cd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  …</a:t>
            </a:r>
            <a:r>
              <a:rPr b="0" lang="ko-KR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방법에 있어서는 다소 잘못이 있어도 하나님께서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(</a:t>
            </a:r>
            <a:r>
              <a:rPr b="0" lang="ko-KR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그것은</a:t>
            </a:r>
            <a:r>
              <a:rPr b="0" lang="ko-KR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)</a:t>
            </a:r>
            <a:r>
              <a:rPr b="0" lang="ko-KR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용납하시지만</a:t>
            </a:r>
            <a:r>
              <a:rPr b="0" lang="ko-KR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, </a:t>
            </a:r>
            <a:r>
              <a:rPr b="0" lang="ko-KR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목적이 바꾸어지지 않으면 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구원을 받을 수가 없습니다</a:t>
            </a:r>
            <a:r>
              <a:rPr b="0" lang="ko-KR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85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385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38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38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3023280" y="-854640"/>
            <a:ext cx="3168360" cy="842472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여호수아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4:15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 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만일 여호와를 섬기는 것이 너희에게 좋지 않게 보이거든 너희 조상들이 강 저쪽에서 섬기던 신들이든지 또는 너희가 거주하는 땅에 있는 아모리 족속의 신들이든지 너희가 섬길 자를 오늘 택하라 오직 나와 내 집은 여호와를 섬기겠노라 하니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134000" y="1038240"/>
            <a:ext cx="39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목적은 곧바로 바꿀 수 있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4140000" y="1628640"/>
            <a:ext cx="1081080" cy="842472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에베소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4:23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오직 너희의 심령이 새롭게 되어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0920" y="1197000"/>
            <a:ext cx="8713800" cy="5472000"/>
          </a:xfrm>
          <a:prstGeom prst="roundRect">
            <a:avLst>
              <a:gd name="adj" fmla="val 10037"/>
            </a:avLst>
          </a:prstGeom>
          <a:solidFill>
            <a:srgbClr val="ffffff"/>
          </a:solidFill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ff3300"/>
                </a:solidFill>
                <a:latin typeface="HY견고딕"/>
                <a:ea typeface="HY견고딕"/>
              </a:rPr>
              <a:t>1. </a:t>
            </a:r>
            <a:r>
              <a:rPr b="0" lang="ko-KR" sz="2900" spc="-1" strike="noStrike">
                <a:solidFill>
                  <a:srgbClr val="ff3300"/>
                </a:solidFill>
                <a:latin typeface="HY견고딕"/>
                <a:ea typeface="HY견고딕"/>
              </a:rPr>
              <a:t>회 개</a:t>
            </a:r>
            <a:endParaRPr b="0" lang="en-US" sz="2900" spc="-1" strike="noStrike">
              <a:solidFill>
                <a:srgbClr val="000066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1)</a:t>
            </a: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구원에 이르는 회개 </a:t>
            </a: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- </a:t>
            </a: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주께로 돌아오는 </a:t>
            </a: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1</a:t>
            </a: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회적 회심</a:t>
            </a:r>
            <a:endParaRPr b="0" lang="en-US" sz="2500" spc="-1" strike="noStrike">
              <a:solidFill>
                <a:srgbClr val="000066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2)</a:t>
            </a: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성화를 위한 회개 </a:t>
            </a: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- </a:t>
            </a: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삶에서 계속되는 죄의 고백</a:t>
            </a: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(</a:t>
            </a: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자백</a:t>
            </a: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)</a:t>
            </a:r>
            <a:endParaRPr b="0" lang="en-US" sz="2500" spc="-1" strike="noStrike">
              <a:solidFill>
                <a:srgbClr val="000066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ff3300"/>
                </a:solidFill>
                <a:latin typeface="HY견고딕"/>
                <a:ea typeface="HY견고딕"/>
              </a:rPr>
              <a:t>2. </a:t>
            </a:r>
            <a:r>
              <a:rPr b="0" lang="ko-KR" sz="2900" spc="-1" strike="noStrike">
                <a:solidFill>
                  <a:srgbClr val="ff3300"/>
                </a:solidFill>
                <a:latin typeface="HY견고딕"/>
                <a:ea typeface="HY견고딕"/>
              </a:rPr>
              <a:t>믿 음</a:t>
            </a:r>
            <a:endParaRPr b="0" lang="en-US" sz="2900" spc="-1" strike="noStrike">
              <a:solidFill>
                <a:srgbClr val="000066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1)</a:t>
            </a: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구원에 이르는 믿음 </a:t>
            </a: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- </a:t>
            </a: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신앙고백인 믿음</a:t>
            </a:r>
            <a:endParaRPr b="0" lang="en-US" sz="2500" spc="-1" strike="noStrike">
              <a:solidFill>
                <a:srgbClr val="000066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2)</a:t>
            </a: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성장하는 믿음 </a:t>
            </a: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- </a:t>
            </a: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역사하는 믿음</a:t>
            </a:r>
            <a:endParaRPr b="0" lang="en-US" sz="2500" spc="-1" strike="noStrike">
              <a:solidFill>
                <a:srgbClr val="000066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ff3300"/>
                </a:solidFill>
                <a:latin typeface="HY견고딕"/>
                <a:ea typeface="HY견고딕"/>
              </a:rPr>
              <a:t>3. </a:t>
            </a:r>
            <a:r>
              <a:rPr b="0" lang="ko-KR" sz="2900" spc="-1" strike="noStrike">
                <a:solidFill>
                  <a:srgbClr val="ff3300"/>
                </a:solidFill>
                <a:latin typeface="HY견고딕"/>
                <a:ea typeface="HY견고딕"/>
              </a:rPr>
              <a:t>성 령</a:t>
            </a:r>
            <a:endParaRPr b="0" lang="en-US" sz="2900" spc="-1" strike="noStrike">
              <a:solidFill>
                <a:srgbClr val="000066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1)</a:t>
            </a: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구원으로 이끄시는 성령 </a:t>
            </a: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- </a:t>
            </a: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예수를 그리스도로 고백케</a:t>
            </a:r>
            <a:endParaRPr b="0" lang="en-US" sz="2500" spc="-1" strike="noStrike">
              <a:solidFill>
                <a:srgbClr val="000066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                                       </a:t>
            </a: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하는 성령</a:t>
            </a:r>
            <a:endParaRPr b="0" lang="en-US" sz="2500" spc="-1" strike="noStrike">
              <a:solidFill>
                <a:srgbClr val="000066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2)</a:t>
            </a: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확신케하는 성령 </a:t>
            </a: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- </a:t>
            </a:r>
            <a:r>
              <a:rPr b="0" lang="ko-KR" sz="2500" spc="-1" strike="noStrike">
                <a:solidFill>
                  <a:srgbClr val="660066"/>
                </a:solidFill>
                <a:latin typeface="HY견고딕"/>
                <a:ea typeface="HY견고딕"/>
              </a:rPr>
              <a:t>성령충만</a:t>
            </a:r>
            <a:endParaRPr b="0" lang="en-US" sz="25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Korea</cp:lastModifiedBy>
  <dcterms:modified xsi:type="dcterms:W3CDTF">2006-11-22T01:17:35Z</dcterms:modified>
  <cp:revision>281</cp:revision>
  <dc:subject/>
  <dc:title>PowerPoint 프레젠테이션</dc:title>
</cp:coreProperties>
</file>