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80F-DAC8-4686-A6E6-B8C9EDFA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F50-4151-4796-BF10-4ECAADE3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E1E-FE61-40D2-A6A7-1973A989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BAD-86FA-44CB-B2AB-8C82A237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9E4-0DF5-496B-A942-3F921E71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F28-DE77-4C35-AC04-748B8C6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0F9-5287-43B0-9163-545A8D31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A3E-3718-47C5-8B49-6CB313A0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EC2-69FD-4017-91FF-4CA6C4F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A07-E5C5-43C1-8B73-0F5A36F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52D-4D1B-4A2C-85BC-1AA56BE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CD1-D62C-4192-94B6-55FF6D9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664-45F0-4004-8F38-1839AF44AFC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-소망B"/>
              </a:rPr>
              <a:t>믿음의 길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-소망B"/>
              <a:ea typeface="-소망B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8000" y="33336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4. </a:t>
            </a:r>
            <a:r>
              <a:rPr b="1" lang="zh-CN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우리에게 보내주신 예수님을 통하여 알 수 있습니다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981000"/>
            <a:ext cx="183895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빌립보서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:6-7&gt; (6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는 근본 하나님의 본체시나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과 동등됨을 취할 것으로 여기지 아니하시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7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오히려 자기를 비워 종의 형체를 가지사 사람들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같이 되셨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복음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4:7&gt;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너희가 나를 알았더라면 내 아버지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알았으리로다 이제부터는 너희가 그를 알았고 또 보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느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요한복음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2:44-45&gt;  (44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예수께서 외쳐 이르시되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나를 믿는 자는 나를 믿는 것이 아니요 나를 보내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이를 믿는 것이며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45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나를 보는 자는 나를 보내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이를 보는 것이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413000"/>
            <a:ext cx="88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5. </a:t>
            </a:r>
            <a:r>
              <a:rPr b="1" lang="zh-CN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내 안에 역사 하시는 하나님을 경험합니다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521080"/>
            <a:ext cx="853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로마서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8:16&g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성령이 친히 우리의 영과 더불어 우리가 하나님의 자녀인 것을 증언하시나니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50864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- </a:t>
            </a:r>
            <a:r>
              <a:rPr b="1" lang="zh-CN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경험을 통한 확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12392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2133720"/>
            <a:ext cx="82821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Q1. 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당신은 하나님이 계심을 어떻게 확신할 수 있습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당신의 언어와 경험으로 말하여 보십시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24000" y="1844640"/>
            <a:ext cx="8496000" cy="3308040"/>
            <a:chOff x="324000" y="1844640"/>
            <a:chExt cx="8496000" cy="3308040"/>
          </a:xfrm>
        </p:grpSpPr>
        <p:sp>
          <p:nvSpPr>
            <p:cNvPr id="81" name=""/>
            <p:cNvSpPr/>
            <p:nvPr/>
          </p:nvSpPr>
          <p:spPr>
            <a:xfrm>
              <a:off x="324000" y="1844640"/>
              <a:ext cx="8496000" cy="33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184464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1844640"/>
              <a:ext cx="849600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buClr>
                  <a:srgbClr val="0000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성 경 말 씀 –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buClr>
                  <a:srgbClr val="0000cc"/>
                </a:buClr>
                <a:buFont typeface="-소망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“ </a:t>
              </a:r>
              <a:r>
                <a:rPr b="0" lang="zh-CN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태초에 하나님이 천지를 창조하시니라 ”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                           </a:t>
              </a:r>
              <a:r>
                <a:rPr b="0" lang="en-US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&lt;</a:t>
              </a:r>
              <a:r>
                <a:rPr b="0" lang="zh-CN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창세기 </a:t>
              </a:r>
              <a:r>
                <a:rPr b="0" lang="en-US" sz="32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1:1&gt;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24000" y="4653000"/>
            <a:ext cx="8496000" cy="1726200"/>
            <a:chOff x="324000" y="4653000"/>
            <a:chExt cx="8496000" cy="1726200"/>
          </a:xfrm>
        </p:grpSpPr>
        <p:sp>
          <p:nvSpPr>
            <p:cNvPr id="46" name=""/>
            <p:cNvSpPr/>
            <p:nvPr/>
          </p:nvSpPr>
          <p:spPr>
            <a:xfrm>
              <a:off x="324000" y="4653000"/>
              <a:ext cx="8496000" cy="17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" y="465300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4653000"/>
              <a:ext cx="8496000" cy="17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- </a:t>
              </a:r>
              <a:r>
                <a:rPr b="0" lang="zh-CN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성 경 말 씀 </a:t>
              </a: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   “ </a:t>
              </a:r>
              <a:r>
                <a:rPr b="0" lang="zh-CN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태초에 하나님이 천지를 창조하시니라 ”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                                  </a:t>
              </a: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&lt;</a:t>
              </a:r>
              <a:r>
                <a:rPr b="0" lang="zh-CN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창세기 </a:t>
              </a:r>
              <a:r>
                <a:rPr b="0" lang="en-US" sz="2800" spc="-1" strike="noStrike">
                  <a:solidFill>
                    <a:srgbClr val="0000cc"/>
                  </a:solidFill>
                  <a:latin typeface="-소망B"/>
                  <a:ea typeface="-소망B"/>
                </a:rPr>
                <a:t>1:1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547640" y="3213000"/>
            <a:ext cx="5904000" cy="720720"/>
            <a:chOff x="1547640" y="3213000"/>
            <a:chExt cx="5904000" cy="720720"/>
          </a:xfrm>
        </p:grpSpPr>
        <p:sp>
          <p:nvSpPr>
            <p:cNvPr id="50" name=""/>
            <p:cNvSpPr/>
            <p:nvPr/>
          </p:nvSpPr>
          <p:spPr>
            <a:xfrm>
              <a:off x="1547640" y="3214440"/>
              <a:ext cx="863640" cy="719280"/>
            </a:xfrm>
            <a:prstGeom prst="rect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0099"/>
                  </a:solidFill>
                  <a:latin typeface="Arial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2555640" y="3213000"/>
              <a:ext cx="4896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HY견고딕"/>
                </a:rPr>
                <a:t>하나님은 살아계십니다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  <a:ea typeface="HY견고딕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116000" y="744480"/>
            <a:ext cx="6912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부 믿음의 대상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권 하나님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(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제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1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위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, </a:t>
            </a:r>
            <a:r>
              <a:rPr b="0" lang="zh-CN" sz="4400" spc="-1" strike="noStrike">
                <a:solidFill>
                  <a:srgbClr val="660066"/>
                </a:solidFill>
                <a:latin typeface="-소망B"/>
                <a:ea typeface="-소망B"/>
              </a:rPr>
              <a:t>성부</a:t>
            </a:r>
            <a:r>
              <a:rPr b="0" lang="en-US" sz="4400" spc="-1" strike="noStrike">
                <a:solidFill>
                  <a:srgbClr val="660066"/>
                </a:solidFill>
                <a:latin typeface="-소망B"/>
                <a:ea typeface="-소망B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-청춘M"/>
                <a:ea typeface="-청춘M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38200" y="1125360"/>
            <a:ext cx="7850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당신은 하나님이 계심을 믿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3213000"/>
            <a:ext cx="8785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우리 주변에서 하나님이 계심을 믿지 못하는 사람들이 있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들이 하나님의 존재를 믿지 못하는 이유는 무엇입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들에게 하나님이 계심을 어떻게 설명하시겠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-청춘M"/>
                <a:ea typeface="-청춘M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-청춘M"/>
                <a:ea typeface="-청춘M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82560" y="550800"/>
            <a:ext cx="785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알기 위해 믿습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628640"/>
            <a:ext cx="8353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창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1:1,27&gt;  (1)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태초에 하나님이 천지를 창조하시니라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(27)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하나님이 자기 형상 곧 하나님의 형상대로 사람을 창조하시되 남자와 여자를 창조하시고 </a:t>
            </a:r>
            <a:br>
              <a:rPr sz="2800"/>
            </a:b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디모데전서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6:15-16&gt;  (15)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기약이 이르면 하나님이 그의 나타나심을 보이시리니 하나님은 복되시고 유일하신 주권자이시며 만왕의 왕이시며 만주의 주시요  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(16)</a:t>
            </a:r>
            <a:r>
              <a:rPr b="0" lang="ko-KR" sz="2800" spc="-1" strike="noStrike">
                <a:solidFill>
                  <a:srgbClr val="333399"/>
                </a:solidFill>
                <a:latin typeface="HY헤드라인M"/>
                <a:ea typeface="HY헤드라인M"/>
              </a:rPr>
              <a:t>오직 그에게만 죽지 아니함이 있고 가까이 가지 못할 빛에 거하시고 어떤 사람도 보지 못하였고 또 볼 수 없는 이시니 그에게 존귀와 영원한 권능을 돌릴지어다 아멘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738080" y="6113520"/>
            <a:ext cx="35258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- </a:t>
            </a:r>
            <a:r>
              <a:rPr b="0" lang="ko-KR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천지를 창조하신 초월적인 존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04640"/>
            <a:ext cx="785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하나님은 살아계십니다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933720"/>
            <a:ext cx="8353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히브리서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1:6&gt;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믿음이 없이는 하나님을 기쁘시게 하지 못하나니 하나님께 나아가는 자는 반드시 그가 계신 것과 또한 그가 자기를 찾는 자들에게 상 주시는 이심을 믿어야 할지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6560" y="1341360"/>
            <a:ext cx="8353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출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3:14&gt; 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나님이 모세에게 이르시되 나는 스스로 있는 자이니라 또 이르시되 너는 이스라엘 자손에게 이같이 이르기를 스스로 있는 자가 나를 너희에게 보내셨다 하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36572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- </a:t>
            </a:r>
            <a:r>
              <a:rPr b="1" lang="zh-CN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하나님은 스스로 있는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1341360"/>
            <a:ext cx="8353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시편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4:1&gt;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어리석은 자는 그의 마음에 이르기를 하나님이 없다 하는도다 그들은 부패하고 그 행실이 가증하니 선을 행하는 자가 없도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501336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- </a:t>
            </a:r>
            <a:r>
              <a:rPr b="1" lang="zh-CN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하나님은 살아계신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6560" y="765000"/>
            <a:ext cx="8353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시편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8:46&gt;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여호와는 살아 계시니 나의 반석을 찬송하며 내 구원의 하나님을 높일지로다 </a:t>
            </a:r>
            <a:br>
              <a:rPr sz="2800"/>
            </a:br>
            <a:br>
              <a:rPr sz="2800"/>
            </a:b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사무엘하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2:47&gt; </a:t>
            </a:r>
            <a:r>
              <a:rPr b="1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여호와의 사심을 두고 나의 반석을 찬송하며 내 구원의 반석이신 하나님을 높일지로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260280"/>
            <a:ext cx="835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하나님의 존재를 어떻게 알 수 있습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1. </a:t>
            </a:r>
            <a:r>
              <a:rPr b="1" lang="zh-CN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인간에게는 종교성이 있습니다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595600"/>
            <a:ext cx="853272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인간에게는 양심이 있습니다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로마서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:15&gt;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이런 이들은 그 양심이 증거가 되어 그 생각들이 서로 혹은 고발하며 혹은 변명하여 그 마음에 새긴 율법의 행위를 나타내느니라</a:t>
            </a:r>
            <a:r>
              <a:rPr b="0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양심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gt;</a:t>
            </a:r>
            <a:r>
              <a:rPr b="1" lang="zh-CN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은 우리 마음 속에 있는 하나님의 음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620640"/>
            <a:ext cx="88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3. </a:t>
            </a:r>
            <a:r>
              <a:rPr b="1" lang="zh-CN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온 우주에 있는 삼라만상을 봄으로 알 수 있습니다</a:t>
            </a:r>
            <a:r>
              <a:rPr b="1" lang="en-US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484280"/>
            <a:ext cx="85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로마서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:19-20&gt;  (19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이는 하나님을 알 만한 것이 그들 속에 보임이라 하나님께서 이를 그들에게 보이셨느니라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(20)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창세로부터 그의 보이지 아니하는 것들 곧 그의 영원하신 능력과 신성이 그가 만드신 만물에 분명히 보여 알려졌나니 그러므로 그들이 핑계하지 못할지니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&lt;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시편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19:1&gt; </a:t>
            </a:r>
            <a:r>
              <a:rPr b="0" lang="ko-KR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하늘이 하나님의 영광을 선포하고 궁창이 그의 손으로 하신 일을 나타내는도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22936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- </a:t>
            </a:r>
            <a:r>
              <a:rPr b="1" lang="zh-CN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우주의 조직과 질서</a:t>
            </a: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조화 속에서 하나님의 창조와 섭리</a:t>
            </a: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운행하심을 깨닫는다</a:t>
            </a:r>
            <a:r>
              <a:rPr b="1" lang="en-US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김준호</cp:lastModifiedBy>
  <dcterms:modified xsi:type="dcterms:W3CDTF">2006-02-28T05:54:36Z</dcterms:modified>
  <cp:revision>161</cp:revision>
  <dc:subject/>
  <dc:title>PowerPoint 프레젠테이션</dc:title>
</cp:coreProperties>
</file>