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8706-9CA4-43AB-9006-5BFE1AD2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7C5F-A03A-4F34-A250-FC3D7337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CAB-C45A-4FD4-944D-70867BE3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610E-6D4B-4AAB-810E-1AF6FE70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692360" y="0"/>
            <a:ext cx="7416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0130-475D-411C-94A5-9A42F275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750F-A723-4F5B-993F-9AD087D2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995E-C350-4FA8-B95D-80685C5A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A2F7-E148-4484-A887-41115A36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360" y="0"/>
            <a:ext cx="7416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C3F5-1740-41D8-A7CB-50D8AC25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A23-3928-4A93-95FE-BE046730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F76D-AF4C-4E0E-81E0-824670E2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5086-365A-4817-9CB2-598697F8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HY견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3" marL="16002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A376-23FA-46AD-A61F-29397B522306}" type="slidenum"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HY견고딕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328560" y="5119560"/>
            <a:ext cx="243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-소망B"/>
                <a:ea typeface="-소망B"/>
              </a:rPr>
              <a:t>행 복 한 교 회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195640" y="2492280"/>
            <a:ext cx="475272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-소망B"/>
              </a:rPr>
              <a:t>믿음의 길</a:t>
            </a:r>
            <a:endParaRPr b="0" lang="en-US" sz="32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-소망B"/>
              <a:ea typeface="-소망B"/>
            </a:endParaRPr>
          </a:p>
        </p:txBody>
      </p:sp>
      <p:sp>
        <p:nvSpPr>
          <p:cNvPr id="80" name=""/>
          <p:cNvSpPr/>
          <p:nvPr/>
        </p:nvSpPr>
        <p:spPr>
          <a:xfrm>
            <a:off x="2525400" y="185760"/>
            <a:ext cx="397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(한)문화방송"/>
                <a:ea typeface="(한)문화방송"/>
              </a:rPr>
              <a:t>삶의 가치를 향상 시켜주는 구원에 이르는</a:t>
            </a:r>
            <a:endParaRPr b="0" lang="en-US" sz="26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449880" y="3429000"/>
            <a:ext cx="24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&lt; </a:t>
            </a:r>
            <a:r>
              <a:rPr b="0" lang="zh-CN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확  신  편 </a:t>
            </a:r>
            <a:r>
              <a:rPr b="0" lang="en-US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&gt;</a:t>
            </a:r>
            <a:endParaRPr b="0" lang="en-US" sz="36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121400" y="907920"/>
            <a:ext cx="3675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3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죽음은 또 하나의 출생입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3816360" y="-1865160"/>
            <a:ext cx="1511280" cy="864216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누가복음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16:22&gt;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이에 그 거지가 죽어 천사들에게 받들려 아브라함의 품에 들어가고 부자도 죽어 장사되매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7800" y="3576600"/>
            <a:ext cx="8512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4.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죽음은 낡은 옷을 벗어버리고 새 옷을 입는 것과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같습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3528000" y="1303920"/>
            <a:ext cx="2087640" cy="864216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베드로후서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:13-14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13)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내가 이 장막에 있을 동안에 너희를 일깨워 생각나게 함이 옳은 줄로 여기노니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14)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이는 우리 주 예수 그리스도께서 내게 지시하신 것 같이 나도 나의 장막을 벗어날 것이 임박한 줄을 앎이라   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2352960" y="-157680"/>
            <a:ext cx="4508640" cy="871380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베드로전서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2:11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사랑하는 자들아 거류민과 나그네 같은 너희를 권하노니 영혼을 거슬러 싸우는 육체의 정욕을 제어하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사도행전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7:55-56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55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스데반이 성령 충만하여 하늘을 우러러 주목하여 하나님의 영광과 및 예수께서 하나님 우편에 서신 것을 보고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56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말하되 보라 하늘이 열리고 인자가 하나님 우편에 서신 것을 보노라 한대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268280"/>
            <a:ext cx="8512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5. </a:t>
            </a:r>
            <a:r>
              <a:rPr b="0" lang="ko-KR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죽음은 본향으로 가는 것입니다</a:t>
            </a:r>
            <a:r>
              <a:rPr b="0" lang="ko-KR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1341360"/>
            <a:ext cx="6192720" cy="7192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C.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죽음에 대한 성도의 자세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1503000" y="2405160"/>
            <a:ext cx="49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1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죽음과 삶을 같이 엮어서 해석해야 합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3671640" y="80640"/>
            <a:ext cx="1871640" cy="871380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전도서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12:7&gt;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흙은 여전히 땅으로 돌아가고 영은 그것을 주신 하나님께로 돌아가기 전에 기억하라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1609920" y="969840"/>
            <a:ext cx="54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살아도 좋고 죽어도 좋다는 담대한 믿음의 자세를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가집시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2213640" y="-116640"/>
            <a:ext cx="4753080" cy="896472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빌립보서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:20-25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20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나의 간절한 기대와 소망을 따라 아무 일에든지 부끄러워하지 아니하고 지금도 전과 같이 온전히 담대하여 살든지 죽든지 내 몸에서 그리스도가 존귀하게 되게 하려 하나니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21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이는 내게 사는 것이 그리스도니 죽는 것도 유익함이라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22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러나 만일 육신으로 사는 이것이 내 일의 열매일진대 무엇을 택해야 할는지 나는 알지 못하노라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23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내가 그 둘 사이에 끼었으니 차라리 세상을 떠나서 그리스도와 함께 있는 것이 훨씬 더 좋은 일이라 그렇게 하고 싶으나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24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내가 육신으로 있는 것이 너희를 위하여 더 유익하리라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25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내가 살 것과 너희 믿음의 진보와 기쁨을 위하여 너희 무리와 함께 거할 이것을 확실히 아노니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1003680" y="1109520"/>
            <a:ext cx="47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*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예수님께서 먼저 재림하시면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(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계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22:20)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3888000" y="1377000"/>
            <a:ext cx="144000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누가복음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23:46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예수께서 큰 소리로 불러 이르시되 아버지 내 영혼을 아버지 손에 부탁하나이다 하고 이 말씀을 하신 후 숨지시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1101240" y="4205160"/>
            <a:ext cx="47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*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내가 먼저 하나님 나라 가면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(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눅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23:46)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3888000" y="-1646640"/>
            <a:ext cx="144000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계시록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22:20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이것들을 증언하신 이가 이르시되 내가 진실로 속히 오리라 하시거늘 아멘 주 예수여 오시옵소서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1204920" y="2060640"/>
            <a:ext cx="44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3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우리 모두는 죽음을 준비해야 합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3707640" y="-604080"/>
            <a:ext cx="1728720" cy="878544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마태복음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24:44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이러므로 너희도 준비하고 있으라 생각하지 않은 때에 인자가 오리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02920" y="-27000"/>
            <a:ext cx="4537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-청춘M"/>
                <a:ea typeface="-청춘M"/>
              </a:rPr>
              <a:t>▣ </a:t>
            </a:r>
            <a:r>
              <a:rPr b="1" lang="zh-CN" sz="5600" spc="-1" strike="noStrike">
                <a:solidFill>
                  <a:srgbClr val="ffffff"/>
                </a:solidFill>
                <a:latin typeface="-청춘M"/>
                <a:ea typeface="-청춘M"/>
              </a:rPr>
              <a:t>생각열기</a:t>
            </a:r>
            <a:endParaRPr b="0" lang="en-US" sz="56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098720"/>
            <a:ext cx="86040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Q1.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죽음에 대해 각자 나름대로 정의해 보십시오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Q2.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죽어가는 이의 모습을 직접 본 적이 있습니까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?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특히 가까운 이의 경우는 없었습니까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?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그때의 모습과 느낀 점은 무엇입니까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Q3.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나에게도 과연 죽음이 다가올 것이라고 실감됩니까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?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언제쯤 어떻게 임할 것 같습니까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Q4.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지금 이시간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,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혹은 바로 얼마 후에 죽는다고 한다면 무엇을 어떻게 할 것입니까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Q5.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죽음이 두렵습니까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?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두렵다면 왜 그렇게 느끼십니까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Q6.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만일 내가 오늘밤 이세상을 떠난다면 그것이 많은 사람들에게 큰 손실이 될 것이라고 생각됩니까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?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Q7.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하나님 앞에서 기쁜 마음으로 설 자신이 있습니까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?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그 이유는 무엇입니까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?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그렇다면 나는 지금 무엇을 어떻게 해야 할까요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050920" y="63360"/>
            <a:ext cx="263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-소망B"/>
                <a:ea typeface="-소망B"/>
              </a:rPr>
              <a:t>- </a:t>
            </a:r>
            <a:r>
              <a:rPr b="0" lang="zh-CN" sz="4000" spc="-1" strike="noStrike">
                <a:solidFill>
                  <a:srgbClr val="ffffff"/>
                </a:solidFill>
                <a:latin typeface="-소망B"/>
                <a:ea typeface="-소망B"/>
              </a:rPr>
              <a:t>외 울 말 씀 </a:t>
            </a:r>
            <a:r>
              <a:rPr b="0" lang="en-US" sz="4000" spc="-1" strike="noStrike">
                <a:solidFill>
                  <a:srgbClr val="ffffff"/>
                </a:solidFill>
                <a:latin typeface="-소망B"/>
                <a:ea typeface="-소망B"/>
              </a:rPr>
              <a:t>-</a:t>
            </a:r>
            <a:endParaRPr b="0" lang="en-US" sz="4000" spc="-1" strike="noStrike">
              <a:solidFill>
                <a:srgbClr val="000066"/>
              </a:solidFill>
              <a:latin typeface="굴림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44360" y="2016000"/>
            <a:ext cx="8820360" cy="4214880"/>
            <a:chOff x="144360" y="2016000"/>
            <a:chExt cx="8820360" cy="4214880"/>
          </a:xfrm>
        </p:grpSpPr>
        <p:sp>
          <p:nvSpPr>
            <p:cNvPr id="135" name=""/>
            <p:cNvSpPr/>
            <p:nvPr/>
          </p:nvSpPr>
          <p:spPr>
            <a:xfrm>
              <a:off x="144360" y="2016000"/>
              <a:ext cx="8820360" cy="42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4360" y="2016000"/>
              <a:ext cx="8820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4360" y="2016000"/>
              <a:ext cx="8820360" cy="41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“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1)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너희는 마음에 근심하지 말라 하나님을 믿으니 또 나를 믿으라 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2)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내 아버지 집에 거할 곳이 많도다 그렇지 않으면 너희에게 일렀으리라 내가 너희를 위하여 거처를 예비하러 가노니 </a:t>
              </a:r>
              <a:br>
                <a:rPr sz="2400"/>
              </a:b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3)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가서 너희를 위하여 거처를 예비하면 내가 다시 와서 너희를 내게로 영접하여 나 있는 곳에 너희도 있게 하리라 ” 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                                      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&lt;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요한복음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14:1-3&gt;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-243000"/>
            <a:ext cx="835344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-소망B"/>
                <a:ea typeface="-소망B"/>
              </a:rPr>
              <a:t>   </a:t>
            </a:r>
            <a:r>
              <a:rPr b="0" lang="zh-CN" sz="4400" spc="-1" strike="noStrike">
                <a:solidFill>
                  <a:srgbClr val="ffffff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ffffff"/>
                </a:solidFill>
                <a:latin typeface="-소망B"/>
                <a:ea typeface="-소망B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-소망B"/>
                <a:ea typeface="-소망B"/>
              </a:rPr>
              <a:t>부 믿음의 기초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5f5f5f"/>
                </a:solidFill>
                <a:latin typeface="-소망B"/>
                <a:ea typeface="-소망B"/>
              </a:rPr>
              <a:t>4</a:t>
            </a:r>
            <a:r>
              <a:rPr b="0" lang="zh-CN" sz="4400" spc="-1" strike="noStrike">
                <a:solidFill>
                  <a:srgbClr val="5f5f5f"/>
                </a:solidFill>
                <a:latin typeface="-소망B"/>
                <a:ea typeface="-소망B"/>
              </a:rPr>
              <a:t>권 구원에 이르는 믿음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44360" y="2952720"/>
            <a:ext cx="8820360" cy="4214880"/>
            <a:chOff x="144360" y="2952720"/>
            <a:chExt cx="8820360" cy="4214880"/>
          </a:xfrm>
        </p:grpSpPr>
        <p:sp>
          <p:nvSpPr>
            <p:cNvPr id="84" name=""/>
            <p:cNvSpPr/>
            <p:nvPr/>
          </p:nvSpPr>
          <p:spPr>
            <a:xfrm>
              <a:off x="144360" y="2952720"/>
              <a:ext cx="8820360" cy="42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4360" y="2952720"/>
              <a:ext cx="8820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44360" y="2952720"/>
              <a:ext cx="8820360" cy="41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-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성 경 말 씀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-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“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1)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너희는 마음에 근심하지 말라 하나님을 믿으니 또 나를 믿으라 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2)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내 아버지 집에 거할 곳이 많도다 그렇지 않으면 너희에게 일렀으리라 내가 너희를 위하여 거처를 예비하러 가노니 </a:t>
              </a:r>
              <a:br>
                <a:rPr sz="2400"/>
              </a:b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3)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가서 너희를 위하여 거처를 예비하면 내가 다시 와서 너희를 내게로 영접하여 나 있는 곳에 너희도 있게 하리라” 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                                       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&lt;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요한복음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14:1-3&gt;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547640" y="44280"/>
            <a:ext cx="863640" cy="719280"/>
          </a:xfrm>
          <a:prstGeom prst="rect">
            <a:avLst/>
          </a:prstGeom>
          <a:noFill/>
          <a:ln w="28440">
            <a:solidFill>
              <a:srgbClr val="af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19</a:t>
            </a:r>
            <a:endParaRPr b="0" lang="en-US" sz="40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47920" y="2060640"/>
            <a:ext cx="61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제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3</a:t>
            </a: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과 영생으로 들어가는 죽음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Y견고딕"/>
              <a:ea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22280" y="0"/>
            <a:ext cx="3554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-청춘M"/>
                <a:ea typeface="-청춘M"/>
              </a:rPr>
              <a:t> ▣ </a:t>
            </a:r>
            <a:r>
              <a:rPr b="1" lang="zh-CN" sz="5400" spc="-1" strike="noStrike">
                <a:solidFill>
                  <a:srgbClr val="ffffff"/>
                </a:solidFill>
                <a:latin typeface="-청춘M"/>
                <a:ea typeface="-청춘M"/>
              </a:rPr>
              <a:t>마음열기</a:t>
            </a:r>
            <a:endParaRPr b="0" lang="en-US" sz="5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062080"/>
            <a:ext cx="82072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484200">
              <a:lnSpc>
                <a:spcPct val="150000"/>
              </a:lnSpc>
              <a:buClr>
                <a:srgbClr val="ccccff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108000" y="1916280"/>
            <a:ext cx="8964720" cy="4392360"/>
          </a:xfrm>
          <a:prstGeom prst="roundRect">
            <a:avLst>
              <a:gd name="adj" fmla="val 10037"/>
            </a:avLst>
          </a:prstGeom>
          <a:solidFill>
            <a:srgbClr val="ffffff"/>
          </a:solidFill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Q1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우리가 언제부터 죽음을 준비하면 좋겠습니까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Q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죽음이란 무엇입니까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Q3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죽음에 대한 태도는 삶에서 어떻게 나타납니까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22280" y="0"/>
            <a:ext cx="3554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-청춘M"/>
                <a:ea typeface="-청춘M"/>
              </a:rPr>
              <a:t> ▣ </a:t>
            </a:r>
            <a:r>
              <a:rPr b="1" lang="zh-CN" sz="5400" spc="-1" strike="noStrike">
                <a:solidFill>
                  <a:srgbClr val="ffffff"/>
                </a:solidFill>
                <a:latin typeface="-청춘M"/>
                <a:ea typeface="-청춘M"/>
              </a:rPr>
              <a:t>말씀열기</a:t>
            </a:r>
            <a:endParaRPr b="0" lang="en-US" sz="5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106200" y="1125360"/>
            <a:ext cx="5186520" cy="7192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A.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인간은 불멸합니다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2520000" y="295920"/>
            <a:ext cx="4103640" cy="864216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마가복음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12:26-27&gt;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(26) 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죽은 자가 살아난다는 것을 말할진대 너희가 모세의 책 중 가시나무 떨기에 관한 글에 하나님께서 모세에게 이르시되 나는 아브라함의 하나님이요 이삭의 하나님이요 야곱의 하나님이로라 하신 말씀을 읽어보지 못하였느냐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(27) 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하나님은 죽은 자의 하나님이 아니요 산 자의 하나님이시라 너희가 크게 오해하였도다 하시니라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882360" y="1916280"/>
            <a:ext cx="26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1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물질은 불멸합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8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385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38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38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46640" y="1614600"/>
            <a:ext cx="556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하나님과의 교제는 영원한 생명의 기초가 됩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2645280" y="241920"/>
            <a:ext cx="3887640" cy="867708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히브리서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1:5&gt; 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믿음으로 에녹은 죽음을 보지 않고 옮겨졌으니 하나님이 그를 옮기심으로 다시 보이지 아니하였느니라 그는 옮겨지기 전에 하나님을 기쁘시게 하는 자라 하는 증거를 받았느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창세기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5:24&gt;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에녹이 하나님과 동행하더니 하나님이 그를 데려가시므로 세상에 있지 아니하였더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85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385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38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38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50800" y="1052640"/>
            <a:ext cx="18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3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영생의 개념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3976920" y="-2169000"/>
            <a:ext cx="1224000" cy="867708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복음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7:3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영생은 곧 유일하신 참 하나님과 그가 보내신 자 예수 그리스도를 아는 것이니이다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2771640" y="475920"/>
            <a:ext cx="3671640" cy="871380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요한복음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11:25-26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25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예수께서 이르시되 나는 부활이요 생명이니 나를 믿는 자는 죽어도 살겠고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26) 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무릇 살아서 나를 믿는 자는 영원히 죽지 아니하리니 이것을 네가 믿느냐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 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요한복음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5:24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내가 진실로 진실로 너희에게 이르노니 내 말을 듣고 또 나 보내신 이를 믿는 자는 영생을 얻었고 심판에 이르지 아니하나니 사망에서 생명으로 옮겼느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8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385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 rot="5400000">
            <a:off x="2410920" y="-315720"/>
            <a:ext cx="4392720" cy="871380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복음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4:1-3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1)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너희는 마음에 근심하지 말라 하나님을 믿으니 또 나를 믿으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2)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내 아버지 집에 거할 곳이 많도다 그렇지 않으면 너희에게 일렀으리라 내가 너희를 위하여 거처를 예비하러 가노니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3)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가서 너희를 위하여 거처를 예비하면 내가 다시 와서 너희를 내게로 영접하여 나 있는 곳에 너희도 있게 하리라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4920" y="1125360"/>
            <a:ext cx="5400720" cy="7192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B.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죽음의 성서적 의미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3456000" y="296640"/>
            <a:ext cx="2232000" cy="864216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마태복음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9:24&gt;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이르시되 물러가라 이 소녀가 죽은 것이 아니라 잔다 하시니 그들이 비웃더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894960" y="2263680"/>
            <a:ext cx="3137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66"/>
              </a:buClr>
              <a:buFont typeface="HY견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죽음이란 자는 것입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38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38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16000" y="-207720"/>
            <a:ext cx="5111640" cy="864216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000" spc="-1" strike="noStrike">
                <a:solidFill>
                  <a:srgbClr val="3333cc"/>
                </a:solidFill>
                <a:latin typeface="HY견고딕"/>
                <a:ea typeface="HY견고딕"/>
              </a:rPr>
              <a:t>마태복음</a:t>
            </a:r>
            <a:r>
              <a:rPr b="0" lang="ko-KR" sz="2000" spc="-1" strike="noStrike">
                <a:solidFill>
                  <a:srgbClr val="3333cc"/>
                </a:solidFill>
                <a:latin typeface="HY견고딕"/>
                <a:ea typeface="HY견고딕"/>
              </a:rPr>
              <a:t>25:1-13&gt;</a:t>
            </a:r>
            <a:endParaRPr b="0" lang="en-US" sz="20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000" spc="-1" strike="noStrike">
                <a:solidFill>
                  <a:srgbClr val="3333cc"/>
                </a:solidFill>
                <a:latin typeface="HY견고딕"/>
                <a:ea typeface="HY견고딕"/>
              </a:rPr>
              <a:t>(1)</a:t>
            </a:r>
            <a:r>
              <a:rPr b="0" lang="ko-KR" sz="2000" spc="-1" strike="noStrike">
                <a:solidFill>
                  <a:srgbClr val="3333cc"/>
                </a:solidFill>
                <a:latin typeface="HY견고딕"/>
                <a:ea typeface="HY견고딕"/>
              </a:rPr>
              <a:t>그 때에 천국은 마치 등을 들고 신랑을 맞으러 나간 열 처녀와 같다 하리니  </a:t>
            </a:r>
            <a:r>
              <a:rPr b="0" lang="ko-KR" sz="2000" spc="-1" strike="noStrike">
                <a:solidFill>
                  <a:srgbClr val="3333cc"/>
                </a:solidFill>
                <a:latin typeface="HY견고딕"/>
                <a:ea typeface="HY견고딕"/>
              </a:rPr>
              <a:t>(2)</a:t>
            </a:r>
            <a:r>
              <a:rPr b="0" lang="ko-KR" sz="2000" spc="-1" strike="noStrike">
                <a:solidFill>
                  <a:srgbClr val="3333cc"/>
                </a:solidFill>
                <a:latin typeface="HY견고딕"/>
                <a:ea typeface="HY견고딕"/>
              </a:rPr>
              <a:t>그 중의 다섯은 미련하고 다섯은 슬기 있는 자라 </a:t>
            </a:r>
            <a:r>
              <a:rPr b="0" lang="ko-KR" sz="2000" spc="-1" strike="noStrike">
                <a:solidFill>
                  <a:srgbClr val="3333cc"/>
                </a:solidFill>
                <a:latin typeface="HY견고딕"/>
                <a:ea typeface="HY견고딕"/>
              </a:rPr>
              <a:t>(3)</a:t>
            </a:r>
            <a:r>
              <a:rPr b="0" lang="ko-KR" sz="2000" spc="-1" strike="noStrike">
                <a:solidFill>
                  <a:srgbClr val="3333cc"/>
                </a:solidFill>
                <a:latin typeface="HY견고딕"/>
                <a:ea typeface="HY견고딕"/>
              </a:rPr>
              <a:t>미련한 자들은 등을 가지되 기름을 가지지 아니하고  </a:t>
            </a:r>
            <a:r>
              <a:rPr b="0" lang="ko-KR" sz="2000" spc="-1" strike="noStrike">
                <a:solidFill>
                  <a:srgbClr val="3333cc"/>
                </a:solidFill>
                <a:latin typeface="HY견고딕"/>
                <a:ea typeface="HY견고딕"/>
              </a:rPr>
              <a:t>(4)</a:t>
            </a:r>
            <a:r>
              <a:rPr b="0" lang="ko-KR" sz="2000" spc="-1" strike="noStrike">
                <a:solidFill>
                  <a:srgbClr val="3333cc"/>
                </a:solidFill>
                <a:latin typeface="HY견고딕"/>
                <a:ea typeface="HY견고딕"/>
              </a:rPr>
              <a:t>슬기 있는 자들은 그릇에 기름을 담아 등과 함께 가져갔더니  </a:t>
            </a:r>
            <a:r>
              <a:rPr b="0" lang="ko-KR" sz="2000" spc="-1" strike="noStrike">
                <a:solidFill>
                  <a:srgbClr val="3333cc"/>
                </a:solidFill>
                <a:latin typeface="HY견고딕"/>
                <a:ea typeface="HY견고딕"/>
              </a:rPr>
              <a:t>(5)</a:t>
            </a:r>
            <a:r>
              <a:rPr b="0" lang="ko-KR" sz="2000" spc="-1" strike="noStrike">
                <a:solidFill>
                  <a:srgbClr val="3333cc"/>
                </a:solidFill>
                <a:latin typeface="HY견고딕"/>
                <a:ea typeface="HY견고딕"/>
              </a:rPr>
              <a:t>신랑이 더디 오므로 다 졸며 잘새  </a:t>
            </a:r>
            <a:r>
              <a:rPr b="0" lang="ko-KR" sz="2000" spc="-1" strike="noStrike">
                <a:solidFill>
                  <a:srgbClr val="3333cc"/>
                </a:solidFill>
                <a:latin typeface="HY견고딕"/>
                <a:ea typeface="HY견고딕"/>
              </a:rPr>
              <a:t>(6)</a:t>
            </a:r>
            <a:r>
              <a:rPr b="0" lang="ko-KR" sz="2000" spc="-1" strike="noStrike">
                <a:solidFill>
                  <a:srgbClr val="3333cc"/>
                </a:solidFill>
                <a:latin typeface="HY견고딕"/>
                <a:ea typeface="HY견고딕"/>
              </a:rPr>
              <a:t>밤중에 소리가 나되 보라 신랑이로다 맞으러 나오라 하매  </a:t>
            </a:r>
            <a:r>
              <a:rPr b="0" lang="ko-KR" sz="2000" spc="-1" strike="noStrike">
                <a:solidFill>
                  <a:srgbClr val="3333cc"/>
                </a:solidFill>
                <a:latin typeface="HY견고딕"/>
                <a:ea typeface="HY견고딕"/>
              </a:rPr>
              <a:t>(7)</a:t>
            </a:r>
            <a:r>
              <a:rPr b="0" lang="ko-KR" sz="2000" spc="-1" strike="noStrike">
                <a:solidFill>
                  <a:srgbClr val="3333cc"/>
                </a:solidFill>
                <a:latin typeface="HY견고딕"/>
                <a:ea typeface="HY견고딕"/>
              </a:rPr>
              <a:t>이에 그 처녀들이 다 일어나 등을 준비할새  </a:t>
            </a:r>
            <a:r>
              <a:rPr b="0" lang="ko-KR" sz="2000" spc="-1" strike="noStrike">
                <a:solidFill>
                  <a:srgbClr val="3333cc"/>
                </a:solidFill>
                <a:latin typeface="HY견고딕"/>
                <a:ea typeface="HY견고딕"/>
              </a:rPr>
              <a:t>(8)</a:t>
            </a:r>
            <a:r>
              <a:rPr b="0" lang="ko-KR" sz="2000" spc="-1" strike="noStrike">
                <a:solidFill>
                  <a:srgbClr val="3333cc"/>
                </a:solidFill>
                <a:latin typeface="HY견고딕"/>
                <a:ea typeface="HY견고딕"/>
              </a:rPr>
              <a:t>미련한 자들이 슬기 있는 자들에게 이르되 우리 등불이 꺼져가니 너희 기름을 좀 나눠 달라 하거늘  </a:t>
            </a:r>
            <a:r>
              <a:rPr b="0" lang="ko-KR" sz="2000" spc="-1" strike="noStrike">
                <a:solidFill>
                  <a:srgbClr val="3333cc"/>
                </a:solidFill>
                <a:latin typeface="HY견고딕"/>
                <a:ea typeface="HY견고딕"/>
              </a:rPr>
              <a:t>(9)</a:t>
            </a:r>
            <a:r>
              <a:rPr b="0" lang="ko-KR" sz="2000" spc="-1" strike="noStrike">
                <a:solidFill>
                  <a:srgbClr val="3333cc"/>
                </a:solidFill>
                <a:latin typeface="HY견고딕"/>
                <a:ea typeface="HY견고딕"/>
              </a:rPr>
              <a:t>슬기 있는 자들이 대답하여 이르되 우리와 너희가 쓰기에 다 부족할까 하노니 차라리 파는 자들에게 가서 너희 쓸 것을 사라 하니  </a:t>
            </a:r>
            <a:r>
              <a:rPr b="0" lang="ko-KR" sz="2000" spc="-1" strike="noStrike">
                <a:solidFill>
                  <a:srgbClr val="3333cc"/>
                </a:solidFill>
                <a:latin typeface="HY견고딕"/>
                <a:ea typeface="HY견고딕"/>
              </a:rPr>
              <a:t>(10)</a:t>
            </a:r>
            <a:r>
              <a:rPr b="0" lang="ko-KR" sz="20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들이 사러 간 사이에 신랑이 오므로 준비하였던 자들은 함께 혼인 잔치에 들어가고 문은 닫힌지라  </a:t>
            </a:r>
            <a:r>
              <a:rPr b="0" lang="ko-KR" sz="2000" spc="-1" strike="noStrike">
                <a:solidFill>
                  <a:srgbClr val="3333cc"/>
                </a:solidFill>
                <a:latin typeface="HY견고딕"/>
                <a:ea typeface="HY견고딕"/>
              </a:rPr>
              <a:t>(11)</a:t>
            </a:r>
            <a:r>
              <a:rPr b="0" lang="ko-KR" sz="2000" spc="-1" strike="noStrike">
                <a:solidFill>
                  <a:srgbClr val="3333cc"/>
                </a:solidFill>
                <a:latin typeface="HY견고딕"/>
                <a:ea typeface="HY견고딕"/>
              </a:rPr>
              <a:t>그 후에 남은 처녀들이 와서 이르되 주여 주여 우리에게 열어 주소서  </a:t>
            </a:r>
            <a:r>
              <a:rPr b="0" lang="ko-KR" sz="2000" spc="-1" strike="noStrike">
                <a:solidFill>
                  <a:srgbClr val="3333cc"/>
                </a:solidFill>
                <a:latin typeface="HY견고딕"/>
                <a:ea typeface="HY견고딕"/>
              </a:rPr>
              <a:t>(12)</a:t>
            </a:r>
            <a:r>
              <a:rPr b="0" lang="ko-KR" sz="2000" spc="-1" strike="noStrike">
                <a:solidFill>
                  <a:srgbClr val="3333cc"/>
                </a:solidFill>
                <a:latin typeface="HY견고딕"/>
                <a:ea typeface="HY견고딕"/>
              </a:rPr>
              <a:t>대답하여 이르되 진실로 너희에게 이르노니 내가 너희를 알지 못하노라 하였느니라  </a:t>
            </a:r>
            <a:r>
              <a:rPr b="0" lang="ko-KR" sz="2000" spc="-1" strike="noStrike">
                <a:solidFill>
                  <a:srgbClr val="3333cc"/>
                </a:solidFill>
                <a:latin typeface="HY견고딕"/>
                <a:ea typeface="HY견고딕"/>
              </a:rPr>
              <a:t>(13)</a:t>
            </a:r>
            <a:r>
              <a:rPr b="0" lang="ko-KR" sz="20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런즉 깨어 있으라 너희는 그 날과 그 때를 알지 못하느니라 </a:t>
            </a:r>
            <a:endParaRPr b="0" lang="en-US" sz="20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810360" y="981000"/>
            <a:ext cx="284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죽음은 결혼식입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2:02:15Z</dcterms:created>
  <dc:creator>kjh</dc:creator>
  <dc:description/>
  <dc:language>en-US</dc:language>
  <cp:lastModifiedBy>Korea</cp:lastModifiedBy>
  <dcterms:modified xsi:type="dcterms:W3CDTF">2006-10-25T04:08:30Z</dcterms:modified>
  <cp:revision>270</cp:revision>
  <dc:subject/>
  <dc:title>PowerPoint 프레젠테이션</dc:title>
</cp:coreProperties>
</file>