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AAF-5ED3-4D1D-B3BB-D08DDDF8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623-1148-4AA7-B1E3-4DED927E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BFB-105F-4B77-AE72-DA292FD6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44D-7343-42FB-B8BE-404DE208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462-E108-43AC-B324-41A6B53D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09F-BF60-4718-8E6D-BCB995C8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F14-46B3-4732-9E40-CE61895C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549-C855-41F8-A4C3-AD58B03C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20E-54ED-42C1-9145-7B634C62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7F3-2CF2-4CF4-831A-AB37B68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C0D-6EFE-4335-9519-238402EF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221-8DBC-493F-BE86-8D25EE4C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07E5-615E-4BD5-AB09-CFFFA8E64ED4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602720" y="1262160"/>
            <a:ext cx="5439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영원한 생명을 얻으며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하늘나라에서 후사로서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유업을 상속받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024000" y="223920"/>
            <a:ext cx="309564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1:25-26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25) 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이르시되 나는 부활이요 생명이니 나를 믿는 자는 죽어도 살겠고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26) 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무릇 살아서 나를 믿는 자는 영원히 죽지 아니하리니 이것을 네가 믿느냐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1884600" y="-365760"/>
            <a:ext cx="544536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베드로전서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1:3-4&gt;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(3) 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 주 예수 그리스도의 아버지 하나님을 찬송하리로다 그의 많으신 긍휼대로 예수 그리스도를 죽은 자 가운데서 부활하게 하심으로 말미암아 우리를 거듭나게 하사 산 소망이 있게 하시며 </a:t>
            </a:r>
            <a:br>
              <a:rPr sz="2600"/>
            </a:b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(4) 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썩지 않고 더럽지 않고 쇠하지 아니하는 유업을 잇게 하시나니 곧 너희를 위하여 하늘에 간직하신 것이라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br>
              <a:rPr sz="2600"/>
            </a:b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1:18&gt;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 마음의 눈을 밝히사 그의 부르심의 소망이 무엇이며 성도 안에서 그 기업의 영광의 풍성함이 무엇이며 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779280" y="-820800"/>
            <a:ext cx="151308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현재적 측면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: 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2:28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러나 내가 하나님의 성령을 힘입어 귀신을 쫓아내는 것이면 하나님의 나라가 이미 너희에게 임하였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08000" y="1125360"/>
            <a:ext cx="511164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C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영원한 천국과 지옥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937800" y="206064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천국은 어떤 곳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3563640" y="1195200"/>
            <a:ext cx="208728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미래적 측면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: 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베드로후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10-11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10)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러므로 형제들아 더욱 힘써 너희 부르심과 택하심을 굳게 하라 너희가 이것을 행한즉 언제든지 실족하지 아니하리라 </a:t>
            </a:r>
            <a:br>
              <a:rPr sz="2400"/>
            </a:b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(11)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이같이 하면 우리 주 곧 구주 예수 그리스도의 영원한 나라에 들어감을 넉넉히 너희에게 주시리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2610720" y="-837360"/>
            <a:ext cx="3959280" cy="8748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계시록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20:11-15&gt;</a:t>
            </a:r>
            <a:endParaRPr b="0" lang="en-US" sz="2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(11)</a:t>
            </a: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또 내가 크고 흰 보좌와 그 위에 앉으신 이를 보니 땅과 하늘이 그 앞에서 피하여 간 데 없더라 </a:t>
            </a:r>
            <a:br>
              <a:rPr sz="2200"/>
            </a:b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(12)</a:t>
            </a: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또 내가 보니 죽은 자들이 큰 자나 작은 자나 그 보좌 앞에 서 있는데 책들이 펴 있고 또 다른 책이 펴졌으니 곧 생명책이라 죽은 자들이 자기 행위를 따라 책들에 기록된 대로 심판을 받으니 </a:t>
            </a:r>
            <a:br>
              <a:rPr sz="2200"/>
            </a:b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(13)</a:t>
            </a: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바다가 그 가운데에서 죽은 자들을 내주고 또 사망과 음부도 그 가운데에서 죽은 자들을 내주매 각 사람이 자기의 행위대로 심판을 받고 </a:t>
            </a:r>
            <a:br>
              <a:rPr sz="2200"/>
            </a:b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(14)</a:t>
            </a: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사망과 음부도 불못에 던져지니 이것은 둘째 사망 곧 불못이라 </a:t>
            </a:r>
            <a:br>
              <a:rPr sz="2200"/>
            </a:b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(15)</a:t>
            </a:r>
            <a:r>
              <a:rPr b="0" lang="ko-KR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누구든지 생명책에 기록되지 못한 자는 불못에 던져지더라 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65520" y="1038240"/>
            <a:ext cx="35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지옥의 불을 생각해보십시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080960" y="1830240"/>
            <a:ext cx="105264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en-US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3:12&gt; </a:t>
            </a:r>
            <a:r>
              <a:rPr b="0" lang="zh-CN" sz="2200" spc="-1" strike="noStrike">
                <a:solidFill>
                  <a:srgbClr val="000066"/>
                </a:solidFill>
                <a:latin typeface="HY견고딕"/>
                <a:ea typeface="HY견고딕"/>
              </a:rPr>
              <a:t>손에 키를 들고 자기의 타작 마당을 정하게 하사 알곡은 모아 곳간에 들이고 쭉정이는 꺼지지 않는 불에 태우시리라 </a:t>
            </a:r>
            <a:endParaRPr b="0" lang="en-US" sz="22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484280"/>
            <a:ext cx="86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예수를 믿고 거듭나는 순간 이미 천국은 시작된 것입니다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당신의 마음과 삶은 하나님이 지배하시는 천국입니까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아니면 아직도 지옥입니까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 495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장 찬송가 가사를 생각하며 불러보십시오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만일에 지옥이 없다면 반드시 예수 믿으라고 할 필요가 없습니다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또한 그렇게 애써 전도할 이유도 없는 것입니다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러나 참으로 지옥과 천당이 있다면 우리는 정말 어떻게 해야 할 것입니까</a:t>
            </a: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24000" y="1989000"/>
            <a:ext cx="8496000" cy="4528800"/>
            <a:chOff x="324000" y="1989000"/>
            <a:chExt cx="8496000" cy="4528800"/>
          </a:xfrm>
        </p:grpSpPr>
        <p:sp>
          <p:nvSpPr>
            <p:cNvPr id="129" name=""/>
            <p:cNvSpPr/>
            <p:nvPr/>
          </p:nvSpPr>
          <p:spPr>
            <a:xfrm>
              <a:off x="324000" y="1989000"/>
              <a:ext cx="8496000" cy="45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000" y="1989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000" y="1989000"/>
              <a:ext cx="8496000" cy="44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25) 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예수께서 이르시되 나는 부활이요 생명이니 나를 믿는 자는 죽어도 살겠고 </a:t>
              </a:r>
              <a:br>
                <a:rPr sz="2800"/>
              </a:b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26) 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무릇 살아서 나를 믿는 자는 영원히 죽지 아니하리니 이것을 네가 믿느냐 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요한복음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11:25-26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-243000"/>
            <a:ext cx="83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4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에 이르는 믿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00" y="2852640"/>
            <a:ext cx="8496000" cy="3666600"/>
            <a:chOff x="324000" y="2852640"/>
            <a:chExt cx="8496000" cy="3666600"/>
          </a:xfrm>
        </p:grpSpPr>
        <p:sp>
          <p:nvSpPr>
            <p:cNvPr id="84" name=""/>
            <p:cNvSpPr/>
            <p:nvPr/>
          </p:nvSpPr>
          <p:spPr>
            <a:xfrm>
              <a:off x="324000" y="2852640"/>
              <a:ext cx="8496000" cy="36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285264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000" y="2852640"/>
              <a:ext cx="849600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25) 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예수께서 이르시되 나는 부활이요 생명이니 나를 믿는 자는 죽어도 살겠고 </a:t>
              </a:r>
              <a:br>
                <a:rPr sz="2800"/>
              </a:b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26) 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무릇 살아서 나를 믿는 자는 영원히 죽지 아니하리니 이것을 네가 믿느냐 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요한복음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11:25-26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54764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8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206064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2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영생에 이르게 하는 믿음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916280"/>
            <a:ext cx="8713800" cy="324000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생명이 있다는 말에 대해 말해 봅시다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     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리고 일시적인 생명인가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영원한 생  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     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명인가도 말해봅시다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06200" y="1197000"/>
            <a:ext cx="51865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구원에 이르는 믿음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275640" y="1051560"/>
            <a:ext cx="259236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3:10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이르시되 이미 목욕한 자는 발밖에 씻을 필요가 없느니라 온 몸이 깨끗하니라 너희가 깨끗하나 다는 아니니라 하시니   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276920" y="213372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는 크게 두 가지로 나눕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700280" y="2752560"/>
            <a:ext cx="57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구원에 이르는 회개 </a:t>
            </a:r>
            <a:r>
              <a:rPr b="1" lang="ko-KR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: </a:t>
            </a:r>
            <a:r>
              <a:rPr b="1" lang="ko-KR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주께로 돌아오는 </a:t>
            </a:r>
            <a:r>
              <a:rPr b="1" lang="ko-KR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1</a:t>
            </a:r>
            <a:r>
              <a:rPr b="1" lang="ko-KR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회적인 회심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17200" y="3381480"/>
            <a:ext cx="58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성화를 위한 회개 </a:t>
            </a:r>
            <a:r>
              <a:rPr b="1" lang="en-US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: </a:t>
            </a:r>
            <a:r>
              <a:rPr b="1" lang="zh-CN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삶에서 계속되는 죄의 고백</a:t>
            </a:r>
            <a:r>
              <a:rPr b="1" lang="en-US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자백</a:t>
            </a:r>
            <a:r>
              <a:rPr b="1" lang="en-US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51560" y="161460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믿음에도 두 가지가 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3256920" y="853920"/>
            <a:ext cx="266400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가복음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8:29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또 물으시되 너희는 나를 누구라 하느냐 베드로가 대답하여 이르되 주는 그리스도시니이다 하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가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9:23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이르시되 할 수 있거든이 무슨 말이냐 믿는 자에게는 능히 하지 못할 일이 없느니라 하시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940760" y="2373480"/>
            <a:ext cx="43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구원에 이르는 믿음 </a:t>
            </a:r>
            <a:r>
              <a:rPr b="1" lang="en-US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: </a:t>
            </a:r>
            <a:r>
              <a:rPr b="1" lang="zh-CN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신앙고백적인 믿음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49520" y="3068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성장하는 믿음 </a:t>
            </a:r>
            <a:r>
              <a:rPr b="1" lang="en-US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: </a:t>
            </a:r>
            <a:r>
              <a:rPr b="1" lang="zh-CN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역사</a:t>
            </a:r>
            <a:r>
              <a:rPr b="1" lang="en-US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役事</a:t>
            </a:r>
            <a:r>
              <a:rPr b="1" lang="en-US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 피아노M"/>
                <a:ea typeface=" 피아노M"/>
              </a:rPr>
              <a:t>하는 믿음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5600" y="1197000"/>
            <a:ext cx="55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‘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원에 이르는 믿음’은 곧 구원에 이르게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284560" y="-45000"/>
            <a:ext cx="460872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3:16,18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16)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이 세상을 이처럼 사랑하사 독생자를 주셨으니 이는 그를 믿는 자마다 멸망하지 않고 영생을 얻게 하려 하심이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18)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를 믿는 자는 심판을 받지 아니하는 것이요 믿지 아니하는 자는 하나님의 독생자의 이름을 믿지 아니하므로 벌써 심판을 받은 것이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8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38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4920" y="1125360"/>
            <a:ext cx="54007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구원은 무엇입니까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?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167640" y="872280"/>
            <a:ext cx="280836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5:32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32)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이 네 동생은 죽었다가 살아났으며 내가 잃었다가 얻었기로 우리가 즐거워하고 기뻐하는 것이 마땅하다 하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050840" y="2054160"/>
            <a:ext cx="6884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죄를 용서함 받아 의인이 되고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               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거듭남으로 하나님의 자녀가 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8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385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rot="5400000">
            <a:off x="2231640" y="-423720"/>
            <a:ext cx="4751280" cy="871380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골로새서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:14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 아들 안에서 우리가 속량 곧 죄 사함을 얻었도다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8:15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는 다시 무서워하는 종의 영을 받지 아니하고 양자의 영을 받았으므로 우리가 아빠 아버지라고 부르짖느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2087640" y="-136440"/>
            <a:ext cx="496872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골로새서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1:27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이 그들로 하여금 이 비밀의 영광이 이방인 가운데 얼마나 풍성한지를 알게 하려 하심이라 이 비밀은 너희 안에 계신 그리스도시니 곧 영광의 소망이니라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10:10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도둑이 오는 것은 도둑질하고 죽이고 멸망시키려는 것뿐이요 내가 온 것은 양으로 생명을 얻게 하고 더 풍성히 얻게 하려는 것이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에베소서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4:1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가 다 하나님의 아들을 믿는 것과 아는 일에 하나가 되어 온전한 사람을 이루어 그리스도의 장성한 분량이 충만한 데까지 이르리니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729440" y="1052640"/>
            <a:ext cx="56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리스도가 내 안에 사심으로 삶이 풍성해집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10-18T02:54:54Z</dcterms:modified>
  <cp:revision>259</cp:revision>
  <dc:subject/>
  <dc:title>PowerPoint 프레젠테이션</dc:title>
</cp:coreProperties>
</file>