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F4E-43B6-44B4-875D-647FECFF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A85-5787-43CD-9D4C-01C2987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8C9-D778-445A-BFA2-ADFF7F09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EC6-76E8-44A2-9504-C54653F1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6E1-2533-4B20-AF1A-348A84F1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9DC-2082-4975-B1A5-1C34BD8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CBB-370C-4924-BB06-59CC641F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C98-706E-4673-B6E5-17C5D43A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7EF-CFAE-4FA1-A7EF-2B40AC5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36E-A35C-4B74-BECB-0640A70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3E1-3F31-4778-8994-E12CFDB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4DF-5D90-4C7C-B8FD-1AD46174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4A3D-1588-423F-9DCC-3B293C9175B1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3635280" y="-1036440"/>
            <a:ext cx="187308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7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7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 </a:t>
            </a:r>
            <a:r>
              <a:rPr b="0" lang="en-US" sz="2700" spc="-1" strike="noStrike">
                <a:solidFill>
                  <a:srgbClr val="3333cc"/>
                </a:solidFill>
                <a:latin typeface="HY견고딕"/>
                <a:ea typeface="HY견고딕"/>
              </a:rPr>
              <a:t>1:12&gt;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700" spc="-1" strike="noStrike">
                <a:solidFill>
                  <a:srgbClr val="3333cc"/>
                </a:solidFill>
                <a:latin typeface="HY견고딕"/>
                <a:ea typeface="HY견고딕"/>
              </a:rPr>
              <a:t>영접하는 자 곧 그 이름을 믿는 자들에게는 하나님의 자녀가 되는 권세를 주셨으니 </a:t>
            </a:r>
            <a:endParaRPr b="0" lang="en-US" sz="27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574280" y="14698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스도를 나의 구주로 영접하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636000" y="1267560"/>
            <a:ext cx="187164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창세기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5:6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아브람이 여호와를 믿으니 여호와께서 이를 그의 의로 여기시고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779640" y="-1539720"/>
            <a:ext cx="158436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시편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37:5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네 길을 여호와께 맡기라 그를 의지하면 그가 이루시고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406160" y="1268280"/>
            <a:ext cx="45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스도에게 전부를 맡기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203280" y="907920"/>
            <a:ext cx="273708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디모데후서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:12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로 말미암아 내가 또 이 고난을 받되 부끄러워하지 아니함은 내가 믿는 자를 내가 알고 또한 내가 의탁한 것을 그 날까지 그가 능히 지키실 줄을 확신함이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2699280" y="-99360"/>
            <a:ext cx="381636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2:1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형제들아 내가 하나님의 모든 자비하심으로 너희를 권하노니 너희 몸을 하나님이 기뻐하시는 거룩한 산 제물로 드리라 이는 너희가 드릴 영적 예배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341360"/>
            <a:ext cx="511164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몸으로 믿는다는 것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2592000" y="-134640"/>
            <a:ext cx="403200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gt;&gt;&g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머리나 가슴만이 아니라 온 몸으로 주님을 믿습니다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믿음은 인간 삶의 어떤 부분에만 관련된 일이 아니고 전 인격과 전체 생활과 관계가 있습니다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이것을 사람의 신체와 관련해서 생각해 볼 수 있습니다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머리부분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(Logos)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머리는 지적인 활동을 담당합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그래서 이지적이고 지적인 믿음을 의미합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로고스는 말씀이란 의미인데 말씀을 외우고 분석하고 연구하는 것입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이런 지적인 믿음은 불신자에게도 있고 심지어 마귀에게도 있습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가슴부분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(Pathos)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가슴은 느낌을 담당합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감정적인 믿음을 말합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파토스는 정열을 의미하는데 쉽게 흥분하기도 하고 쉽게 풀이 죽기도 합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</a:rPr>
              <a:t>감정적인 믿음은 상황에 따라 쉽게 흔들립니다</a:t>
            </a:r>
            <a:r>
              <a:rPr b="0" lang="en-US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HY견고딕"/>
              </a:rPr>
              <a:t>마음부분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</a:rPr>
              <a:t>(Ethos)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HY견고딕"/>
              </a:rPr>
              <a:t>    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마음은 의지적인 결단을 말합니다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에토스는 윤리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행동의 의미가 있습니다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결심하고 행동하는 부분입니다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.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1962360" y="-441360"/>
            <a:ext cx="5256000" cy="896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믿음은 생의 선택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결단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위임을 말합니다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선택이란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예수 그리스도를 나의 주님으로 </a:t>
            </a:r>
            <a:r>
              <a:rPr b="0" lang="zh-CN" sz="3400" spc="-1" strike="noStrike">
                <a:solidFill>
                  <a:srgbClr val="000000"/>
                </a:solidFill>
                <a:latin typeface="HY견고딕"/>
                <a:ea typeface="HY견고딕"/>
              </a:rPr>
              <a:t>시인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하는 일이고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결단이란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예수를 나의 구주로 </a:t>
            </a:r>
            <a:r>
              <a:rPr b="0" lang="zh-CN" sz="3400" spc="-1" strike="noStrike">
                <a:solidFill>
                  <a:srgbClr val="000000"/>
                </a:solidFill>
                <a:latin typeface="HY견고딕"/>
                <a:ea typeface="HY견고딕"/>
              </a:rPr>
              <a:t>영접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하는 일이며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,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위임이란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zh-CN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나의 모든 것을 예수 그리스도께 맡기는 일인 것입니다</a:t>
            </a:r>
            <a:r>
              <a:rPr b="0" lang="en-US" sz="30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289080" y="1628640"/>
            <a:ext cx="860400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‘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용욱이의 편지’ 이야기 글을 읽고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믿음에 대해서 말해봅시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‘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믿음은 우리가 매어달리는 한 가닥의 끈이며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그것으로써 우리가 영양을 받는 유일한 음식’이라는 말의 뜻을 묵상해 봅시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4000" y="1773360"/>
            <a:ext cx="8496000" cy="5103720"/>
            <a:chOff x="324000" y="1773360"/>
            <a:chExt cx="8496000" cy="5103720"/>
          </a:xfrm>
        </p:grpSpPr>
        <p:sp>
          <p:nvSpPr>
            <p:cNvPr id="133" name=""/>
            <p:cNvSpPr/>
            <p:nvPr/>
          </p:nvSpPr>
          <p:spPr>
            <a:xfrm>
              <a:off x="324000" y="1773360"/>
              <a:ext cx="849600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4000" y="17733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" y="1773360"/>
              <a:ext cx="8496000" cy="50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en-US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9)</a:t>
              </a:r>
              <a:r>
                <a:rPr b="0" lang="zh-CN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네가 만일 네 입으로 예수를 주로 시인하며 또 하나님께서 그를 죽은 자 가운데서 살리신 것을 네 마음에 믿으면 구원을 받으리라 </a:t>
              </a:r>
              <a:br>
                <a:rPr sz="3200"/>
              </a:br>
              <a:r>
                <a:rPr b="0" lang="en-US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</a:t>
              </a:r>
              <a:r>
                <a:rPr b="0" lang="en-US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0)</a:t>
              </a:r>
              <a:r>
                <a:rPr b="0" lang="zh-CN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사람이 마음으로 믿어 의에 이르고 입으로 시인하여 구원에 이르느니라 ” 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</a:t>
              </a:r>
              <a:r>
                <a:rPr b="0" lang="en-US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</a:t>
              </a:r>
              <a:r>
                <a:rPr b="0" lang="en-US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0:9-10&gt;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4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에 이르는 믿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00" y="3213000"/>
            <a:ext cx="8496000" cy="3666600"/>
            <a:chOff x="324000" y="3213000"/>
            <a:chExt cx="8496000" cy="3666600"/>
          </a:xfrm>
        </p:grpSpPr>
        <p:sp>
          <p:nvSpPr>
            <p:cNvPr id="84" name=""/>
            <p:cNvSpPr/>
            <p:nvPr/>
          </p:nvSpPr>
          <p:spPr>
            <a:xfrm>
              <a:off x="324000" y="3213000"/>
              <a:ext cx="8496000" cy="36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213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3213000"/>
              <a:ext cx="849600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9)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네가 만일 네 입으로 예수를 주로 시인하며 또 하나님께서 그를 죽은 자 가운데서 살리신 것을 네 마음에 믿으면 구원을 받으리라 </a:t>
              </a:r>
              <a:br>
                <a:rPr sz="2800"/>
              </a:b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0)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사람이 마음으로 믿어 의에 이르고 입으로 시인하여 구원에 이르느니라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0:9-10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7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060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믿음이란 무엇입니까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?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484280"/>
            <a:ext cx="8713800" cy="496728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어느 날 그 잃어버렸다고 한 장비가 창고에서 발견되었습니다</a:t>
            </a: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날 총에 맞아 죽은 청년은 훔치지 않았습니다</a:t>
            </a: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면 왜 자진해서 앞으로 나갔던 것입니까</a:t>
            </a: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죄가 없는 한 사람이 대신 진 십자가로 인하여 죄인이 용서함을 받는다는 원리를 아시겠습니까</a:t>
            </a: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예수 그리스도께서 바로 당신을 위해 십자가에서 피를 흘리신 것은 어떤 의미인가를 생각해 보십시오</a:t>
            </a:r>
            <a:r>
              <a:rPr b="0" lang="en-US" sz="26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19700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회개와 믿음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610560" y="2492280"/>
            <a:ext cx="3600720" cy="4321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마가복음 </a:t>
            </a:r>
            <a:r>
              <a:rPr b="0" lang="en-US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1:15&gt; 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zh-CN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르시되 때가 찼고 하나님의 나라가 가까이 왔으니 회개하고 복음을 믿으라 하시더라 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406160" y="213372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와 믿음은 불가분의 관계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003640" y="2997360"/>
            <a:ext cx="3313440" cy="3311280"/>
            <a:chOff x="5003640" y="2997360"/>
            <a:chExt cx="3313440" cy="3311280"/>
          </a:xfrm>
        </p:grpSpPr>
        <p:sp>
          <p:nvSpPr>
            <p:cNvPr id="97" name=""/>
            <p:cNvSpPr/>
            <p:nvPr/>
          </p:nvSpPr>
          <p:spPr>
            <a:xfrm>
              <a:off x="5003640" y="3873600"/>
              <a:ext cx="1873440" cy="1716120"/>
            </a:xfrm>
            <a:prstGeom prst="ellipse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66"/>
                  </a:solidFill>
                  <a:latin typeface=" 피아노M"/>
                  <a:ea typeface=" 피아노M"/>
                </a:rPr>
                <a:t>회 개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03640" y="2997360"/>
              <a:ext cx="3313440" cy="3311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43640" y="3873600"/>
              <a:ext cx="1873440" cy="17161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66"/>
                  </a:solidFill>
                  <a:latin typeface=" 피아노M"/>
                  <a:ea typeface=" 피아노M"/>
                </a:rPr>
                <a:t>믿 음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93760" y="161460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와 믿음은 동시에 일어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752920" y="-10080"/>
            <a:ext cx="367200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마가복음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0:21&gt; 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그를 보시고 사랑하사 이르시되 네게 아직도 한 가지 부족한 것이 있으니 가서 네게 있는 것을 다 팔아 가난한 자들에게 주라 그리하면 하늘에서 보화가 네게 있으리라 그리고 와서 나를 따르라 하시니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920" y="1125360"/>
            <a:ext cx="5400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구원에 이르는 믿음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663640" y="368280"/>
            <a:ext cx="3816360" cy="864216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0:32-33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32)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구든지 사람 앞에서 나를 시인하면 나도 하늘에 계신 내 아버지 앞에서 그를 시인할 것이요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33)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구든지 사람 앞에서 나를 부인하면 나도 하늘에 계신 내 아버지 앞에서 그를 부인하리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716120" y="198900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예수 그리스도를 나의 주님으로 시인하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00" y="1557360"/>
            <a:ext cx="8496000" cy="4457160"/>
            <a:chOff x="324000" y="1557360"/>
            <a:chExt cx="8496000" cy="4457160"/>
          </a:xfrm>
        </p:grpSpPr>
        <p:sp>
          <p:nvSpPr>
            <p:cNvPr id="106" name=""/>
            <p:cNvSpPr/>
            <p:nvPr/>
          </p:nvSpPr>
          <p:spPr>
            <a:xfrm>
              <a:off x="324000" y="1557360"/>
              <a:ext cx="8496000" cy="44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00" y="15573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00" y="1557360"/>
              <a:ext cx="8496000" cy="43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&lt;</a:t>
              </a:r>
              <a:r>
                <a:rPr b="0" lang="zh-CN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로마서</a:t>
              </a:r>
              <a:r>
                <a:rPr b="0" lang="en-US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10:9-10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 </a:t>
              </a:r>
              <a:r>
                <a:rPr b="0" lang="en-US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(9)</a:t>
              </a:r>
              <a:r>
                <a:rPr b="0" lang="zh-CN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네가 만일 네 입으로 예수를 주로 시인하며 또 하나님께서 그를 죽은 자 가운데서 살리신 것을 네 마음에 믿으면 구원을 받으리라 </a:t>
              </a:r>
              <a:br>
                <a:rPr sz="2800"/>
              </a:br>
              <a:r>
                <a:rPr b="0" lang="en-US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 </a:t>
              </a:r>
              <a:r>
                <a:rPr b="0" lang="en-US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(10)</a:t>
              </a:r>
              <a:r>
                <a:rPr b="0" lang="zh-CN" sz="2800" spc="-1" strike="noStrike">
                  <a:solidFill>
                    <a:srgbClr val="3333cc"/>
                  </a:solidFill>
                  <a:latin typeface="HY견고딕"/>
                  <a:ea typeface="HY견고딕"/>
                </a:rPr>
                <a:t>사람이 마음으로 믿어 의에 이르고 입으로 시인하여 구원에 이르느니라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052640"/>
            <a:ext cx="8642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이사야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53:4-6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4)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는 실로 우리의 질고를 지고 우리의 슬픔을 당하였거늘 우리는 생각하기를 그는 징벌을 받아 하나님께 맞으며 고난을 당한다 하였노라 </a:t>
            </a:r>
            <a:br>
              <a:rPr sz="2800"/>
            </a:b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5)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가 찔림은 우리의 허물 때문이요 그가 상함은 우리의 죄악 때문이라 그가 징계를 받으므로 우리는 평화를 누리고 그가 채찍에 맞으므로 우리는 나음을 받았도다 </a:t>
            </a:r>
            <a:br>
              <a:rPr sz="2800"/>
            </a:b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6)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는 다 양 같아서 그릇 행하여 각기 제 길로 갔거늘 여호와께서는 우리 모두의 죄악을 그에게 담당시키셨도다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1052640"/>
            <a:ext cx="86421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6:3-5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3)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무릇 그리스도 예수와 합하여 세례를 받은 우리는 그의 죽으심과 합하여 세례를 받은 줄을 알지 못하느냐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4) 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우리가 그의 죽으심과 합하여 세례를 받음으로 그와 함께 장사되었나니 이는 아버지의 영광으로 말미암아 그리스도를 죽은 자 가운데서 살리심과 같이 우리로 또한 새 생명 가운데서 행하게 하려 함이라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5) 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만일 우리가 그의 죽으심과 같은 모양으로 연합한 자가 되었으면 또한 그의 부활과 같은 모양으로 연합한 자도 되리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9-30T23:03:13Z</dcterms:modified>
  <cp:revision>249</cp:revision>
  <dc:subject/>
  <dc:title>PowerPoint 프레젠테이션</dc:title>
</cp:coreProperties>
</file>