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5B7-7FAE-4DAE-AFE9-3324F88B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40C-B415-43CD-9313-804305BB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DCF-B94A-4302-B1EB-115F9EB0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5A2-D753-4529-B610-F9D26FC6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AFA-E457-4DB9-90BB-BE52B41B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E7B-AA9D-4053-AF56-9C3EB834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797-6EA0-4D24-91DA-6A98194F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5DD-F660-4653-BBD7-97C98B2A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E01-76A2-4B6F-9B90-AF318F4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2C9-F2D7-47D1-9066-1EEE540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351-F848-4F0E-A488-FD08756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9F3-DE8E-4B87-9B1C-267C9910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69D-662B-45E2-9193-36DAC2F232C6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48127;&#51020;&#51032; &#44600; 16&#44284;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5400000">
            <a:off x="3221280" y="-1989720"/>
            <a:ext cx="27352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0:19-20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9)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형제들아 우리가 예수의 피를 힘입어 성소에 들어갈 담력을 얻었나니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20)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길은 우리를 위하여 휘장 가운데로 열어 놓으신 새로운 살 길이요 휘장은 곧 그의 육체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21280" y="962640"/>
            <a:ext cx="27352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출애굽기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2:23&gt;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여호와께서 애굽 사람들에게 재앙을 내리려고 지나가실 때에 문 인방과 좌우 문설주의 피를 보시면 여호와께서 그 문을 넘으시고 멸하는 자에게 너희 집에 들어가서 너희를 치지 못하게 하실 것임이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15600" y="1731960"/>
            <a:ext cx="612072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00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 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노여움이 없는 죄 – 죽은 죄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(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사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44:22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00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 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기억도 하지 않음 – 저장된 자료를 없앰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(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히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8:12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00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 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눈과 같이 희어짐 – 양털같이 희어짐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(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사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1:18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00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 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시선을 흐리게 함 – 죄인이 없음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(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롬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4:7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00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 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Atonement 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속죄 – 관계가 회복됨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(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눅</a:t>
            </a:r>
            <a:r>
              <a:rPr b="0" lang="ko-KR" sz="2800" spc="-1" strike="noStrike" u="sng">
                <a:solidFill>
                  <a:srgbClr val="3333cc"/>
                </a:solidFill>
                <a:uFillTx/>
                <a:latin typeface="강산체"/>
                <a:ea typeface="강산체"/>
              </a:rPr>
              <a:t>15:20</a:t>
            </a:r>
            <a:r>
              <a:rPr b="0" lang="ko-KR" sz="2800" spc="-1" strike="noStrike">
                <a:solidFill>
                  <a:srgbClr val="000066"/>
                </a:solidFill>
                <a:latin typeface="강산체"/>
                <a:ea typeface="강산체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3094560" y="943560"/>
            <a:ext cx="3097080" cy="8353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8:1-2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)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이제 그리스도 예수 안에 있는 자에게는 결코 정죄함이 없나니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2)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는 그리스도 예수 안에 있는 생명의 성령의 법이 죄와 사망의 법에서 너를 해방하였음이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1125360"/>
            <a:ext cx="54720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용서함을 받은 자의 삶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017800"/>
            <a:ext cx="856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용서함 받았으니 자신을 용서해야 합니다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&gt;&gt;&gt;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하나님은 우리의 죄를 용서하시면서 세가지를 요구하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    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십니다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214000" y="-550080"/>
            <a:ext cx="4752720" cy="896472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8:33-34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33)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 능히 하나님께서 택하신 자들을 고발하리요 의롭다 하신 이는 하나님이시니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34) 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 정죄하리요 죽으실 뿐 아니라 다시 살아나신 이는 그리스도 예수시니 그는 하나님 우편에 계신 자요 우리를 위하여 간구하시는 자시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2627280" y="115560"/>
            <a:ext cx="388944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6:14-15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4) 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가 사람의 잘못을 용서하면 너희 하늘 아버지께서도 너희 잘못을 용서하시려니와 </a:t>
            </a:r>
            <a:br>
              <a:rPr sz="2800"/>
            </a:b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5) 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가 사람의 잘못을 용서하지 아니하면 너희 아버지께서도 너희 잘못을 용서하지 아니하시리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134360" y="1469880"/>
            <a:ext cx="37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다른 사람을 용서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5400000">
            <a:off x="3653280" y="-1702440"/>
            <a:ext cx="187164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5:7&gt;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그리스도께서 우리를 받아 하나님께 영광을 돌리심과 같이 너희도 서로 받으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472920" y="782640"/>
            <a:ext cx="223200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5:20&gt;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소망이 우리를 부끄럽게 하지 아니함은 우리에게 주신 성령으로 말미암아 하나님의 사랑이 우리 마음에 부은 바 됨이니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1840" y="1523520"/>
            <a:ext cx="87138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   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나병환자였던 나아만 장군이 옷을 벗어제치고 요단 강물에 잠그게 될 때 그의 피부는 어린아이 같이 되었다고 했습니다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(</a:t>
            </a:r>
            <a:r>
              <a:rPr b="0" lang="ko-KR" sz="3200" spc="-1" strike="noStrike" u="sng">
                <a:solidFill>
                  <a:srgbClr val="3333cc"/>
                </a:solidFill>
                <a:uFillTx/>
                <a:latin typeface="HY견고딕"/>
              </a:rPr>
              <a:t>왕하</a:t>
            </a:r>
            <a:r>
              <a:rPr b="0" lang="ko-KR" sz="3200" spc="-1" strike="noStrike" u="sng">
                <a:solidFill>
                  <a:srgbClr val="3333cc"/>
                </a:solidFill>
                <a:uFillTx/>
                <a:latin typeface="HY견고딕"/>
              </a:rPr>
              <a:t>5:1-14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). 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   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이는 회개함으로 죄 씻음을 받은 믿음의 새사람을 상징합니다</a:t>
            </a:r>
            <a:r>
              <a:rPr b="0" lang="ko-KR" sz="3200" spc="-1" strike="noStrike">
                <a:solidFill>
                  <a:srgbClr val="660066"/>
                </a:solidFill>
                <a:latin typeface="HY견고딕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8920" y="100764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           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아합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*                         *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세상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        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나아만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*                         *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나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        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문둥병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*                         *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죄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계집아이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*                         *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양심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        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엘리사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*                         *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교회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        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요단강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*                         *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보혈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어린아이처럼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*                         *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회개함으로 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                                               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</a:rPr>
              <a:t>씻음 받은 새사람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1484280"/>
            <a:ext cx="26636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205000"/>
            <a:ext cx="26636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852640"/>
            <a:ext cx="26636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645000"/>
            <a:ext cx="26636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365720"/>
            <a:ext cx="26636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5084640"/>
            <a:ext cx="26636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5805360"/>
            <a:ext cx="26636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289080" y="2205000"/>
            <a:ext cx="86040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</a:t>
            </a:r>
            <a:r>
              <a:rPr b="0" lang="en-US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아직도 자존심이 남아 있습니까</a:t>
            </a:r>
            <a:r>
              <a:rPr b="0" lang="en-US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그것은 사랑이 아닙니다</a:t>
            </a:r>
            <a:r>
              <a:rPr b="0" lang="en-US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사랑을 받을 수도</a:t>
            </a:r>
            <a:r>
              <a:rPr b="0" lang="en-US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사랑을 구할 줄도 알아야 합니다</a:t>
            </a:r>
            <a:r>
              <a:rPr b="0" lang="en-US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24000" y="1413000"/>
            <a:ext cx="8496000" cy="5103720"/>
            <a:chOff x="324000" y="1413000"/>
            <a:chExt cx="8496000" cy="5103720"/>
          </a:xfrm>
        </p:grpSpPr>
        <p:sp>
          <p:nvSpPr>
            <p:cNvPr id="148" name=""/>
            <p:cNvSpPr/>
            <p:nvPr/>
          </p:nvSpPr>
          <p:spPr>
            <a:xfrm>
              <a:off x="324000" y="1413000"/>
              <a:ext cx="849600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00" y="1413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000" y="1413000"/>
              <a:ext cx="8496000" cy="50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“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34)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누가 정죄하리요 죽으실 뿐 아니라 다시 살아나신 이는 그리스도 예수시니 그는 하나님 우편에 계신 자요 우리를 위하여 간구하시는 자시니라 </a:t>
              </a:r>
              <a:br>
                <a:rPr sz="2800"/>
              </a:b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35)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누가 우리를 그리스도의 사랑에서 끊으리요 환난이나 곤고나 박해나 기근이나 적신이나 위험이나 칼이랴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8:34~35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3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에 이르는 회개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00" y="2997360"/>
            <a:ext cx="8496000" cy="3666240"/>
            <a:chOff x="324000" y="2997360"/>
            <a:chExt cx="8496000" cy="3666240"/>
          </a:xfrm>
        </p:grpSpPr>
        <p:sp>
          <p:nvSpPr>
            <p:cNvPr id="84" name=""/>
            <p:cNvSpPr/>
            <p:nvPr/>
          </p:nvSpPr>
          <p:spPr>
            <a:xfrm>
              <a:off x="324000" y="2997360"/>
              <a:ext cx="8496000" cy="36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29973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2997360"/>
              <a:ext cx="8496000" cy="36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34)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누가 정죄하리요 죽으실 뿐 아니라 다시 살아나신 이는 그리스도 예수시니 그는 하나님 우편에 계신 자요 우리를 위하여 간구하시는 자시니라 </a:t>
              </a:r>
              <a:br>
                <a:rPr sz="2800"/>
              </a:b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35)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누가 우리를 그리스도의 사랑에서 끊으리요 환난이나 곤고나 박해나 기근이나 적신이나 위험이나 칼이랴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8:34~35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6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060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3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용서함 받은 이의 기쁨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8760" y="1125360"/>
            <a:ext cx="87343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</a:rPr>
              <a:t>창세기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</a:rPr>
              <a:t>2:17&gt;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</a:rPr>
              <a:t>선악을 알게 하는 나무의 열매는 먹지 말라 네가 먹는 날에는 반드시 죽으리라 하시니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</a:rPr>
              <a:t>로마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</a:rPr>
              <a:t>6:23&gt;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</a:rPr>
              <a:t>죄의 삯은 사망이요 하나님의 은사는 그리스도 예수 우리 주 안에 있는 영생이니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573360"/>
            <a:ext cx="8640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레위기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7:11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육체의 생명은 피에 있음이라 내가 이 피를 너희에게 주어 제단에 뿌려 너희의 생명을 위하여 속죄하게 하였나니 생명이 피에 있으므로 피가 죄를 속하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9:22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율법을 따라 거의 모든 물건이 피로써 정결하게 되나니 피흘림이 없은즉 사함이 없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7521480" y="6227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이사야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44:22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내가 네 허물을 빽빽한 구름 같이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네 죄를 안개 같이 없이하였으니 너는 내게로 돌아오라 내가 너를 구속하였음이니라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히브리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8:12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내가 그들의 불의를 긍휼히 여기고 그들의 죄를 다시 기억하지 아니하리라 하셨느니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이사야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1:18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여호와께서 말씀하시되 오라 우리가 서로 변론하자 너희의 죄가 주홍 같을지라도 눈과 같이 희어질 것이요 진홍 같이 붉을지라도 양털 같이 희게 되리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  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로마서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4:7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불법이 사함을 받고 죄가 가리어짐을 받는 사람들은 복이 있고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&lt;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누가복음 </a:t>
            </a:r>
            <a:r>
              <a:rPr b="0" lang="ko-KR" sz="2400" spc="-1" strike="noStrike">
                <a:solidFill>
                  <a:srgbClr val="000066"/>
                </a:solidFill>
                <a:latin typeface="HY견고딕"/>
              </a:rPr>
              <a:t>15:20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</a:rPr>
              <a:t>이에 일어나서 아버지께로 돌아가니라 아직도 거리가 먼데 아버지가 그를 보고 측은히 여겨 달려가 목을 안고 입을 맞추니 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55" name=""/>
          <p:cNvSpPr/>
          <p:nvPr/>
        </p:nvSpPr>
        <p:spPr>
          <a:xfrm>
            <a:off x="7575480" y="6365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열왕기하</a:t>
            </a:r>
            <a:r>
              <a:rPr b="0" lang="ko-KR" sz="3400" spc="-1" strike="noStrike">
                <a:solidFill>
                  <a:srgbClr val="ffffff"/>
                </a:solidFill>
                <a:latin typeface="HY견고딕"/>
              </a:rPr>
              <a:t>5:1-14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1)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아람 왕의 군대 장관 나아만은 그의 주인 앞에서 크고 존귀한 자니 이는 여호와께서 전에 그에게 아람을 구원하게 하셨음이라 그는 큰 용사이나 나병환자더라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2) 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전에 아람 사람이 떼를 지어 나가서 이스라엘 땅에서 어린 소녀 하나를 사로잡으매 그가 나아만의 아내에게 수종들더니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3) 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그의 여주인에게 이르되 우리 주인이 사마리아에 계신 선지자 앞에 계셨으면 좋겠나이다 그가 그 나병을 고치리이다 하는지라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4) 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나아만이 들어가서 그의 주인께 아뢰어 이르되 이스라엘 땅에서 온 소녀의 말이 이러이러하더이다 하니 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5) 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아람 왕이 이르되 갈지어다 이제 내가 이스라엘 왕에게 글을 보내리라 하더라 나아만이 곧 떠날새 은 십 달란트와 금 육천 개와 의복 열 벌을 가지고 가서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6) 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이스라엘 왕에게 그 글을 전하니 일렀으되 내가 내 신하 나아만을 당신에게 보내오니 이 글이 당신에게 이르거든 당신은 그의 나병을 고쳐 주소서 하였더라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7) 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이스라엘 왕이 그 글을 읽고 자기 옷을 찢으며 이르되 내가 사람을 죽이고 살리는 하나님이냐 그가 어찌하여 사람을 내게로 보내 그의 나병을 고치라 하느냐 너희는 깊이 생각하고 저 왕이 틈을 타서 나와 더불어 시비하려 함인줄 알라 하니라 </a:t>
            </a:r>
            <a:br>
              <a:rPr sz="2100"/>
            </a:br>
            <a:endParaRPr b="0" lang="en-US" sz="21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10540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8) 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하나님의 사람 엘리사가 이스라엘 왕이 자기의 옷을 찢었다 함을 듣고 왕에게 보내 이르되 왕이 어찌하여 옷을 찢었나이까 그 사람을 내게로 오게 하소서 그가 이스라엘 중에 선지자가 있는 줄을 알리이다 하니라 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9)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나아만이 이에 말들과 병거들을 거느리고 이르러 엘리사의 집 문에 서니 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10)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엘리사가 사자를 그에게 보내 이르되 너는 가서 요단 강에 몸을 일곱 번 씻으라 네 살이 회복되어 깨끗하리라 하는지라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11)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나아만이 노하여 물러가며 이르되 내 생각에는 그가 내게로 나와 서서 그의 하나님 여호와의 이름을 부르고 그의 손을 그 부위 위에 흔들어 나병을 고칠까 하였도다 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12)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다메섹 강 아바나와 바르발은 이스라엘 모든 강물보다 낫지 아니하냐 내가 거기서 몸을 씻으면 깨끗하게 되지 아니하랴 하고 몸을 돌려 분노하여 떠나니 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13)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그의 종들이 나아와서 말하여 이르되 내 아버지여 선지자가 당신에게 큰 일을 행하라 말하였더면 행하지 아니하였으리이까 하물며 당신에게 이르기를 씻어 깨끗하게 하라 함이리이까 하니  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(14)</a:t>
            </a:r>
            <a:r>
              <a:rPr b="0" lang="ko-KR" sz="2100" spc="-1" strike="noStrike">
                <a:solidFill>
                  <a:srgbClr val="000066"/>
                </a:solidFill>
                <a:latin typeface="HY견고딕"/>
              </a:rPr>
              <a:t>나아만이 이에 내려가서 하나님의 사람의 말대로 요단 강에 일곱 번 몸을 잠그니 그의 살이 어린 아이의 살 같이 회복되어 깨끗하게 되었더라</a:t>
            </a:r>
            <a:endParaRPr b="0" lang="en-US" sz="21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59" name=""/>
          <p:cNvSpPr/>
          <p:nvPr/>
        </p:nvSpPr>
        <p:spPr>
          <a:xfrm>
            <a:off x="7575480" y="6365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-소망B"/>
                <a:ea typeface="-소망B"/>
              </a:rPr>
              <a:t>행복한교회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125360"/>
            <a:ext cx="8713800" cy="5732640"/>
          </a:xfrm>
          <a:prstGeom prst="roundRect">
            <a:avLst>
              <a:gd name="adj" fmla="val 10037"/>
            </a:avLst>
          </a:prstGeom>
          <a:solidFill>
            <a:srgbClr val="808080">
              <a:alpha val="43000"/>
            </a:srgbClr>
          </a:solidFill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은 어떤 페이지에 머리를 두겠습니까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검은색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구원받기 전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3300"/>
                </a:solidFill>
                <a:latin typeface="HY견고딕"/>
                <a:ea typeface="HY견고딕"/>
              </a:rPr>
              <a:t>붉은색</a:t>
            </a:r>
            <a:r>
              <a:rPr b="0" lang="ko-KR" sz="2800" spc="-1" strike="noStrike">
                <a:solidFill>
                  <a:srgbClr val="ff3300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ff3300"/>
                </a:solidFill>
                <a:latin typeface="HY견고딕"/>
                <a:ea typeface="HY견고딕"/>
              </a:rPr>
              <a:t>구원받을 때</a:t>
            </a:r>
            <a:r>
              <a:rPr b="0" lang="ko-KR" sz="2800" spc="-1" strike="noStrike">
                <a:solidFill>
                  <a:srgbClr val="ff3300"/>
                </a:solidFill>
                <a:latin typeface="HY견고딕"/>
                <a:ea typeface="HY견고딕"/>
              </a:rPr>
              <a:t>)</a:t>
            </a:r>
            <a:r>
              <a:rPr b="0" lang="ko-KR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흰색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구원받은 자의 삶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r>
              <a:rPr b="0" lang="ko-KR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9900"/>
                </a:solidFill>
                <a:latin typeface="HY견고딕"/>
                <a:ea typeface="HY견고딕"/>
              </a:rPr>
              <a:t>황금색</a:t>
            </a:r>
            <a:r>
              <a:rPr b="0" lang="ko-KR" sz="2800" spc="-1" strike="noStrike">
                <a:solidFill>
                  <a:srgbClr val="ff9900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ff9900"/>
                </a:solidFill>
                <a:latin typeface="HY견고딕"/>
                <a:ea typeface="HY견고딕"/>
              </a:rPr>
              <a:t>천국</a:t>
            </a:r>
            <a:r>
              <a:rPr b="0" lang="ko-KR" sz="2800" spc="-1" strike="noStrike">
                <a:solidFill>
                  <a:srgbClr val="ff9900"/>
                </a:solidFill>
                <a:latin typeface="HY견고딕"/>
                <a:ea typeface="HY견고딕"/>
              </a:rPr>
              <a:t>, </a:t>
            </a:r>
            <a:r>
              <a:rPr b="0" lang="ko-KR" sz="2800" spc="-1" strike="noStrike">
                <a:solidFill>
                  <a:srgbClr val="ff9900"/>
                </a:solidFill>
                <a:latin typeface="HY견고딕"/>
                <a:ea typeface="HY견고딕"/>
              </a:rPr>
              <a:t>재림과 심판 때</a:t>
            </a:r>
            <a:r>
              <a:rPr b="0" lang="ko-KR" sz="2800" spc="-1" strike="noStrike">
                <a:solidFill>
                  <a:srgbClr val="ff9900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&gt;&gt;&gt; 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이 글자 없는 책은 그리스도의 속죄를 뜻합니다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즉 검디 검은 우리의 죄악이 예수 그리스도의 붉은 피로 사함을 받고 희게 된다는 사실과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그 은혜와 사랑으로 천국에서 황금길을 걷게 된다는 것을 의미합니다</a:t>
            </a:r>
            <a:r>
              <a:rPr b="0" lang="ko-KR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197000"/>
            <a:ext cx="88585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죄를 용서함 받는 방법은 무엇일까요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321280" y="62640"/>
            <a:ext cx="45352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계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20:11-15&gt; 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11)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또 내가 크고 흰 보좌와 그 위에 앉으신 이를 보니 땅과 하늘이 그 앞에서 피하여 간 데 없더라 </a:t>
            </a:r>
            <a:br>
              <a:rPr sz="2200"/>
            </a:b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12)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또 내가 보니 죽은 자들이 큰 자나 작은 자나 그 보좌 앞에 서 있는데 책들이 펴 있고 또 다른 책이 펴졌으니 곧 생명책이라 죽은 자들이 자기 행위를 따라 책들에 기록된 대로 심판을 받으니 </a:t>
            </a:r>
            <a:br>
              <a:rPr sz="2200"/>
            </a:b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13) 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바다가 그 가운데에서 죽은 자들을 내주고 또 사망과 음부도 그 가운데에서 죽은 자들을 내주매 각 사람이 자기의 행위대로 심판을 받고 </a:t>
            </a:r>
            <a:br>
              <a:rPr sz="2200"/>
            </a:b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14) 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사망과 음부도 불못에 던져지니 이것은 둘째 사망 곧 불못이라 </a:t>
            </a:r>
            <a:br>
              <a:rPr sz="2200"/>
            </a:b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(15) </a:t>
            </a:r>
            <a:r>
              <a:rPr b="0" lang="ko-KR" sz="22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구든지 생명책에 기록되지 못한 자는 불못에 던져지더라   </a:t>
            </a:r>
            <a:endParaRPr b="0" lang="en-US" sz="2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6320" y="126828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심리적 해결 방법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2248920" y="-9360"/>
            <a:ext cx="468000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기본생각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죄의식은 심리적 현상이므로 심리적으로 해결할 수 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자기 발견이나 자기 극복의 수단으로 죄의식을 벗어날 수 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문 제 점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성경에서는 죄를 빚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부채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라고 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빚진 자가 “나는 빚지지 않았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”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라는 생각만 가지고 빚이 없어지는 것은 아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죄의 문제는 관념의 문제가 아니라 사실의 문제이며 실제의 문제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4280" y="1268280"/>
            <a:ext cx="24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보상주의 해결방법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2464920" y="-153720"/>
            <a:ext cx="424800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기본생각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도둑질 한 돈으로 고아원을 세우는 등 구제 사업을 통해 보상을 한 것으로 생각하고 죄의식에서 벗어날 수 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문 제 점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도둑질 한 돈으로 구제 사업을 하면 심리적 자책감은 감소할 수 있어도 죄가 근본적으로 사라지는 것은 아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8520" y="126828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화해를 통한 해결방법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248920" y="-9360"/>
            <a:ext cx="468000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기본생각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내가 잘못한 일이 있으면 가서 용서를 구하고 화해하면 된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상대방의 잘못은 내가 용서하고 사랑하면 문제없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-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문 제 점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화해를 한다고 과거의 잘못과 상대방에게 준 마음의 상처가 모두 사라지는 것은 아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197000"/>
            <a:ext cx="5832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예수의 피밖에 없습니다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653280" y="-981720"/>
            <a:ext cx="187164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9:22&gt;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율법을 따라 거의 모든 물건이 피로써 정결하게 되나니 피흘림이 없은즉 사함이 없느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796920" y="1106280"/>
            <a:ext cx="158436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전서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:19&gt;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오직 흠 없고 점 없는 어린 양 같은 그리스도의 보배로운 피로 된 것이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</a:rPr>
              <a:t>&gt;&gt;&gt;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</a:rPr>
              <a:t>죄가 죽음을 가져왔다면 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</a:rPr>
              <a:t>(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HY견고딕"/>
                <a:hlinkClick r:id="rId2"/>
              </a:rPr>
              <a:t>창2:17, 롬6:23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</a:rPr>
              <a:t>    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</a:rPr>
              <a:t>피가 생명을 가져왔습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</a:rPr>
              <a:t>.(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HY견고딕"/>
              </a:rPr>
              <a:t>레17:11, 히9:22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HY견고딕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42200" y="3645000"/>
            <a:ext cx="6986160" cy="1591200"/>
            <a:chOff x="1042200" y="3645000"/>
            <a:chExt cx="6986160" cy="1591200"/>
          </a:xfrm>
        </p:grpSpPr>
        <p:grpSp>
          <p:nvGrpSpPr>
            <p:cNvPr id="106" name=""/>
            <p:cNvGrpSpPr/>
            <p:nvPr/>
          </p:nvGrpSpPr>
          <p:grpSpPr>
            <a:xfrm>
              <a:off x="1403280" y="3645000"/>
              <a:ext cx="5978520" cy="1591200"/>
              <a:chOff x="1403280" y="3645000"/>
              <a:chExt cx="5978520" cy="15912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1579680" y="3645000"/>
                <a:ext cx="5802120" cy="582840"/>
                <a:chOff x="1579680" y="3645000"/>
                <a:chExt cx="5802120" cy="582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579680" y="3645000"/>
                  <a:ext cx="1518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66"/>
                      </a:solidFill>
                      <a:latin typeface=" 피아노M"/>
                      <a:ea typeface=" 피아노M"/>
                    </a:rPr>
                    <a:t>죄</a:t>
                  </a:r>
                  <a:r>
                    <a:rPr b="1" lang="en-US" sz="3200" spc="-1" strike="noStrike">
                      <a:solidFill>
                        <a:srgbClr val="000066"/>
                      </a:solidFill>
                      <a:latin typeface=" 피아노M"/>
                      <a:ea typeface=" 피아노M"/>
                    </a:rPr>
                    <a:t>(Sin) </a:t>
                  </a:r>
                  <a:endParaRPr b="0" lang="en-US" sz="32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201840" y="4003560"/>
                  <a:ext cx="17283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107320" y="3646440"/>
                  <a:ext cx="2274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66"/>
                      </a:solidFill>
                      <a:latin typeface=" 피아노M"/>
                      <a:ea typeface=" 피아노M"/>
                    </a:rPr>
                    <a:t>죽음</a:t>
                  </a:r>
                  <a:r>
                    <a:rPr b="1" lang="en-US" sz="3200" spc="-1" strike="noStrike">
                      <a:solidFill>
                        <a:srgbClr val="000066"/>
                      </a:solidFill>
                      <a:latin typeface=" 피아노M"/>
                      <a:ea typeface=" 피아노M"/>
                    </a:rPr>
                    <a:t>(Death)</a:t>
                  </a:r>
                  <a:endParaRPr b="0" lang="en-US" sz="32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1403280" y="4653000"/>
                <a:ext cx="260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66"/>
                    </a:solidFill>
                    <a:latin typeface=" 피아노M"/>
                    <a:ea typeface=" 피아노M"/>
                  </a:rPr>
                  <a:t>피</a:t>
                </a:r>
                <a:r>
                  <a:rPr b="1" lang="en-US" sz="3200" spc="-1" strike="noStrike">
                    <a:solidFill>
                      <a:srgbClr val="000066"/>
                    </a:solidFill>
                    <a:latin typeface=" 피아노M"/>
                    <a:ea typeface=" 피아노M"/>
                  </a:rPr>
                  <a:t>(Blood) </a:t>
                </a:r>
                <a:endParaRPr b="0" lang="en-US" sz="32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79480" y="4946760"/>
                <a:ext cx="1351080" cy="64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68880" y="4654800"/>
                <a:ext cx="1794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66"/>
                    </a:solidFill>
                    <a:latin typeface=" 피아노M"/>
                    <a:ea typeface=" 피아노M"/>
                  </a:rPr>
                  <a:t>생명</a:t>
                </a:r>
                <a:r>
                  <a:rPr b="1" lang="en-US" sz="3200" spc="-1" strike="noStrike">
                    <a:solidFill>
                      <a:srgbClr val="000066"/>
                    </a:solidFill>
                    <a:latin typeface=" 피아노M"/>
                    <a:ea typeface=" 피아노M"/>
                  </a:rPr>
                  <a:t>(Life)</a:t>
                </a:r>
                <a:endParaRPr b="0" lang="en-US" sz="32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042200" y="3937680"/>
              <a:ext cx="361080" cy="1012320"/>
              <a:chOff x="1042200" y="3937680"/>
              <a:chExt cx="361080" cy="1012320"/>
            </a:xfrm>
          </p:grpSpPr>
          <p:cxnSp>
            <p:nvCxnSpPr>
              <p:cNvPr id="115" name=""/>
              <p:cNvCxnSpPr>
                <a:stCxn id="108" idx="1"/>
              </p:cNvCxnSpPr>
              <p:nvPr/>
            </p:nvCxnSpPr>
            <p:spPr>
              <a:xfrm flipV="1" rot="10800000">
                <a:off x="1042200" y="3937680"/>
                <a:ext cx="361080" cy="1011960"/>
              </a:xfrm>
              <a:prstGeom prst="bentConnector2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16" name=""/>
              <p:cNvSpPr/>
              <p:nvPr/>
            </p:nvSpPr>
            <p:spPr>
              <a:xfrm>
                <a:off x="1042920" y="4950000"/>
                <a:ext cx="3603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7596000" y="3938400"/>
              <a:ext cx="432360" cy="1080360"/>
              <a:chOff x="7596000" y="3938400"/>
              <a:chExt cx="432360" cy="1080360"/>
            </a:xfrm>
          </p:grpSpPr>
          <p:cxnSp>
            <p:nvCxnSpPr>
              <p:cNvPr id="118" name=""/>
              <p:cNvCxnSpPr/>
              <p:nvPr/>
            </p:nvCxnSpPr>
            <p:spPr>
              <a:xfrm>
                <a:off x="7596000" y="3938400"/>
                <a:ext cx="432720" cy="1080"/>
              </a:xfrm>
              <a:prstGeom prst="curvedConnector2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8028000" y="3938760"/>
                <a:ext cx="0" cy="10796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cxnSp>
            <p:nvCxnSpPr>
              <p:cNvPr id="120" name=""/>
              <p:cNvCxnSpPr/>
              <p:nvPr/>
            </p:nvCxnSpPr>
            <p:spPr>
              <a:xfrm>
                <a:off x="7596000" y="5018040"/>
                <a:ext cx="432720" cy="1080"/>
              </a:xfrm>
              <a:prstGeom prst="curvedConnector2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9-13T04:55:13Z</dcterms:modified>
  <cp:revision>247</cp:revision>
  <dc:subject/>
  <dc:title>PowerPoint 프레젠테이션</dc:title>
</cp:coreProperties>
</file>