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F4F-7003-4584-889F-D7BAEB67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7F8-4722-4D73-9D90-A46A3A3E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0EA2-C864-443C-B728-E9C2936B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66D3-FE39-4585-9E42-088E6A44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951-157B-4F73-B526-DB0587A0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B6C9-BC1C-4EA0-AC60-F1DBF355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CE47-CAD9-405B-875B-B9323148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44C-1C74-414C-A70B-5BE584B3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B21-484E-4BB2-B793-99C50E00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813-71BE-4903-9023-679AAACD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2BF8-6C59-404C-BD2B-7B46E929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15D7-5F50-4D4D-8C40-30418F53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3" marL="16002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CA53-047F-4A04-8203-4F8DC7BF98EC}" type="slidenum"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HY견고딕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48127;&#51020;&#51032;%20&#44600;%2015&#44284;.ppt#17. &#49836;&#46972;&#51060;&#46300; 17" TargetMode="External"/><Relationship Id="rId3" Type="http://schemas.openxmlformats.org/officeDocument/2006/relationships/hyperlink" Target="file:///&#48127;&#51020;&#51032;%20&#44600;%2015&#44284;.ppt#17. &#49836;&#46972;&#51060;&#46300; 17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48127;&#51020;&#51032;%20&#44600;%2015&#44284;.ppt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-소망B"/>
              </a:rPr>
              <a:t>믿음의 길</a:t>
            </a:r>
            <a:endParaRPr b="0" lang="en-US" sz="32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-소망B"/>
              <a:ea typeface="-소망B"/>
            </a:endParaRPr>
          </a:p>
        </p:txBody>
      </p:sp>
      <p:sp>
        <p:nvSpPr>
          <p:cNvPr id="80" name=""/>
          <p:cNvSpPr/>
          <p:nvPr/>
        </p:nvSpPr>
        <p:spPr>
          <a:xfrm>
            <a:off x="2525400" y="185760"/>
            <a:ext cx="397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(한)문화방송"/>
                <a:ea typeface="(한)문화방송"/>
              </a:rPr>
              <a:t>삶의 가치를 향상 시켜주는 구원에 이르는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44988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lt; </a:t>
            </a:r>
            <a:r>
              <a:rPr b="0" lang="zh-CN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확  신  편 </a:t>
            </a: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gt;</a:t>
            </a:r>
            <a:endParaRPr b="0" lang="en-US" sz="36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38920" y="116280"/>
            <a:ext cx="4608720" cy="835344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1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1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에스겔</a:t>
            </a:r>
            <a:r>
              <a:rPr b="1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18:30-31&gt; 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1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(30)  </a:t>
            </a:r>
            <a:r>
              <a:rPr b="1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주 여호와의 말씀이니라 이스라엘 족속아 내가 너희 각 사람이 행한 대로 심판할지라 너희는 돌이켜 회개하고 모든 죄에서 떠날지어다 그리한즉 그것이 너희에게 죄악의 걸림돌이 되지 아니하리라 </a:t>
            </a:r>
            <a:br>
              <a:rPr sz="2600"/>
            </a:br>
            <a:r>
              <a:rPr b="1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1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(31) </a:t>
            </a:r>
            <a:r>
              <a:rPr b="1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너희는 너희가 범한 모든 죄악을 버리고 마음과 영을 새롭게 할지어다 이스라엘 족속아 너희가 어찌하여 죽고자 하느냐 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81080" y="1125360"/>
            <a:ext cx="590364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D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삶의 방향을 전환하는 것 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1431720" y="1052640"/>
            <a:ext cx="512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HY견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다음은 회개에 대한 이해를 말하는 것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ᄋ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×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문제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1785600" y="2133720"/>
            <a:ext cx="5186880" cy="28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buClr>
                <a:srgbClr val="660066"/>
              </a:buClr>
              <a:buFont typeface="강산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0066"/>
                </a:solidFill>
                <a:latin typeface="강산체"/>
                <a:ea typeface="강산체"/>
              </a:rPr>
              <a:t>회개는 단순한 후회나 자책이 아닙니다</a:t>
            </a:r>
            <a:r>
              <a:rPr b="0" lang="ko-KR" sz="2400" spc="-1" strike="noStrike">
                <a:solidFill>
                  <a:srgbClr val="660066"/>
                </a:solidFill>
                <a:latin typeface="강산체"/>
                <a:ea typeface="강산체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60000"/>
              </a:lnSpc>
              <a:buClr>
                <a:srgbClr val="660066"/>
              </a:buClr>
              <a:buFont typeface="강산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60000"/>
              </a:lnSpc>
              <a:buClr>
                <a:srgbClr val="660066"/>
              </a:buClr>
              <a:buFont typeface="강산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0066"/>
                </a:solidFill>
                <a:latin typeface="강산체"/>
                <a:ea typeface="강산체"/>
              </a:rPr>
              <a:t>단지 한 두 가지 죄를 중지했다고 끝나는 것도 아닙니다</a:t>
            </a:r>
            <a:r>
              <a:rPr b="0" lang="ko-KR" sz="2400" spc="-1" strike="noStrike">
                <a:solidFill>
                  <a:srgbClr val="660066"/>
                </a:solidFill>
                <a:latin typeface="강산체"/>
                <a:ea typeface="강산체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60000"/>
              </a:lnSpc>
              <a:buClr>
                <a:srgbClr val="660066"/>
              </a:buClr>
              <a:buFont typeface="강산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60000"/>
              </a:lnSpc>
              <a:buClr>
                <a:srgbClr val="660066"/>
              </a:buClr>
              <a:buFont typeface="강산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0066"/>
                </a:solidFill>
                <a:latin typeface="강산체"/>
                <a:ea typeface="강산체"/>
              </a:rPr>
              <a:t>대치 혹은 바꿔치기이며</a:t>
            </a:r>
            <a:r>
              <a:rPr b="0" lang="ko-KR" sz="2400" spc="-1" strike="noStrike">
                <a:solidFill>
                  <a:srgbClr val="660066"/>
                </a:solidFill>
                <a:latin typeface="강산체"/>
                <a:ea typeface="강산체"/>
              </a:rPr>
              <a:t>, </a:t>
            </a:r>
            <a:r>
              <a:rPr b="0" lang="ko-KR" sz="2400" spc="-1" strike="noStrike">
                <a:solidFill>
                  <a:srgbClr val="660066"/>
                </a:solidFill>
                <a:latin typeface="강산체"/>
                <a:ea typeface="강산체"/>
              </a:rPr>
              <a:t>개조하고 수리하는 것입니다</a:t>
            </a:r>
            <a:r>
              <a:rPr b="0" lang="ko-KR" sz="2400" spc="-1" strike="noStrike">
                <a:solidFill>
                  <a:srgbClr val="660066"/>
                </a:solidFill>
                <a:latin typeface="강산체"/>
                <a:ea typeface="강산체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60000"/>
              </a:lnSpc>
              <a:buClr>
                <a:srgbClr val="660066"/>
              </a:buClr>
              <a:buFont typeface="강산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60000"/>
              </a:lnSpc>
              <a:buClr>
                <a:srgbClr val="660066"/>
              </a:buClr>
              <a:buFont typeface="강산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0066"/>
                </a:solidFill>
                <a:latin typeface="강산체"/>
                <a:ea typeface="강산체"/>
              </a:rPr>
              <a:t>하루에 술 다섯병 먹던 술꾼이 세 병 마시게 된 것입니다</a:t>
            </a:r>
            <a:r>
              <a:rPr b="0" lang="ko-KR" sz="2400" spc="-1" strike="noStrike">
                <a:solidFill>
                  <a:srgbClr val="660066"/>
                </a:solidFill>
                <a:latin typeface="강산체"/>
                <a:ea typeface="강산체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60000"/>
              </a:lnSpc>
              <a:buClr>
                <a:srgbClr val="660066"/>
              </a:buClr>
              <a:buFont typeface="강산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60000"/>
              </a:lnSpc>
              <a:buClr>
                <a:srgbClr val="660066"/>
              </a:buClr>
              <a:buFont typeface="강산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0066"/>
                </a:solidFill>
                <a:latin typeface="강산체"/>
                <a:ea typeface="강산체"/>
              </a:rPr>
              <a:t>열차 안에서 선행을 하는 것입니다</a:t>
            </a:r>
            <a:r>
              <a:rPr b="0" lang="ko-KR" sz="2400" spc="-1" strike="noStrike">
                <a:solidFill>
                  <a:srgbClr val="660066"/>
                </a:solidFill>
                <a:latin typeface="강산체"/>
                <a:ea typeface="강산체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5823360" y="1973160"/>
            <a:ext cx="8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(</a:t>
            </a:r>
            <a:r>
              <a:rPr b="1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ᄋ</a:t>
            </a:r>
            <a:r>
              <a:rPr b="1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8271360" y="2421000"/>
            <a:ext cx="8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(</a:t>
            </a:r>
            <a:r>
              <a:rPr b="1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ᄋ</a:t>
            </a:r>
            <a:r>
              <a:rPr b="1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8071560" y="2838600"/>
            <a:ext cx="6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(×)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8503200" y="3284640"/>
            <a:ext cx="6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(×)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5345640" y="3716280"/>
            <a:ext cx="6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(×)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3401640" y="1179360"/>
            <a:ext cx="230508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99"/>
                </a:solidFill>
                <a:latin typeface="HY견고딕"/>
                <a:ea typeface="HY견고딕"/>
              </a:rPr>
              <a:t>   </a:t>
            </a:r>
            <a:r>
              <a:rPr b="1" lang="ko-KR" sz="2800" spc="-1" strike="noStrike">
                <a:solidFill>
                  <a:srgbClr val="333399"/>
                </a:solidFill>
                <a:latin typeface="HY견고딕"/>
                <a:ea typeface="HY견고딕"/>
              </a:rPr>
              <a:t>&lt;</a:t>
            </a:r>
            <a:r>
              <a:rPr b="1" lang="ko-KR" sz="2800" spc="-1" strike="noStrike">
                <a:solidFill>
                  <a:srgbClr val="333399"/>
                </a:solidFill>
                <a:latin typeface="HY견고딕"/>
                <a:ea typeface="HY견고딕"/>
              </a:rPr>
              <a:t>누가복음</a:t>
            </a:r>
            <a:r>
              <a:rPr b="1" lang="ko-KR" sz="2800" spc="-1" strike="noStrike">
                <a:solidFill>
                  <a:srgbClr val="333399"/>
                </a:solidFill>
                <a:latin typeface="HY견고딕"/>
                <a:ea typeface="HY견고딕"/>
              </a:rPr>
              <a:t>15:20&gt;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HY견고딕"/>
                <a:ea typeface="HY견고딕"/>
              </a:rPr>
              <a:t>    </a:t>
            </a:r>
            <a:r>
              <a:rPr b="0" lang="ko-KR" sz="2800" spc="-1" strike="noStrike">
                <a:solidFill>
                  <a:srgbClr val="333399"/>
                </a:solidFill>
                <a:latin typeface="HY견고딕"/>
                <a:ea typeface="HY견고딕"/>
              </a:rPr>
              <a:t>이에 일어나서 아버지께로 돌아가니라 아직도 거리가 먼데 아버지가 그를 보고 측은히 여겨 달려가 목을 안고 입을 맞추니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2771640" y="-28440"/>
            <a:ext cx="3600720" cy="864216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누가복음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17:15~16&gt;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15)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그 중의 한 사람이 자기가 나은 것을 보고 큰 소리로 하나님께 영광을 돌리며 돌아와 </a:t>
            </a:r>
            <a:br>
              <a:rPr sz="2800"/>
            </a:b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(16)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예수의 발 아래에 엎드리어 감사하니 그는 사마리아 사람이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1151280" y="1469880"/>
            <a:ext cx="37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회개의 경험이란 무엇입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2410920" y="188640"/>
            <a:ext cx="424836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gt;&gt;&gt; </a:t>
            </a:r>
            <a:r>
              <a:rPr b="1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하나님의 사랑을 받지 아니하는 인간은 이 세상에 아무도 없습니다</a:t>
            </a:r>
            <a:r>
              <a:rPr b="1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. </a:t>
            </a:r>
            <a:r>
              <a:rPr b="1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단지 하나님의 사랑을 깨닫지 못하고 살아가는 인간이 있을 따름입니다</a:t>
            </a:r>
            <a:r>
              <a:rPr b="1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고아는 아버지가 없는 사람이지만</a:t>
            </a:r>
            <a:r>
              <a:rPr b="1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미아는 아버지는 계신데도 아직 아버지를 만나지 못해서 아버지의 품에 안겨 사랑을 받아보지 못한 사람인 것입니다</a:t>
            </a:r>
            <a:r>
              <a:rPr b="1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. 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1508400" y="1469880"/>
            <a:ext cx="54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3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고아는 없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다만 미아가 있을 뿐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2014920" y="-207000"/>
            <a:ext cx="5040360" cy="8569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gt;&gt;&gt; </a:t>
            </a:r>
            <a:r>
              <a:rPr b="1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아들이 꼭 잘 되어가지고 돌아오기를 바라는 것은 아닙니다</a:t>
            </a:r>
            <a:r>
              <a:rPr b="1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. </a:t>
            </a:r>
            <a:r>
              <a:rPr b="1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아무래도 좋으니 무조건 돌아오라는 것입니다</a:t>
            </a:r>
            <a:r>
              <a:rPr b="1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. </a:t>
            </a:r>
            <a:r>
              <a:rPr b="1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아들의 생각은 자기가 방탕하고 있었기 때문에 모든 사람들이 자기를 버린 것으로 알고 있었지만</a:t>
            </a:r>
            <a:r>
              <a:rPr b="1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아버지는 그를 버리지 않았습니다</a:t>
            </a:r>
            <a:r>
              <a:rPr b="1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. </a:t>
            </a:r>
            <a:r>
              <a:rPr b="1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런데 그 아들은 그것을 몰랐기 때문에 그 동안 그런 모습으로 방황을 하였던 것입니다</a:t>
            </a:r>
            <a:r>
              <a:rPr b="1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아버지의 품으로 돌아오십시오</a:t>
            </a:r>
            <a:r>
              <a:rPr b="1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그 모습 그대로도 괜찮습니다</a:t>
            </a:r>
            <a:r>
              <a:rPr b="1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자녀란 자녀 된 그것만으로 충분히 소중합니다</a:t>
            </a:r>
            <a:r>
              <a:rPr b="1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나 같은 죄인 살리신 주 은혜 놀라와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잃었던 생명 찾았고 광명을 찾았네</a:t>
            </a:r>
            <a:r>
              <a:rPr b="1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965520" y="981000"/>
            <a:ext cx="358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4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아버지는 기다리고 계십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2920" y="-27000"/>
            <a:ext cx="4537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-청춘M"/>
                <a:ea typeface="-청춘M"/>
              </a:rPr>
              <a:t>▣ </a:t>
            </a:r>
            <a:r>
              <a:rPr b="1" lang="zh-CN" sz="5600" spc="-1" strike="noStrike">
                <a:solidFill>
                  <a:srgbClr val="ffffff"/>
                </a:solidFill>
                <a:latin typeface="-청춘M"/>
                <a:ea typeface="-청춘M"/>
              </a:rPr>
              <a:t>생각열기</a:t>
            </a:r>
            <a:endParaRPr b="0" lang="en-US" sz="56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2" name=""/>
          <p:cNvSpPr/>
          <p:nvPr/>
        </p:nvSpPr>
        <p:spPr>
          <a:xfrm>
            <a:off x="289080" y="1197000"/>
            <a:ext cx="8604000" cy="40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다시 한번 </a:t>
            </a:r>
            <a:r>
              <a:rPr b="0" lang="ko-KR" sz="3000" spc="-1" strike="noStrike" u="sng">
                <a:solidFill>
                  <a:srgbClr val="3333cc"/>
                </a:solidFill>
                <a:uFillTx/>
                <a:latin typeface="HY견고딕"/>
                <a:ea typeface="HY견고딕"/>
                <a:hlinkClick r:id="rId2"/>
              </a:rPr>
              <a:t>누가복음</a:t>
            </a:r>
            <a:r>
              <a:rPr b="0" lang="ko-KR" sz="3000" spc="-1" strike="noStrike" u="sng">
                <a:solidFill>
                  <a:srgbClr val="3333cc"/>
                </a:solidFill>
                <a:uFillTx/>
                <a:latin typeface="HY견고딕"/>
                <a:ea typeface="HY견고딕"/>
                <a:hlinkClick r:id="rId3"/>
              </a:rPr>
              <a:t>15:11-24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을 천천히 묵상하면서 읽어봅시다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어떤 단어나 어떤 구절이 마음에 와서 닿습니까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Q2. 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회개는 이론이 아닙니다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진실한 마음에서 우러나오는 입술의 고백이 필요합니다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회개할 마음을 달라고 먼저 기도하십시오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리고 지체하지 말고 이 시간 입을 열어 기도하십시오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50920" y="63360"/>
            <a:ext cx="26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 </a:t>
            </a:r>
            <a:r>
              <a:rPr b="0" lang="zh-CN" sz="4000" spc="-1" strike="noStrike">
                <a:solidFill>
                  <a:srgbClr val="ffffff"/>
                </a:solidFill>
                <a:latin typeface="-소망B"/>
                <a:ea typeface="-소망B"/>
              </a:rPr>
              <a:t>외 울 말 씀 </a:t>
            </a: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24000" y="1628640"/>
            <a:ext cx="8496000" cy="4169160"/>
            <a:chOff x="324000" y="1628640"/>
            <a:chExt cx="8496000" cy="4169160"/>
          </a:xfrm>
        </p:grpSpPr>
        <p:sp>
          <p:nvSpPr>
            <p:cNvPr id="135" name=""/>
            <p:cNvSpPr/>
            <p:nvPr/>
          </p:nvSpPr>
          <p:spPr>
            <a:xfrm>
              <a:off x="324000" y="1628640"/>
              <a:ext cx="8496000" cy="41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4000" y="162864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4000" y="1628640"/>
              <a:ext cx="8496000" cy="41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buClr>
                  <a:srgbClr val="000066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“ </a:t>
              </a:r>
              <a:r>
                <a:rPr b="0" lang="ko-KR" sz="32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너희는 너희가 범한 모든 죄악을 버리고 마음과 영을 새롭게 할지어다 이스라엘 족속아 너희가 어찌하여 죽고자 하느냐 ” </a:t>
              </a:r>
              <a:endParaRPr b="0" lang="en-US" sz="32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</a:t>
              </a:r>
              <a:r>
                <a:rPr b="0" lang="ko-KR" sz="32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ko-KR" sz="32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에스겔 </a:t>
              </a:r>
              <a:r>
                <a:rPr b="0" lang="ko-KR" sz="32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18:31&gt;</a:t>
              </a:r>
              <a:endParaRPr b="0" lang="en-US" sz="32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8000" y="981000"/>
            <a:ext cx="885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(11)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또 이르시되 어떤 사람에게 두 아들이 있는데 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(12)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그 둘째가 아버지에게 말하되 아버지여 재산 중에서 내게 돌아올 분깃을 내게 주소서 하는지라 아버지가 그 살림을 각각 나눠 주었더니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(13)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그 후 며칠이 안 되어 둘째 아들이 재물을 다 모아 가지고 먼 나라에 가 거기서 허랑방탕하여 그 재산을 낭비하더니 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(14)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다 없앤 후 그 나라에 크게 흉년이 들어 그가 비로소 궁핍한지라 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(15)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가서 그 나라 백성 중 한 사람에게 붙여 사니 그가 그를 들로 보내어 돼지를 치게 하였는데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(16)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그가 돼지 먹는 쥐엄 열매로 배를 채우고자 하되 주는 자가 없는지라 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(17)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이에 스스로 돌이켜 이르되 내 아버지에게는 양식이 풍족한 품꾼이 얼마나 많은가 나는 여기서 주려 죽는구나 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(18)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내가 일어나 아버지께 가서 이르기를 아버지 내가 하늘과 아버지께 죄를 지었사오니 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(19)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지금부터는 아버지의 아들이라 일컬음을 감당하지 못하겠나이다 나를 품꾼의 하나로 보소서 하리라 하고 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(20)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이에 일어나서 아버지께로 돌아가니라 아직도 거리가 먼데 아버지가 그를 보고 측은히 여겨 달려가 목을 안고 입을 맞추니 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(21)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아들이 이르되 아버지 내가 하늘과 아버지께 죄를 지었사오니 지금부터는 아버지의 아들이라 일컬음을 감당하지 못하겠나이다 하나 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(22)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아버지는 종들에게 이르되 제일 좋은 옷을 내어다가 입히고 손에 가락지를 끼우고 발에 신을 신기라 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(23)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리고 살진 송아지를 끌어다가 잡으라 우리가 먹고 즐기자 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(24)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HY견고딕"/>
              </a:rPr>
              <a:t>이 내 아들은 죽었다가 다시 살아났으며 내가 잃었다가 다시 얻었노라 하니 그들이 즐거워하더라 </a:t>
            </a:r>
            <a:endParaRPr b="0" lang="en-US" sz="20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2275560" y="136440"/>
            <a:ext cx="25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(한)문화방송"/>
                <a:ea typeface="(한)문화방송"/>
              </a:rPr>
              <a:t>누가복음</a:t>
            </a:r>
            <a:r>
              <a:rPr b="0" lang="ko-KR" sz="2800" spc="-1" strike="noStrike">
                <a:solidFill>
                  <a:srgbClr val="ffffff"/>
                </a:solidFill>
                <a:latin typeface="(한)문화방송"/>
                <a:ea typeface="(한)문화방송"/>
              </a:rPr>
              <a:t>15:11-24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40" name="">
            <a:hlinkClick r:id="rId2"/>
          </p:cNvPr>
          <p:cNvSpPr/>
          <p:nvPr/>
        </p:nvSpPr>
        <p:spPr>
          <a:xfrm>
            <a:off x="7651800" y="210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-소망B"/>
                <a:ea typeface="-소망B"/>
              </a:rPr>
              <a:t>행복한교회</a:t>
            </a:r>
            <a:endParaRPr b="0" lang="en-US" sz="1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-243000"/>
            <a:ext cx="835344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-소망B"/>
                <a:ea typeface="-소망B"/>
              </a:rPr>
              <a:t>   </a:t>
            </a: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ffffff"/>
                </a:solidFill>
                <a:latin typeface="-소망B"/>
                <a:ea typeface="-소망B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부 믿음의 기초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5f5f5f"/>
                </a:solidFill>
                <a:latin typeface="-소망B"/>
                <a:ea typeface="-소망B"/>
              </a:rPr>
              <a:t>3</a:t>
            </a:r>
            <a:r>
              <a:rPr b="0" lang="zh-CN" sz="4400" spc="-1" strike="noStrike">
                <a:solidFill>
                  <a:srgbClr val="5f5f5f"/>
                </a:solidFill>
                <a:latin typeface="-소망B"/>
                <a:ea typeface="-소망B"/>
              </a:rPr>
              <a:t>권 구원에 이르는 회개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4000" y="3429000"/>
            <a:ext cx="8496000" cy="3090960"/>
            <a:chOff x="324000" y="3429000"/>
            <a:chExt cx="8496000" cy="3090960"/>
          </a:xfrm>
        </p:grpSpPr>
        <p:sp>
          <p:nvSpPr>
            <p:cNvPr id="84" name=""/>
            <p:cNvSpPr/>
            <p:nvPr/>
          </p:nvSpPr>
          <p:spPr>
            <a:xfrm>
              <a:off x="324000" y="3429000"/>
              <a:ext cx="8496000" cy="30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4000" y="342900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4000" y="3429000"/>
              <a:ext cx="8496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buClr>
                  <a:srgbClr val="000066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성 경 말 씀 –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“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너희는 너희가 범한 모든 죄악을 버리고 마음과 영을 새롭게 할지어다 이스라엘 족속아 너희가 어찌하여 죽고자 하느냐 ” 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 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에스겔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18:31&gt;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547640" y="44280"/>
            <a:ext cx="863640" cy="719280"/>
          </a:xfrm>
          <a:prstGeom prst="rect">
            <a:avLst/>
          </a:prstGeom>
          <a:noFill/>
          <a:ln w="28440">
            <a:solidFill>
              <a:srgbClr val="af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15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47920" y="2133720"/>
            <a:ext cx="61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제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2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과 회개의 의미와 방법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마음열기</a:t>
            </a:r>
            <a:endParaRPr b="0" lang="en-US" sz="5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062080"/>
            <a:ext cx="82072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484200">
              <a:lnSpc>
                <a:spcPct val="150000"/>
              </a:lnSpc>
              <a:buClr>
                <a:srgbClr val="ccccff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2060640"/>
            <a:ext cx="8713800" cy="3168720"/>
          </a:xfrm>
          <a:prstGeom prst="roundRect">
            <a:avLst>
              <a:gd name="adj" fmla="val 10037"/>
            </a:avLst>
          </a:prstGeom>
          <a:solidFill>
            <a:srgbClr val="ffffff"/>
          </a:solidFill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zh-CN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지금까지 우리가 살아온 것이 제대로 산 것입니까</a:t>
            </a:r>
            <a:r>
              <a:rPr b="0" lang="en-US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r>
              <a:rPr b="0" lang="zh-CN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특히 삶의 위기에서 하나님을 향해 진심으로 기도한 적은 없습니까</a:t>
            </a:r>
            <a:r>
              <a:rPr b="0" lang="en-US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말씀열기</a:t>
            </a:r>
            <a:endParaRPr b="0" lang="en-US" sz="5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106200" y="1341360"/>
            <a:ext cx="691380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A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죄에 대한 가책</a:t>
            </a: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,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올바른 후회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717920" y="2333520"/>
            <a:ext cx="57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단순한 후회가 아니라 엄숙한 뉘우침이 필요합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3040560" y="351360"/>
            <a:ext cx="309708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 marL="82440" indent="-8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호세아 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5:15&gt;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 marL="82440" indent="-8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들이 그 죄를 뉘우치고 내 얼굴을 구하기까지 내가 내 곳으로 돌아가리라 그들이 고난 받을 때에 나를 간절히 구하리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8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385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60080" y="1052640"/>
            <a:ext cx="49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회개를 위한 근심은 구원에 이르게 합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3832560" y="-2026080"/>
            <a:ext cx="151272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1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로마서</a:t>
            </a:r>
            <a:r>
              <a:rPr b="1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7:24&gt;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오호라 나는 곤고한 사람이로다 이 사망의 몸에서 누가 나를 건져내랴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2772360" y="692640"/>
            <a:ext cx="3600720" cy="864072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고린도후서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7:9~10&gt;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9)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내가 지금 기뻐함은 너희로 근심하게 한 까닭이 아니요 도리어 너희가 근심함으로 회개함에 이른 까닭이라 너희가 하나님의 뜻대로 근심하게 된 것은 우리에게서 아무 해도 받지 않게 하려 함이라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10)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하나님의 뜻대로 하는 근심은 후회할 것이 없는 구원에 이르게 하는 회개를 이루는 것이요 세상 근심은 사망을 이루는 것이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8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385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38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38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07480" y="1773360"/>
            <a:ext cx="48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3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성령의 도우심이 있어야 회개하게 됩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3364200" y="-189360"/>
            <a:ext cx="244944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1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</a:t>
            </a:r>
            <a:r>
              <a:rPr b="1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16:8&gt;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그가 와서 죄에 대하여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, 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의에 대하여</a:t>
            </a:r>
            <a:r>
              <a:rPr b="0" lang="en-US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, </a:t>
            </a:r>
            <a:r>
              <a:rPr b="0" lang="zh-CN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심판에 대하여 세상을 책망하시리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8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385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38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38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1197000"/>
            <a:ext cx="705672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B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죄와 허물에 대해 고백하는 일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220560" y="-45720"/>
            <a:ext cx="273672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일서 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1:9&gt;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만일 우리가 우리 죄를 자백하면 그는 미쁘시고 의로우사 우리 죄를 사하시며 우리를 모든 불의에서 깨끗하게 하실 것이요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094560" y="511560"/>
            <a:ext cx="3097440" cy="835344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누가복음 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3:8&gt;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러므로 회개에 합당한 열매를 맺고 속으로 아브라함이 우리 조상이라 말하지 말라 내가 너희에게 이르노니 하나님이 능히 이 돌들로도 아브라함의 자손이 되게 하시리라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181080" y="1125360"/>
            <a:ext cx="590364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C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회개한 증거로써의 배상 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1719360" y="2189160"/>
            <a:ext cx="44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회개에 합당한 열매를 맺어야 합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2771640" y="-28440"/>
            <a:ext cx="3600720" cy="864216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누가복음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19:8&gt;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삭개오가 서서 주께 여짜오되 주여 보시옵소서 내 소유의 절반을 가난한 자들에게 주겠사오며 만일 누구의 것을 속여 빼앗은 일이 있으면 네 갑절이나 갚겠나이다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205640" y="1469880"/>
            <a:ext cx="39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구체적으로 배상을 해야 합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Korea</cp:lastModifiedBy>
  <dcterms:modified xsi:type="dcterms:W3CDTF">2006-08-16T04:29:32Z</dcterms:modified>
  <cp:revision>236</cp:revision>
  <dc:subject/>
  <dc:title>PowerPoint 프레젠테이션</dc:title>
</cp:coreProperties>
</file>