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32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3846240" y="94251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5E8-F61E-410F-A505-58E85294FF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08000" y="100080"/>
            <a:ext cx="3956040" cy="2967120"/>
          </a:xfrm>
          <a:prstGeom prst="rect">
            <a:avLst/>
          </a:prstGeom>
          <a:ln w="0">
            <a:noFill/>
          </a:ln>
        </p:spPr>
      </p:sp>
      <p:sp>
        <p:nvSpPr>
          <p:cNvPr id="159" name=""/>
          <p:cNvSpPr/>
          <p:nvPr/>
        </p:nvSpPr>
        <p:spPr>
          <a:xfrm>
            <a:off x="68400" y="3379680"/>
            <a:ext cx="66513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 Text.  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 Text.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 Text.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 Text.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3832200" y="368280"/>
            <a:ext cx="281772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Use this space for overall reminders or special tips linked to the slide or occasion.  Simply select this text and replace it with your own reminders.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F91-E80B-4E95-AE60-103803E1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F9D-D02B-4C61-9A5B-2BB56F6E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26A-37E8-472D-8650-D4CD019E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192-969E-400B-89C4-CDA58F1E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F42-8D01-45C2-AB63-1D46CE34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2B2-22FD-40FD-ADFA-B371B9F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25E-D30A-495B-893A-88A5CBB5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A6B-B1FE-4694-9265-B4752DF9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A61-E91A-462B-BDBC-701043F4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6FB-CACF-439C-B151-5E170E7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7D3-662D-45F8-9860-E91F3F97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B5E-E297-48FB-B27B-63C1223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2E55-CCC0-48F0-9C15-E6D230C7A94B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7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rot="5400000">
            <a:off x="2051640" y="-172080"/>
            <a:ext cx="5040360" cy="864216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3:39~43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39) 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달린 행악자 중 하나는 비방하여 이르되 네가 그리스도가 아니냐 너와 우리를 구원하라 하되 </a:t>
            </a:r>
            <a:br>
              <a:rPr sz="2400"/>
            </a:b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0) 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는 그 사람을 꾸짖어 이르되 네가 동일한 정죄를 받고서도 하나님을 두려워하지 아니하느냐 </a:t>
            </a:r>
            <a:br>
              <a:rPr sz="2400"/>
            </a:b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1) 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는 우리가 행한 일에 상당한 보응을 받는 것이니 이에 당연하거니와 이 사람이 행한 것은 옳지 않은 것이 없느니라 하고 </a:t>
            </a:r>
            <a:br>
              <a:rPr sz="2400"/>
            </a:b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2) 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르되 예수여 당신의 나라에 임하실 때에 나를 기억하소서 하니 </a:t>
            </a:r>
            <a:br>
              <a:rPr sz="2400"/>
            </a:b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3)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예수께서 이르시되 내가 진실로 네게 이르노니 오늘 네가 나와 함께 낙원에 있으리라 하시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033920" y="103824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한 사람이 구원 받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50920" y="1052640"/>
            <a:ext cx="8497440" cy="3528360"/>
            <a:chOff x="250920" y="1052640"/>
            <a:chExt cx="8497440" cy="3528360"/>
          </a:xfrm>
        </p:grpSpPr>
        <p:grpSp>
          <p:nvGrpSpPr>
            <p:cNvPr id="137" name=""/>
            <p:cNvGrpSpPr/>
            <p:nvPr/>
          </p:nvGrpSpPr>
          <p:grpSpPr>
            <a:xfrm>
              <a:off x="250920" y="1052640"/>
              <a:ext cx="8497440" cy="3528360"/>
              <a:chOff x="250920" y="1052640"/>
              <a:chExt cx="8497440" cy="3528360"/>
            </a:xfrm>
          </p:grpSpPr>
          <p:sp>
            <p:nvSpPr>
              <p:cNvPr id="138" name=""/>
              <p:cNvSpPr/>
              <p:nvPr/>
            </p:nvSpPr>
            <p:spPr>
              <a:xfrm rot="5400000">
                <a:off x="3850920" y="-2547360"/>
                <a:ext cx="1297080" cy="8497440"/>
              </a:xfrm>
              <a:prstGeom prst="cube">
                <a:avLst>
                  <a:gd name="adj" fmla="val 14578"/>
                </a:avLst>
              </a:prstGeom>
              <a:solidFill>
                <a:srgbClr val="33cccc"/>
              </a:solidFill>
              <a:ln w="0">
                <a:noFill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3850920" y="-1431720"/>
                <a:ext cx="1297080" cy="8497440"/>
              </a:xfrm>
              <a:prstGeom prst="cube">
                <a:avLst>
                  <a:gd name="adj" fmla="val 14578"/>
                </a:avLst>
              </a:prstGeom>
              <a:solidFill>
                <a:srgbClr val="ccccff"/>
              </a:solidFill>
              <a:ln w="0">
                <a:noFill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강산체"/>
                    <a:ea typeface="강산체"/>
                  </a:rPr>
                  <a:t>&lt;2&gt;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강산체"/>
                    <a:ea typeface="강산체"/>
                  </a:rPr>
                  <a:t>무슨 죄든지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강산체"/>
                    <a:ea typeface="강산체"/>
                  </a:rPr>
                  <a:t>회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강산체"/>
                    <a:ea typeface="강산체"/>
                  </a:rPr>
                  <a:t>만 하면 사함을 받습니다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강산체"/>
                    <a:ea typeface="강산체"/>
                  </a:rPr>
                  <a:t>.</a:t>
                </a:r>
                <a:endParaRPr b="0" lang="en-US" sz="28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3850920" y="-316080"/>
                <a:ext cx="1297080" cy="8497440"/>
              </a:xfrm>
              <a:prstGeom prst="cube">
                <a:avLst>
                  <a:gd name="adj" fmla="val 14578"/>
                </a:avLst>
              </a:prstGeom>
              <a:solidFill>
                <a:srgbClr val="83cdff"/>
              </a:solidFill>
              <a:ln w="0">
                <a:noFill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강산체"/>
                    <a:ea typeface="강산체"/>
                  </a:rPr>
                  <a:t>&lt;3&gt;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강산체"/>
                    <a:ea typeface="강산체"/>
                  </a:rPr>
                  <a:t>언제든지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강산체"/>
                    <a:ea typeface="강산체"/>
                  </a:rPr>
                  <a:t>회개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강산체"/>
                    <a:ea typeface="강산체"/>
                  </a:rPr>
                  <a:t>만 하면 다 구원을 받습니다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강산체"/>
                    <a:ea typeface="강산체"/>
                  </a:rPr>
                  <a:t>.</a:t>
                </a:r>
                <a:endParaRPr b="0" lang="en-US" sz="28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34880" y="1341360"/>
              <a:ext cx="73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&lt;1&gt; </a:t>
              </a:r>
              <a:r>
                <a:rPr b="0" lang="zh-CN" sz="28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누구든지 </a:t>
              </a:r>
              <a:r>
                <a:rPr b="0" lang="zh-CN" sz="2800" spc="-1" strike="noStrike">
                  <a:solidFill>
                    <a:srgbClr val="ff3300"/>
                  </a:solidFill>
                  <a:latin typeface="강산체"/>
                  <a:ea typeface="강산체"/>
                </a:rPr>
                <a:t>회개</a:t>
              </a:r>
              <a:r>
                <a:rPr b="0" lang="zh-CN" sz="28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만 하면 받아주십니다</a:t>
              </a:r>
              <a:r>
                <a:rPr b="0" lang="en-US" sz="28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.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797840" y="5008680"/>
            <a:ext cx="5535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이미 용서가 준비되어 있습니다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그러나 회개 없이는 용서하지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못합니다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그래서 어거스틴은 이렇게 말했습니다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“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하나님도 </a:t>
            </a:r>
            <a:r>
              <a:rPr b="0" lang="ko-KR" sz="2400" spc="-1" strike="noStrike">
                <a:solidFill>
                  <a:srgbClr val="ff3300"/>
                </a:solidFill>
                <a:latin typeface="HY견고딕"/>
                <a:ea typeface="HY견고딕"/>
              </a:rPr>
              <a:t>회개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하지 않는 </a:t>
            </a:r>
            <a:r>
              <a:rPr b="0" lang="ko-KR" sz="2400" spc="-1" strike="noStrike">
                <a:solidFill>
                  <a:srgbClr val="ff3300"/>
                </a:solidFill>
                <a:latin typeface="HY견고딕"/>
                <a:ea typeface="HY견고딕"/>
              </a:rPr>
              <a:t>죄인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을 용서하지 못하신다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.”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2842920" y="547560"/>
            <a:ext cx="3600360" cy="8353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시편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1:3~4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3)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무릇 나는 내 죄과를 아오니 내 죄가 항상 내 앞에 있나이다 </a:t>
            </a:r>
            <a:br>
              <a:rPr sz="2400"/>
            </a:b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4)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주께만 범죄하여 주의 목전에 악을 행하였사오니 주께서 말씀하실 때에 의로우시다 하고 주께서 심판하실 때에 순전하시다 하리이다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81080" y="1125360"/>
            <a:ext cx="770400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C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죄는 밉지만 회개는 아름답습니다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. 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468080" y="2154240"/>
            <a:ext cx="35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다윗의 회개 – 개인적인 회개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75640" y="-819720"/>
            <a:ext cx="2592360" cy="8353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나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5~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5)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니느웨 사람들이 하나님을 믿고 금식을 선포하고 높고 낮은 자를 막론하고 굵은 베 옷을 입은지라 </a:t>
            </a:r>
            <a:br>
              <a:rPr sz="2400"/>
            </a:b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6)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 일이 니느웨 왕에게 들리매 왕이 보좌에서 일어나 왕복을 벗고 굵은 베 옷을 입고 재 위에 앉으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312200" y="11970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니느웨의 회개 – 민족적인 회개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734120" y="5084640"/>
            <a:ext cx="4332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회개하지 않으면 </a:t>
            </a:r>
            <a:r>
              <a:rPr b="0" lang="zh-CN" sz="2800" spc="-1" strike="noStrike">
                <a:solidFill>
                  <a:srgbClr val="ff3300"/>
                </a:solidFill>
                <a:latin typeface="HY견고딕"/>
                <a:ea typeface="HY견고딕"/>
              </a:rPr>
              <a:t>심판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을 받습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심판을 받지 않으려면 </a:t>
            </a:r>
            <a:r>
              <a:rPr b="0" lang="zh-CN" sz="2800" spc="-1" strike="noStrike">
                <a:solidFill>
                  <a:srgbClr val="ff3300"/>
                </a:solidFill>
                <a:latin typeface="HY견고딕"/>
                <a:ea typeface="HY견고딕"/>
              </a:rPr>
              <a:t>회개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해야 합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1197000"/>
            <a:ext cx="8604000" cy="49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이시간 곧바로 회개의 기도를 드리십시오</a:t>
            </a:r>
            <a:r>
              <a:rPr b="0" lang="ko-KR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오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하나님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!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저는 죄인입니다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제 저는 죄로 말미암아 걷게 될 멸망과 진노의 길에서 돌아서서 주의 긍휼과 사랑을 구합니다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저의 죄를 용서하시고 십자가에서 흘린 예수님의 보배로운 피로 씻어 주옵소서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제 저의 마음을 열어 당신을 나의 구주와 주님으로 영접하겠습니다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저를 인도하여 주의 길로 가게 하옵소서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님의 이름으로 기도 드립니다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멘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4000" y="1773360"/>
            <a:ext cx="8496000" cy="4313160"/>
            <a:chOff x="324000" y="1773360"/>
            <a:chExt cx="8496000" cy="4313160"/>
          </a:xfrm>
        </p:grpSpPr>
        <p:sp>
          <p:nvSpPr>
            <p:cNvPr id="155" name=""/>
            <p:cNvSpPr/>
            <p:nvPr/>
          </p:nvSpPr>
          <p:spPr>
            <a:xfrm>
              <a:off x="324000" y="1773360"/>
              <a:ext cx="8496000" cy="43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000" y="17733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1773360"/>
              <a:ext cx="8496000" cy="42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 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이 때부터 예수께서 비로소 전파하여 이르시되 회개하라 천국이 가까이 왔느니라 하시더라 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마태복음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4:17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-243000"/>
            <a:ext cx="83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3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에 이르는 회개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4000" y="3573360"/>
            <a:ext cx="8496000" cy="2517480"/>
            <a:chOff x="324000" y="3573360"/>
            <a:chExt cx="8496000" cy="2517480"/>
          </a:xfrm>
        </p:grpSpPr>
        <p:sp>
          <p:nvSpPr>
            <p:cNvPr id="91" name=""/>
            <p:cNvSpPr/>
            <p:nvPr/>
          </p:nvSpPr>
          <p:spPr>
            <a:xfrm>
              <a:off x="324000" y="3573360"/>
              <a:ext cx="849600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4000" y="35733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3573360"/>
              <a:ext cx="8496000" cy="24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buClr>
                  <a:srgbClr val="000066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–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“ 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이 때부터 예수께서 비로소 전파하여 이르시되 회개하라 천국이 가까이 왔느니라 하시더라 ”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마태복음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4:17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4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47920" y="213372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1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회개는 아릅답습니다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341360"/>
            <a:ext cx="8713800" cy="475164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세상에 용서받지 못할 죄가 없다는 사실에 대하여 어떻게 생각하십니까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죄는 미워하지만 죄인은 사랑하신다는 말은 무엇입니까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197000"/>
            <a:ext cx="424836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A. </a:t>
            </a:r>
            <a:r>
              <a:rPr b="0" lang="zh-CN" sz="3400" spc="-1" strike="noStrike">
                <a:solidFill>
                  <a:srgbClr val="ffffff"/>
                </a:solidFill>
                <a:latin typeface="-소망B"/>
                <a:ea typeface="-소망B"/>
              </a:rPr>
              <a:t>죄는 밉습니다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462680" y="2271600"/>
            <a:ext cx="34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하지 않으면 망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040560" y="351360"/>
            <a:ext cx="309708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1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3:2-3&gt;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2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대답하여 이르시되 너희는 이 갈릴리 사람들이 이같이 해 받으므로 다른 모든 갈릴리 사람보다 죄가 더 있는 줄 아느냐 </a:t>
            </a:r>
            <a:br>
              <a:rPr sz="2400"/>
            </a:b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3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너희에게 이르노니 아니라 너희도 만일 회개하지 아니하면 다 이와 같이 망하리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8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38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81040" y="17733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어디서나 누구나 회개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149280" y="98280"/>
            <a:ext cx="287964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사도행전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7:30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알지 못하던 시대에는 하나님이 간과하셨거니와 이제는 어디든지 사람에게 다 명하사 회개하라 하셨으니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49680" y="1773360"/>
            <a:ext cx="52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하나님은 모든 사람이 회개하기를 원하십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933280" y="241200"/>
            <a:ext cx="331128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후서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3:9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주의 약속은 어떤 이들이 더디다고 생각하는 것 같이 더딘 것이 아니라 오직 주께서는 너희를 대하여 오래 참으사 아무도 멸망하지 아니하고 다 회개하기에 이르기를 원하시느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8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38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49680" y="1773360"/>
            <a:ext cx="52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4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하나님은 악인이 회개하는 것을 기뻐하십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933280" y="241200"/>
            <a:ext cx="331128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복음</a:t>
            </a:r>
            <a:r>
              <a:rPr b="1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5:7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너희에게 이르노니 이와 같이 죄인 한 사람이 회개하면 하늘에서는 회개할 것 없는 의인 아흔아홉으로 말미암아 기뻐하는 것보다 더하리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1197000"/>
            <a:ext cx="7704360" cy="7192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fffff"/>
                </a:solidFill>
                <a:latin typeface="-소망B"/>
                <a:ea typeface="-소망B"/>
              </a:rPr>
              <a:t>B. </a:t>
            </a:r>
            <a:r>
              <a:rPr b="0" lang="ko-KR" sz="3400" spc="-1" strike="noStrike">
                <a:solidFill>
                  <a:srgbClr val="ffffff"/>
                </a:solidFill>
                <a:latin typeface="-소망B"/>
                <a:ea typeface="-소망B"/>
              </a:rPr>
              <a:t>회개하지 않는 패역은 더 밉습니다</a:t>
            </a:r>
            <a:r>
              <a:rPr b="0" lang="ko-KR" sz="3400" spc="-1" strike="noStrike">
                <a:solidFill>
                  <a:srgbClr val="ffffff"/>
                </a:solidFill>
                <a:latin typeface="-소망B"/>
                <a:ea typeface="-소망B"/>
              </a:rPr>
              <a:t>.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84800" y="2693880"/>
            <a:ext cx="58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회개를 지연시키는 마귀의 핑계를 극복해야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650600" y="3454560"/>
            <a:ext cx="57920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HY견고딕"/>
                <a:ea typeface="HY견고딕"/>
              </a:rPr>
              <a:t>&gt;&gt;&gt; </a:t>
            </a:r>
            <a:r>
              <a:rPr b="0" lang="zh-CN" sz="2800" spc="-1" strike="noStrike">
                <a:solidFill>
                  <a:srgbClr val="9900cc"/>
                </a:solidFill>
                <a:latin typeface="HY견고딕"/>
                <a:ea typeface="HY견고딕"/>
              </a:rPr>
              <a:t>마귀는 다양한 방법으로 회개를 지연시켜서 결국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HY견고딕"/>
                <a:ea typeface="HY견고딕"/>
              </a:rPr>
              <a:t>회개하지 못하게 하며 구원받지 못하도록 합니다</a:t>
            </a:r>
            <a:r>
              <a:rPr b="0" lang="en-US" sz="2800" spc="-1" strike="noStrike">
                <a:solidFill>
                  <a:srgbClr val="9900cc"/>
                </a:solidFill>
                <a:latin typeface="HY견고딕"/>
                <a:ea typeface="HY견고딕"/>
              </a:rPr>
              <a:t>. 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HY견고딕"/>
                <a:ea typeface="HY견고딕"/>
              </a:rPr>
              <a:t>서로 관련이 있는 내용을 줄로 연결해 보십시오 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23640" y="1917720"/>
            <a:ext cx="1584360" cy="4319640"/>
            <a:chOff x="323640" y="1917720"/>
            <a:chExt cx="1584360" cy="4319640"/>
          </a:xfrm>
        </p:grpSpPr>
        <p:sp>
          <p:nvSpPr>
            <p:cNvPr id="113" name=""/>
            <p:cNvSpPr/>
            <p:nvPr/>
          </p:nvSpPr>
          <p:spPr>
            <a:xfrm flipH="1">
              <a:off x="323280" y="1917720"/>
              <a:ext cx="1439640" cy="901800"/>
            </a:xfrm>
            <a:prstGeom prst="rect">
              <a:avLst/>
            </a:prstGeom>
            <a:solidFill>
              <a:srgbClr val="83cdff"/>
            </a:solidFill>
            <a:ln w="0">
              <a:noFill/>
            </a:ln>
            <a:effectLst>
              <a:outerShdw dist="17819" dir="2700000" blurRad="0" rotWithShape="0">
                <a:srgbClr val="4e7a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범  위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60680" y="2274840"/>
              <a:ext cx="247320" cy="21744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23280" y="3057480"/>
              <a:ext cx="1439640" cy="900000"/>
            </a:xfrm>
            <a:prstGeom prst="rect">
              <a:avLst/>
            </a:prstGeom>
            <a:solidFill>
              <a:srgbClr val="83cdff"/>
            </a:solidFill>
            <a:ln w="0">
              <a:noFill/>
            </a:ln>
            <a:effectLst>
              <a:outerShdw dist="17819" dir="2700000" blurRad="0" rotWithShape="0">
                <a:srgbClr val="4e7a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크  기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23280" y="4197240"/>
              <a:ext cx="1439640" cy="900360"/>
            </a:xfrm>
            <a:prstGeom prst="rect">
              <a:avLst/>
            </a:prstGeom>
            <a:solidFill>
              <a:srgbClr val="83cdff"/>
            </a:solidFill>
            <a:ln w="0">
              <a:noFill/>
            </a:ln>
            <a:effectLst>
              <a:outerShdw dist="17819" dir="2700000" blurRad="0" rotWithShape="0">
                <a:srgbClr val="4e7a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시  기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3280" y="5335560"/>
              <a:ext cx="1439640" cy="901800"/>
            </a:xfrm>
            <a:prstGeom prst="rect">
              <a:avLst/>
            </a:prstGeom>
            <a:solidFill>
              <a:srgbClr val="83cdff"/>
            </a:solidFill>
            <a:ln w="0">
              <a:noFill/>
            </a:ln>
            <a:effectLst>
              <a:outerShdw dist="17819" dir="2700000" blurRad="0" rotWithShape="0">
                <a:srgbClr val="4e7a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공  개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19280" y="3330720"/>
              <a:ext cx="247680" cy="21564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19280" y="4492800"/>
              <a:ext cx="247680" cy="21744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19280" y="5656320"/>
              <a:ext cx="247680" cy="21600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564000" y="1917720"/>
            <a:ext cx="5256000" cy="4319640"/>
            <a:chOff x="3564000" y="1917720"/>
            <a:chExt cx="5256000" cy="4319640"/>
          </a:xfrm>
        </p:grpSpPr>
        <p:sp>
          <p:nvSpPr>
            <p:cNvPr id="122" name=""/>
            <p:cNvSpPr/>
            <p:nvPr/>
          </p:nvSpPr>
          <p:spPr>
            <a:xfrm>
              <a:off x="3708360" y="1917720"/>
              <a:ext cx="5111640" cy="901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회개할 정도로 죄가 크지 않다는 것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4000" y="2249640"/>
              <a:ext cx="247680" cy="21744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08360" y="3057480"/>
              <a:ext cx="5111640" cy="900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나만 죄인이 아니라는 것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8360" y="4197240"/>
              <a:ext cx="5111640" cy="900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Arial"/>
                </a:rPr>
                <a:t>아무도 모르니 회개할 필요없다는 것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8360" y="5335560"/>
              <a:ext cx="5111640" cy="901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Arial"/>
                </a:rPr>
                <a:t>회개하기에 너무 이르거나 늦었다는 것</a:t>
              </a:r>
              <a:endParaRPr b="0" lang="en-US" sz="23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64000" y="3330720"/>
              <a:ext cx="247680" cy="21564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4000" y="4492800"/>
              <a:ext cx="247680" cy="21744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4000" y="5656320"/>
              <a:ext cx="247680" cy="216000"/>
            </a:xfrm>
            <a:prstGeom prst="ellipse">
              <a:avLst/>
            </a:prstGeom>
            <a:solidFill>
              <a:srgbClr val="0902f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979640" y="2492280"/>
            <a:ext cx="1512720" cy="865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79640" y="2492280"/>
            <a:ext cx="1512720" cy="936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4653000"/>
            <a:ext cx="1512720" cy="1081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79640" y="4652640"/>
            <a:ext cx="1512720" cy="1081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7-11T03:14:56Z</dcterms:modified>
  <cp:revision>222</cp:revision>
  <dc:subject/>
  <dc:title>PowerPoint 프레젠테이션</dc:title>
</cp:coreProperties>
</file>