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8D49-DDE6-4624-9E9E-672A519C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141-3540-448E-B14C-DB3612F9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C37-79FF-462A-BEAB-96ADA0CE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05F-BA59-416D-8F97-15C5CE61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809-867B-4A71-B9C7-8B65C5F7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F957-824A-42EB-A4F0-58EC2709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5F9-F2BE-40B4-A113-56526C0F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C98-8315-404D-AD36-27B5A5FC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0"/>
            <a:ext cx="7416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8C2-0EB3-4DE6-8FA3-A6C18AEA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BB7-C9E4-4573-8BDB-381908D4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EC4-31D8-4B8E-9B56-2D390E92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3A0-EC93-4777-B27D-68453CC8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CE27-C1C0-43AA-81F8-1E9DC147A37D}" type="slidenum">
              <a:rPr b="0" lang="en-US" sz="1400" spc="-1" strike="noStrike">
                <a:solidFill>
                  <a:srgbClr val="000066"/>
                </a:solidFill>
                <a:latin typeface="HY견고딕"/>
                <a:ea typeface="HY견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80" name=""/>
          <p:cNvSpPr/>
          <p:nvPr/>
        </p:nvSpPr>
        <p:spPr>
          <a:xfrm>
            <a:off x="2525400" y="185760"/>
            <a:ext cx="397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삶의 가치를 향상 시켜주는 구원에 이르는</a:t>
            </a:r>
            <a:endParaRPr b="0" lang="en-US" sz="26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44988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lt; </a:t>
            </a:r>
            <a:r>
              <a:rPr b="0" lang="zh-CN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확  신  편 </a:t>
            </a:r>
            <a:r>
              <a:rPr b="0" lang="en-US" sz="3600" spc="-1" strike="noStrike">
                <a:solidFill>
                  <a:srgbClr val="0000cc"/>
                </a:solidFill>
                <a:latin typeface="강산체"/>
                <a:ea typeface="강산체"/>
              </a:rPr>
              <a:t>&gt;</a:t>
            </a:r>
            <a:endParaRPr b="0" lang="en-US" sz="36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2200" y="1268280"/>
            <a:ext cx="8497800" cy="525636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누가복음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15:18~20&gt;  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(18)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내가 일어나 아버지께 가서 이르기를 아버지 내가 하늘과 아버지께 죄를 지었사오니      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(19)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지금부터는 아버지의 아들이라 일컬음을 감당하지 못하겠나이다 나를 품꾼의 하나로 보소서 하리라 하고  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(20)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이에 일어나서 아버지께로 돌아가니라 아직도 거리가 먼데 아버지가 그를 보고 측은히 여겨 달려가 목을 안고 입을 맞추니 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4000" y="1846440"/>
            <a:ext cx="8497800" cy="453528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 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로마서 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3:27~28&gt; 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(27) 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그런즉 자랑할 데가 어디냐 있을 수가 없느니라 무슨 법으로냐 행위로냐 아니라 오직 믿음의 법으로니라 </a:t>
            </a:r>
            <a:br>
              <a:rPr sz="3000"/>
            </a:b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(28) 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그러므로 사람이 의롭다 하심을 얻는 것은 율법의 행위에 있지 않고 믿음으로 되는 줄 우리가 인정하노라 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8000" y="1268280"/>
            <a:ext cx="7264440" cy="677160"/>
          </a:xfrm>
          <a:prstGeom prst="roundRect">
            <a:avLst>
              <a:gd name="adj" fmla="val 16667"/>
            </a:avLst>
          </a:prstGeom>
          <a:solidFill>
            <a:srgbClr val="98cfee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-소망B"/>
                <a:ea typeface="-소망B"/>
              </a:rPr>
              <a:t>C. </a:t>
            </a:r>
            <a:r>
              <a:rPr b="0" lang="zh-CN" sz="3400" spc="-1" strike="noStrike">
                <a:solidFill>
                  <a:srgbClr val="000066"/>
                </a:solidFill>
                <a:latin typeface="-소망B"/>
                <a:ea typeface="-소망B"/>
              </a:rPr>
              <a:t>우리가 아직 죄인 되었을 때에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2934000" y="-81360"/>
            <a:ext cx="3240000" cy="8677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zh-CN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로마서</a:t>
            </a:r>
            <a:r>
              <a:rPr b="0" lang="en-US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5:12&gt;</a:t>
            </a:r>
            <a:r>
              <a:rPr b="0" lang="zh-CN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그러므로 한 사람으로 말미암아 죄가 세상에 들어오고 죄로 말미암아 사망이 들어왔나니 이와 같이 모든 사람이 죄를 지었으므로 사망이 모든 사람에게 이르렀느니라 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24000" y="1846440"/>
            <a:ext cx="8497800" cy="467820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 </a:t>
            </a:r>
            <a:r>
              <a:rPr b="0" lang="en-US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zh-CN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로마서 </a:t>
            </a:r>
            <a:r>
              <a:rPr b="0" lang="en-US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5:18~19&gt; 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(18)</a:t>
            </a:r>
            <a:r>
              <a:rPr b="0" lang="zh-CN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그런즉 한 범죄로 많은 사람이 정죄에 이른 것 같이 한 의로운 행위로 말미암아 많은 사람이 의롭다 하심을 받아 생명에 이르렀느니라 </a:t>
            </a:r>
            <a:br>
              <a:rPr sz="3000"/>
            </a:br>
            <a:r>
              <a:rPr b="0" lang="en-US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(19)</a:t>
            </a:r>
            <a:r>
              <a:rPr b="0" lang="zh-CN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한 사람이 순종하지 아니함으로 많은 사람이 죄인 된 것 같이 한 사람이 순종하심으로 많은 사람이 의인이 되리라 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24000" y="1341360"/>
            <a:ext cx="8497800" cy="5183280"/>
          </a:xfrm>
          <a:prstGeom prst="rect">
            <a:avLst/>
          </a:prstGeom>
          <a:gradFill rotWithShape="0">
            <a:gsLst>
              <a:gs pos="0">
                <a:srgbClr val="e9e9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 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로마서 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5:6~8&gt; 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 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(6)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우리가 아직 연약할 때에 기약대로 그리스도께서 경건하지 않은 자를 위하여 죽으셨도다 </a:t>
            </a:r>
            <a:br>
              <a:rPr sz="3000"/>
            </a:b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 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(7)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의인을 위하여 죽는 자가 쉽지 않고 선인을 위하여 용감히 죽는 자가 혹 있거니와 </a:t>
            </a:r>
            <a:br>
              <a:rPr sz="3000"/>
            </a:b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 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(8)</a:t>
            </a:r>
            <a:r>
              <a:rPr b="0" lang="ko-KR" sz="3000" spc="-1" strike="noStrike">
                <a:solidFill>
                  <a:srgbClr val="000099"/>
                </a:solidFill>
                <a:latin typeface="HY견고딕"/>
                <a:ea typeface="HY견고딕"/>
              </a:rPr>
              <a:t>우리가 아직 죄인 되었을 때에 그리스도께서 우리를 위하여 죽으심으로 하나님께서 우리에 대한 자기의 사랑을 확증하셨느니라 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8920" y="1452600"/>
            <a:ext cx="8713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96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&gt;&gt;&gt; 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</a:rPr>
              <a:t>우리가 아직 </a:t>
            </a:r>
            <a:r>
              <a:rPr b="0" lang="zh-CN" sz="3200" spc="-1" strike="noStrike">
                <a:solidFill>
                  <a:srgbClr val="ff3300"/>
                </a:solidFill>
                <a:latin typeface="HY견고딕"/>
              </a:rPr>
              <a:t>약할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 때에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(6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</a:rPr>
              <a:t>절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)</a:t>
            </a:r>
            <a:endParaRPr b="0" lang="en-US" sz="3200" spc="-1" strike="noStrike">
              <a:solidFill>
                <a:srgbClr val="000066"/>
              </a:solidFill>
              <a:latin typeface="HY견고딕"/>
            </a:endParaRPr>
          </a:p>
          <a:p>
            <a:pPr marL="8096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      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</a:rPr>
              <a:t>우리가 아직 </a:t>
            </a:r>
            <a:r>
              <a:rPr b="0" lang="zh-CN" sz="3200" spc="-1" strike="noStrike">
                <a:solidFill>
                  <a:srgbClr val="ff3300"/>
                </a:solidFill>
                <a:latin typeface="HY견고딕"/>
              </a:rPr>
              <a:t>죄인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</a:rPr>
              <a:t>으로 있을 때에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(8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</a:rPr>
              <a:t>절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)</a:t>
            </a:r>
            <a:endParaRPr b="0" lang="en-US" sz="3200" spc="-1" strike="noStrike">
              <a:solidFill>
                <a:srgbClr val="000066"/>
              </a:solidFill>
              <a:latin typeface="HY견고딕"/>
            </a:endParaRPr>
          </a:p>
          <a:p>
            <a:pPr marL="8096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      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</a:rPr>
              <a:t>우리가 하나님의 </a:t>
            </a:r>
            <a:r>
              <a:rPr b="0" lang="zh-CN" sz="3200" spc="-1" strike="noStrike">
                <a:solidFill>
                  <a:srgbClr val="ff3300"/>
                </a:solidFill>
                <a:latin typeface="HY견고딕"/>
              </a:rPr>
              <a:t>원수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</a:rPr>
              <a:t>로 있을 때에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,(10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</a:rPr>
              <a:t>절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)</a:t>
            </a:r>
            <a:endParaRPr b="0" lang="en-US" sz="3200" spc="-1" strike="noStrike">
              <a:solidFill>
                <a:srgbClr val="000066"/>
              </a:solidFill>
              <a:latin typeface="HY견고딕"/>
            </a:endParaRPr>
          </a:p>
          <a:p>
            <a:pPr marL="8096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      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</a:rPr>
              <a:t>우리가 아직 </a:t>
            </a:r>
            <a:r>
              <a:rPr b="0" lang="zh-CN" sz="3200" spc="-1" strike="noStrike">
                <a:solidFill>
                  <a:srgbClr val="ff3300"/>
                </a:solidFill>
                <a:latin typeface="HY견고딕"/>
              </a:rPr>
              <a:t>성장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</a:rPr>
              <a:t>하지 않았을 때에</a:t>
            </a:r>
            <a:endParaRPr b="0" lang="en-US" sz="3200" spc="-1" strike="noStrike">
              <a:solidFill>
                <a:srgbClr val="000066"/>
              </a:solidFill>
              <a:latin typeface="HY견고딕"/>
            </a:endParaRPr>
          </a:p>
          <a:p>
            <a:pPr marL="8096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      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</a:rPr>
              <a:t>또한 내가 하나님의 사랑을 알아듣지도 못하고 깨닫지도 못할 그때에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,</a:t>
            </a:r>
            <a:endParaRPr b="0" lang="en-US" sz="3200" spc="-1" strike="noStrike">
              <a:solidFill>
                <a:srgbClr val="000066"/>
              </a:solidFill>
              <a:latin typeface="HY견고딕"/>
            </a:endParaRPr>
          </a:p>
          <a:p>
            <a:pPr marL="8096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      </a:t>
            </a:r>
            <a:r>
              <a:rPr b="0" lang="zh-CN" sz="3200" spc="-1" strike="noStrike">
                <a:solidFill>
                  <a:srgbClr val="000066"/>
                </a:solidFill>
                <a:latin typeface="HY견고딕"/>
              </a:rPr>
              <a:t>나를 사랑하셨다는 것입니다</a:t>
            </a:r>
            <a:r>
              <a:rPr b="0" lang="en-US" sz="3200" spc="-1" strike="noStrike">
                <a:solidFill>
                  <a:srgbClr val="000066"/>
                </a:solidFill>
                <a:latin typeface="HY견고딕"/>
              </a:rPr>
              <a:t>. </a:t>
            </a:r>
            <a:endParaRPr b="0" lang="en-US" sz="3200" spc="-1" strike="noStrike">
              <a:solidFill>
                <a:srgbClr val="000066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2920" y="-27000"/>
            <a:ext cx="453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-청춘M"/>
                <a:ea typeface="-청춘M"/>
              </a:rPr>
              <a:t>▣ </a:t>
            </a:r>
            <a:r>
              <a:rPr b="1" lang="zh-CN" sz="5600" spc="-1" strike="noStrike">
                <a:solidFill>
                  <a:srgbClr val="ffffff"/>
                </a:solidFill>
                <a:latin typeface="-청춘M"/>
                <a:ea typeface="-청춘M"/>
              </a:rPr>
              <a:t>생각열기</a:t>
            </a:r>
            <a:endParaRPr b="0" lang="en-US" sz="5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7" name=""/>
          <p:cNvSpPr/>
          <p:nvPr/>
        </p:nvSpPr>
        <p:spPr>
          <a:xfrm>
            <a:off x="289080" y="1197000"/>
            <a:ext cx="8604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다른 종교와 기독교의 출발점이 명확하게 다르다는 사실을 설명했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출발점이 다를 뿐 아니라 도착점도 다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다른 종교와 기독교의 차이점을 다시 한번 정리 해서 말해 봅시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719280" indent="-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2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놀이터에 흩어진 깨진 유리조각을 줍는 사람에게 고마워해 본적이 있습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 marL="719280" indent="-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Q3.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여러분이 헌혈을 하였을 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그 피가 어떻게 잘 사용되어지기를 바랍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특히 피를 받는 사람이 어떤 사람이기를 원합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050920" y="63360"/>
            <a:ext cx="26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 </a:t>
            </a:r>
            <a:r>
              <a:rPr b="0" lang="zh-CN" sz="4000" spc="-1" strike="noStrike">
                <a:solidFill>
                  <a:srgbClr val="ffffff"/>
                </a:solidFill>
                <a:latin typeface="-소망B"/>
                <a:ea typeface="-소망B"/>
              </a:rPr>
              <a:t>외 울 말 씀 </a:t>
            </a:r>
            <a:r>
              <a:rPr b="0" lang="en-US" sz="4000" spc="-1" strike="noStrike">
                <a:solidFill>
                  <a:srgbClr val="ffffff"/>
                </a:solidFill>
                <a:latin typeface="-소망B"/>
                <a:ea typeface="-소망B"/>
              </a:rPr>
              <a:t>-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95280" y="1413000"/>
            <a:ext cx="8496360" cy="4385880"/>
            <a:chOff x="395280" y="1413000"/>
            <a:chExt cx="8496360" cy="4385880"/>
          </a:xfrm>
        </p:grpSpPr>
        <p:sp>
          <p:nvSpPr>
            <p:cNvPr id="180" name=""/>
            <p:cNvSpPr/>
            <p:nvPr/>
          </p:nvSpPr>
          <p:spPr>
            <a:xfrm>
              <a:off x="395280" y="1413000"/>
              <a:ext cx="8496360" cy="43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5280" y="1413000"/>
              <a:ext cx="849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5280" y="1413000"/>
              <a:ext cx="8496360" cy="43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3333ff"/>
                  </a:solidFill>
                  <a:latin typeface="-소망B"/>
                  <a:ea typeface="-소망B"/>
                </a:rPr>
                <a:t>  “</a:t>
              </a:r>
              <a:r>
                <a:rPr b="0" lang="ko-KR" sz="3200" spc="-1" strike="noStrike">
                  <a:solidFill>
                    <a:srgbClr val="3333ff"/>
                  </a:solidFill>
                  <a:latin typeface="-소망B"/>
                  <a:ea typeface="-소망B"/>
                </a:rPr>
                <a:t>(27) </a:t>
              </a:r>
              <a:r>
                <a:rPr b="0" lang="ko-KR" sz="3200" spc="-1" strike="noStrike">
                  <a:solidFill>
                    <a:srgbClr val="3333ff"/>
                  </a:solidFill>
                  <a:latin typeface="-소망B"/>
                  <a:ea typeface="-소망B"/>
                </a:rPr>
                <a:t>그런즉 자랑할 데가 어디냐 있을 수가 없느니라 무슨 법으로냐 행위로냐 아니라 오직 믿음의 법으로니라 </a:t>
              </a:r>
              <a:endParaRPr b="0" lang="en-US" sz="32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3333ff"/>
                  </a:solidFill>
                  <a:latin typeface="-소망B"/>
                  <a:ea typeface="-소망B"/>
                </a:rPr>
                <a:t>   </a:t>
              </a:r>
              <a:r>
                <a:rPr b="0" lang="ko-KR" sz="3200" spc="-1" strike="noStrike">
                  <a:solidFill>
                    <a:srgbClr val="3333ff"/>
                  </a:solidFill>
                  <a:latin typeface="-소망B"/>
                  <a:ea typeface="-소망B"/>
                </a:rPr>
                <a:t>(28) </a:t>
              </a:r>
              <a:r>
                <a:rPr b="0" lang="ko-KR" sz="3200" spc="-1" strike="noStrike">
                  <a:solidFill>
                    <a:srgbClr val="3333ff"/>
                  </a:solidFill>
                  <a:latin typeface="-소망B"/>
                  <a:ea typeface="-소망B"/>
                </a:rPr>
                <a:t>그러므로 사람이 의롭다 하심을 얻는 것은 율법의 행위에 있지 않고 믿음으로 되는 줄 우리가 인정하노라 ”</a:t>
              </a:r>
              <a:r>
                <a:rPr b="0" lang="ko-KR" sz="2800" spc="-1" strike="noStrike">
                  <a:solidFill>
                    <a:srgbClr val="3333ff"/>
                  </a:solidFill>
                  <a:latin typeface="-소망B"/>
                  <a:ea typeface="-소망B"/>
                </a:rPr>
                <a:t> 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3333ff"/>
                  </a:solidFill>
                  <a:latin typeface="-소망B"/>
                  <a:ea typeface="-소망B"/>
                </a:rPr>
                <a:t>                         </a:t>
              </a:r>
              <a:r>
                <a:rPr b="0" lang="ko-KR" sz="3200" spc="-1" strike="noStrike">
                  <a:solidFill>
                    <a:srgbClr val="3333ff"/>
                  </a:solidFill>
                  <a:latin typeface="-소망B"/>
                  <a:ea typeface="-소망B"/>
                </a:rPr>
                <a:t>&lt;</a:t>
              </a:r>
              <a:r>
                <a:rPr b="0" lang="ko-KR" sz="3200" spc="-1" strike="noStrike">
                  <a:solidFill>
                    <a:srgbClr val="3333ff"/>
                  </a:solidFill>
                  <a:latin typeface="-소망B"/>
                  <a:ea typeface="-소망B"/>
                </a:rPr>
                <a:t>로마서</a:t>
              </a:r>
              <a:r>
                <a:rPr b="0" lang="ko-KR" sz="3200" spc="-1" strike="noStrike">
                  <a:solidFill>
                    <a:srgbClr val="3333ff"/>
                  </a:solidFill>
                  <a:latin typeface="-소망B"/>
                  <a:ea typeface="-소망B"/>
                </a:rPr>
                <a:t>3:27~28&gt;</a:t>
              </a:r>
              <a:endParaRPr b="0" lang="en-US" sz="32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-76320"/>
            <a:ext cx="83534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ffffff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-소망B"/>
                <a:ea typeface="-소망B"/>
              </a:rPr>
              <a:t>부 믿음의 기초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5f5f5f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5f5f5f"/>
                </a:solidFill>
                <a:latin typeface="-소망B"/>
                <a:ea typeface="-소망B"/>
              </a:rPr>
              <a:t>권 구원의 길</a:t>
            </a:r>
            <a:endParaRPr b="0" lang="en-US" sz="44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4000" y="2924280"/>
            <a:ext cx="8496000" cy="3668040"/>
            <a:chOff x="324000" y="2924280"/>
            <a:chExt cx="8496000" cy="3668040"/>
          </a:xfrm>
        </p:grpSpPr>
        <p:sp>
          <p:nvSpPr>
            <p:cNvPr id="84" name=""/>
            <p:cNvSpPr/>
            <p:nvPr/>
          </p:nvSpPr>
          <p:spPr>
            <a:xfrm>
              <a:off x="324000" y="2924280"/>
              <a:ext cx="8496000" cy="36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292428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4000" y="2924280"/>
              <a:ext cx="8496000" cy="36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buClr>
                  <a:srgbClr val="000066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성 경 말 씀 –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“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27)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그런즉 자랑할 데가 어디냐 있을 수가 없느니라 무슨 법으로냐 행위로냐 아니라 오직 믿음의 법으로니라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(28)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그러므로 사람이 의롭다 하심을 얻는 것은 율법의 행위에 있지 않고 믿음으로 되는 줄 우리가 인정하노라 ”</a:t>
              </a:r>
              <a:r>
                <a:rPr b="0" lang="ko-KR" sz="24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                              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&lt;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로마서</a:t>
              </a:r>
              <a:r>
                <a:rPr b="0" lang="ko-KR" sz="2800" spc="-1" strike="noStrike">
                  <a:solidFill>
                    <a:srgbClr val="000066"/>
                  </a:solidFill>
                  <a:latin typeface="-소망B"/>
                  <a:ea typeface="-소망B"/>
                </a:rPr>
                <a:t>3:27~28&gt;</a:t>
              </a:r>
              <a:endParaRPr b="0" lang="en-US" sz="28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574640" y="76320"/>
            <a:ext cx="863640" cy="718920"/>
          </a:xfrm>
          <a:prstGeom prst="rect">
            <a:avLst/>
          </a:prstGeom>
          <a:noFill/>
          <a:ln w="28440">
            <a:solidFill>
              <a:srgbClr val="af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12</a:t>
            </a:r>
            <a:endParaRPr b="0" lang="en-US" sz="40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47920" y="1905120"/>
            <a:ext cx="61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2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구원은 하나님이 하시는 일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마음열기</a:t>
            </a:r>
            <a:endParaRPr b="0" lang="en-US" sz="5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062080"/>
            <a:ext cx="8207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484200">
              <a:lnSpc>
                <a:spcPct val="150000"/>
              </a:lnSpc>
              <a:buClr>
                <a:srgbClr val="ccccff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341360"/>
            <a:ext cx="8713800" cy="4751640"/>
          </a:xfrm>
          <a:prstGeom prst="roundRect">
            <a:avLst>
              <a:gd name="adj" fmla="val 1003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   </a:t>
            </a: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Q1. </a:t>
            </a: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그 감옥의 자물쇠는 사실 처음부터 열려 있었습니다</a:t>
            </a: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는 열려 있는 자물쇠를 잠긴 줄 알고 헛수고 한 것입니다</a:t>
            </a: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. </a:t>
            </a: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여러분은 문제를 해결하려고 노력하던 일이 아무런 성과없이 끝난 경험은 없습니까</a:t>
            </a:r>
            <a:r>
              <a:rPr b="0" lang="ko-KR" sz="3200" spc="-1" strike="noStrike">
                <a:solidFill>
                  <a:srgbClr val="000066"/>
                </a:solidFill>
                <a:latin typeface="HY견고딕"/>
                <a:ea typeface="HY견고딕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2560" y="3881520"/>
            <a:ext cx="87854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&gt;&gt;&gt;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율법은 다만 청진기의 역할을 합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청진기는 병을 치료하는 기구가 아니고 병을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    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진단하는 것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485640" y="2593800"/>
            <a:ext cx="725508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cc"/>
                </a:solidFill>
                <a:latin typeface="HY헤드라인M"/>
                <a:ea typeface="HY헤드라인M"/>
              </a:rPr>
              <a:t>1. </a:t>
            </a:r>
            <a:r>
              <a:rPr b="0" lang="zh-CN" sz="2900" spc="-1" strike="noStrike">
                <a:solidFill>
                  <a:srgbClr val="3366cc"/>
                </a:solidFill>
                <a:latin typeface="HY헤드라인M"/>
                <a:ea typeface="HY헤드라인M"/>
              </a:rPr>
              <a:t>그러면 율법은 왜 있는 것입니까</a:t>
            </a:r>
            <a:r>
              <a:rPr b="0" lang="en-US" sz="2900" spc="-1" strike="noStrike">
                <a:solidFill>
                  <a:srgbClr val="3366cc"/>
                </a:solidFill>
                <a:latin typeface="HY헤드라인M"/>
                <a:ea typeface="HY헤드라인M"/>
              </a:rPr>
              <a:t>?</a:t>
            </a:r>
            <a:endParaRPr b="0" lang="en-US" sz="29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322280" y="0"/>
            <a:ext cx="3554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-청춘M"/>
                <a:ea typeface="-청춘M"/>
              </a:rPr>
              <a:t> ▣ </a:t>
            </a:r>
            <a:r>
              <a:rPr b="1" lang="zh-CN" sz="5400" spc="-1" strike="noStrike">
                <a:solidFill>
                  <a:srgbClr val="ffffff"/>
                </a:solidFill>
                <a:latin typeface="-청춘M"/>
                <a:ea typeface="-청춘M"/>
              </a:rPr>
              <a:t>말씀열기</a:t>
            </a:r>
            <a:endParaRPr b="0" lang="en-US" sz="5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1486080"/>
            <a:ext cx="8856720" cy="718920"/>
          </a:xfrm>
          <a:prstGeom prst="roundRect">
            <a:avLst>
              <a:gd name="adj" fmla="val 16667"/>
            </a:avLst>
          </a:prstGeom>
          <a:solidFill>
            <a:srgbClr val="98cfee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-소망B"/>
                <a:ea typeface="-소망B"/>
              </a:rPr>
              <a:t>A.</a:t>
            </a:r>
            <a:r>
              <a:rPr b="0" lang="zh-CN" sz="3400" spc="-1" strike="noStrike">
                <a:solidFill>
                  <a:srgbClr val="000066"/>
                </a:solidFill>
                <a:latin typeface="-소망B"/>
                <a:ea typeface="-소망B"/>
              </a:rPr>
              <a:t>도덕적인 종교</a:t>
            </a:r>
            <a:r>
              <a:rPr b="0" lang="en-US" sz="3400" spc="-1" strike="noStrike">
                <a:solidFill>
                  <a:srgbClr val="000066"/>
                </a:solidFill>
                <a:latin typeface="-소망B"/>
                <a:ea typeface="-소망B"/>
              </a:rPr>
              <a:t>(</a:t>
            </a:r>
            <a:r>
              <a:rPr b="0" lang="zh-CN" sz="3400" spc="-1" strike="noStrike">
                <a:solidFill>
                  <a:srgbClr val="000066"/>
                </a:solidFill>
                <a:latin typeface="-소망B"/>
                <a:ea typeface="-소망B"/>
              </a:rPr>
              <a:t>율법</a:t>
            </a:r>
            <a:r>
              <a:rPr b="0" lang="en-US" sz="3400" spc="-1" strike="noStrike">
                <a:solidFill>
                  <a:srgbClr val="000066"/>
                </a:solidFill>
                <a:latin typeface="-소망B"/>
                <a:ea typeface="-소망B"/>
              </a:rPr>
              <a:t>)</a:t>
            </a:r>
            <a:r>
              <a:rPr b="0" lang="zh-CN" sz="3400" spc="-1" strike="noStrike">
                <a:solidFill>
                  <a:srgbClr val="000066"/>
                </a:solidFill>
                <a:latin typeface="-소망B"/>
                <a:ea typeface="-소망B"/>
              </a:rPr>
              <a:t>와 기독교신앙</a:t>
            </a:r>
            <a:r>
              <a:rPr b="0" lang="en-US" sz="3400" spc="-1" strike="noStrike">
                <a:solidFill>
                  <a:srgbClr val="000066"/>
                </a:solidFill>
                <a:latin typeface="-소망B"/>
                <a:ea typeface="-소망B"/>
              </a:rPr>
              <a:t>(</a:t>
            </a:r>
            <a:r>
              <a:rPr b="0" lang="zh-CN" sz="3200" spc="-1" strike="noStrike">
                <a:solidFill>
                  <a:srgbClr val="000066"/>
                </a:solidFill>
                <a:latin typeface="-소망B"/>
                <a:ea typeface="-소망B"/>
              </a:rPr>
              <a:t>복음</a:t>
            </a:r>
            <a:r>
              <a:rPr b="0" lang="en-US" sz="3400" spc="-1" strike="noStrike">
                <a:solidFill>
                  <a:srgbClr val="000066"/>
                </a:solidFill>
                <a:latin typeface="-소망B"/>
                <a:ea typeface="-소망B"/>
              </a:rPr>
              <a:t>)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96360" y="6497640"/>
            <a:ext cx="1547640" cy="371520"/>
          </a:xfrm>
          <a:custGeom>
            <a:avLst/>
            <a:gdLst/>
            <a:ahLst/>
            <a:rect l="l" t="t" r="r" b="b"/>
            <a:pathLst>
              <a:path w="975" h="234">
                <a:moveTo>
                  <a:pt x="0" y="234"/>
                </a:moveTo>
                <a:cubicBezTo>
                  <a:pt x="0" y="234"/>
                  <a:pt x="70" y="156"/>
                  <a:pt x="200" y="0"/>
                </a:cubicBezTo>
                <a:cubicBezTo>
                  <a:pt x="587" y="0"/>
                  <a:pt x="975" y="0"/>
                  <a:pt x="975" y="0"/>
                </a:cubicBezTo>
                <a:lnTo>
                  <a:pt x="975" y="234"/>
                </a:lnTo>
                <a:cubicBezTo>
                  <a:pt x="975" y="234"/>
                  <a:pt x="0" y="234"/>
                  <a:pt x="0" y="234"/>
                </a:cubicBezTo>
                <a:close/>
              </a:path>
            </a:pathLst>
          </a:custGeom>
          <a:solidFill>
            <a:srgbClr val="bc105a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396720" y="-171360"/>
            <a:ext cx="835200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 </a:t>
            </a:r>
            <a:r>
              <a:rPr b="0" lang="zh-CN" sz="29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일반종교는 행위를</a:t>
            </a:r>
            <a:r>
              <a:rPr b="0" lang="en-US" sz="29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zh-CN" sz="29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복음은 은혜를 강조합니다</a:t>
            </a:r>
            <a:r>
              <a:rPr b="0" lang="en-US" sz="29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.</a:t>
            </a:r>
            <a:endParaRPr b="0" lang="en-US" sz="2900" spc="-1" strike="noStrike">
              <a:solidFill>
                <a:srgbClr val="000066"/>
              </a:solidFill>
              <a:latin typeface="굴림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9640" y="1325160"/>
            <a:ext cx="8064360" cy="5199120"/>
            <a:chOff x="539640" y="1325160"/>
            <a:chExt cx="8064360" cy="5199120"/>
          </a:xfrm>
        </p:grpSpPr>
        <p:sp>
          <p:nvSpPr>
            <p:cNvPr id="99" name=""/>
            <p:cNvSpPr/>
            <p:nvPr/>
          </p:nvSpPr>
          <p:spPr>
            <a:xfrm rot="16200000">
              <a:off x="5730840" y="3650760"/>
              <a:ext cx="5198760" cy="547200"/>
            </a:xfrm>
            <a:custGeom>
              <a:avLst/>
              <a:gdLst>
                <a:gd name="textAreaLeft" fmla="*/ 503280 w 5198760"/>
                <a:gd name="textAreaRight" fmla="*/ 4695480 w 5198760"/>
                <a:gd name="textAreaTop" fmla="*/ 52920 h 547200"/>
                <a:gd name="textAreaBottom" fmla="*/ 494280 h 54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85" y="21600"/>
                  </a:lnTo>
                  <a:lnTo>
                    <a:pt x="615" y="21600"/>
                  </a:lnTo>
                  <a:close/>
                </a:path>
              </a:pathLst>
            </a:custGeom>
            <a:solidFill>
              <a:srgbClr val="00367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9640" y="1325520"/>
              <a:ext cx="7517160" cy="806760"/>
            </a:xfrm>
            <a:custGeom>
              <a:avLst/>
              <a:gdLst/>
              <a:ahLst/>
              <a:rect l="l" t="t" r="r" b="b"/>
              <a:pathLst>
                <a:path w="2460" h="364">
                  <a:moveTo>
                    <a:pt x="0" y="136"/>
                  </a:moveTo>
                  <a:lnTo>
                    <a:pt x="4" y="364"/>
                  </a:lnTo>
                  <a:lnTo>
                    <a:pt x="2460" y="337"/>
                  </a:lnTo>
                  <a:lnTo>
                    <a:pt x="2460" y="0"/>
                  </a:lnTo>
                  <a:lnTo>
                    <a:pt x="0" y="136"/>
                  </a:lnTo>
                  <a:close/>
                </a:path>
              </a:pathLst>
            </a:custGeom>
            <a:gradFill rotWithShape="0">
              <a:gsLst>
                <a:gs pos="0">
                  <a:srgbClr val="254f8a">
                    <a:alpha val="90196"/>
                  </a:srgbClr>
                </a:gs>
                <a:gs pos="100000">
                  <a:srgbClr val="142f60">
                    <a:alpha val="9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4347000">
              <a:off x="6159600" y="2306880"/>
              <a:ext cx="348480" cy="2191680"/>
            </a:xfrm>
            <a:custGeom>
              <a:avLst/>
              <a:gdLst/>
              <a:ahLst/>
              <a:rect l="l" t="t" r="r" b="b"/>
              <a:pathLst>
                <a:path w="635" h="1270">
                  <a:moveTo>
                    <a:pt x="46" y="0"/>
                  </a:moveTo>
                  <a:lnTo>
                    <a:pt x="635" y="1225"/>
                  </a:lnTo>
                  <a:lnTo>
                    <a:pt x="454" y="1270"/>
                  </a:lnTo>
                  <a:lnTo>
                    <a:pt x="0" y="17"/>
                  </a:lnTo>
                  <a:lnTo>
                    <a:pt x="4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6ffff">
                    <a:alpha val="10196"/>
                  </a:srgbClr>
                </a:gs>
              </a:gsLst>
              <a:lin ang="1056000"/>
            </a:gradFill>
            <a:ln w="9360">
              <a:solidFill>
                <a:srgbClr val="33cccc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6490200">
              <a:off x="6082200" y="1665360"/>
              <a:ext cx="348120" cy="2192400"/>
            </a:xfrm>
            <a:custGeom>
              <a:avLst/>
              <a:gdLst/>
              <a:ahLst/>
              <a:rect l="l" t="t" r="r" b="b"/>
              <a:pathLst>
                <a:path w="635" h="1270">
                  <a:moveTo>
                    <a:pt x="46" y="0"/>
                  </a:moveTo>
                  <a:lnTo>
                    <a:pt x="635" y="1225"/>
                  </a:lnTo>
                  <a:lnTo>
                    <a:pt x="454" y="1270"/>
                  </a:lnTo>
                  <a:lnTo>
                    <a:pt x="0" y="17"/>
                  </a:lnTo>
                  <a:lnTo>
                    <a:pt x="4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6ffff">
                    <a:alpha val="10196"/>
                  </a:srgbClr>
                </a:gs>
              </a:gsLst>
              <a:lin ang="20508000"/>
            </a:gradFill>
            <a:ln w="9360">
              <a:solidFill>
                <a:srgbClr val="33cccc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654600">
              <a:off x="7148880" y="2925000"/>
              <a:ext cx="638640" cy="2056320"/>
            </a:xfrm>
            <a:custGeom>
              <a:avLst/>
              <a:gdLst/>
              <a:ahLst/>
              <a:rect l="l" t="t" r="r" b="b"/>
              <a:pathLst>
                <a:path w="635" h="1270">
                  <a:moveTo>
                    <a:pt x="46" y="0"/>
                  </a:moveTo>
                  <a:lnTo>
                    <a:pt x="635" y="1225"/>
                  </a:lnTo>
                  <a:lnTo>
                    <a:pt x="454" y="1270"/>
                  </a:lnTo>
                  <a:lnTo>
                    <a:pt x="0" y="17"/>
                  </a:lnTo>
                  <a:lnTo>
                    <a:pt x="4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6ffff">
                    <a:alpha val="10196"/>
                  </a:srgbClr>
                </a:gs>
              </a:gsLst>
              <a:lin ang="4746000"/>
            </a:gradFill>
            <a:ln w="9360">
              <a:solidFill>
                <a:srgbClr val="33cccc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064120" y="2905920"/>
              <a:ext cx="2304000" cy="667440"/>
              <a:chOff x="5064120" y="2905920"/>
              <a:chExt cx="2304000" cy="667440"/>
            </a:xfrm>
          </p:grpSpPr>
          <p:sp>
            <p:nvSpPr>
              <p:cNvPr id="105" name=""/>
              <p:cNvSpPr/>
              <p:nvPr/>
            </p:nvSpPr>
            <p:spPr>
              <a:xfrm rot="5025000">
                <a:off x="6004800" y="2103840"/>
                <a:ext cx="422640" cy="2271240"/>
              </a:xfrm>
              <a:custGeom>
                <a:avLst/>
                <a:gdLst/>
                <a:ahLst/>
                <a:rect l="l" t="t" r="r" b="b"/>
                <a:pathLst>
                  <a:path w="635" h="1270">
                    <a:moveTo>
                      <a:pt x="46" y="0"/>
                    </a:moveTo>
                    <a:lnTo>
                      <a:pt x="635" y="1225"/>
                    </a:lnTo>
                    <a:lnTo>
                      <a:pt x="454" y="1270"/>
                    </a:lnTo>
                    <a:lnTo>
                      <a:pt x="0" y="17"/>
                    </a:lnTo>
                    <a:lnTo>
                      <a:pt x="4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f6699">
                      <a:alpha val="0"/>
                    </a:srgbClr>
                  </a:gs>
                </a:gsLst>
                <a:lin ang="3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5405400" y="2909880"/>
                <a:ext cx="1887480" cy="628560"/>
              </a:xfrm>
              <a:prstGeom prst="line">
                <a:avLst/>
              </a:prstGeom>
              <a:ln w="28440">
                <a:solidFill>
                  <a:srgbClr val="ff6699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121000" y="1820160"/>
              <a:ext cx="2172600" cy="1514880"/>
              <a:chOff x="5121000" y="1820160"/>
              <a:chExt cx="2172600" cy="1514880"/>
            </a:xfrm>
          </p:grpSpPr>
          <p:sp>
            <p:nvSpPr>
              <p:cNvPr id="108" name=""/>
              <p:cNvSpPr/>
              <p:nvPr/>
            </p:nvSpPr>
            <p:spPr>
              <a:xfrm rot="7226400">
                <a:off x="5995440" y="1441800"/>
                <a:ext cx="423000" cy="2271240"/>
              </a:xfrm>
              <a:custGeom>
                <a:avLst/>
                <a:gdLst/>
                <a:ahLst/>
                <a:rect l="l" t="t" r="r" b="b"/>
                <a:pathLst>
                  <a:path w="635" h="1270">
                    <a:moveTo>
                      <a:pt x="46" y="0"/>
                    </a:moveTo>
                    <a:lnTo>
                      <a:pt x="635" y="1225"/>
                    </a:lnTo>
                    <a:lnTo>
                      <a:pt x="454" y="1270"/>
                    </a:lnTo>
                    <a:lnTo>
                      <a:pt x="0" y="17"/>
                    </a:lnTo>
                    <a:lnTo>
                      <a:pt x="4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f6699">
                      <a:alpha val="0"/>
                    </a:srgbClr>
                  </a:gs>
                </a:gsLst>
                <a:lin ang="3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5378400" y="2332800"/>
                <a:ext cx="1888920" cy="623880"/>
              </a:xfrm>
              <a:prstGeom prst="line">
                <a:avLst/>
              </a:prstGeom>
              <a:ln w="28440">
                <a:solidFill>
                  <a:srgbClr val="ff6699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7380720" y="2856960"/>
              <a:ext cx="618480" cy="2507040"/>
              <a:chOff x="7380720" y="2856960"/>
              <a:chExt cx="618480" cy="2507040"/>
            </a:xfrm>
          </p:grpSpPr>
          <p:sp>
            <p:nvSpPr>
              <p:cNvPr id="111" name=""/>
              <p:cNvSpPr/>
              <p:nvPr/>
            </p:nvSpPr>
            <p:spPr>
              <a:xfrm rot="21477600">
                <a:off x="7424640" y="2865240"/>
                <a:ext cx="530280" cy="2489760"/>
              </a:xfrm>
              <a:custGeom>
                <a:avLst/>
                <a:gdLst/>
                <a:ahLst/>
                <a:rect l="l" t="t" r="r" b="b"/>
                <a:pathLst>
                  <a:path w="635" h="1270">
                    <a:moveTo>
                      <a:pt x="46" y="0"/>
                    </a:moveTo>
                    <a:lnTo>
                      <a:pt x="635" y="1225"/>
                    </a:lnTo>
                    <a:lnTo>
                      <a:pt x="454" y="1270"/>
                    </a:lnTo>
                    <a:lnTo>
                      <a:pt x="0" y="17"/>
                    </a:lnTo>
                    <a:lnTo>
                      <a:pt x="4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f6699">
                      <a:alpha val="0"/>
                    </a:srgbClr>
                  </a:gs>
                </a:gsLst>
                <a:lin ang="3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54160" y="2881800"/>
                <a:ext cx="455040" cy="2163960"/>
              </a:xfrm>
              <a:prstGeom prst="line">
                <a:avLst/>
              </a:prstGeom>
              <a:ln w="28440">
                <a:solidFill>
                  <a:srgbClr val="ff6699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539640" y="2058120"/>
              <a:ext cx="7515360" cy="4466160"/>
            </a:xfrm>
            <a:custGeom>
              <a:avLst/>
              <a:gdLst/>
              <a:ahLst/>
              <a:rect l="l" t="t" r="r" b="b"/>
              <a:pathLst>
                <a:path w="2450" h="2633">
                  <a:moveTo>
                    <a:pt x="0" y="27"/>
                  </a:moveTo>
                  <a:lnTo>
                    <a:pt x="2450" y="0"/>
                  </a:lnTo>
                  <a:lnTo>
                    <a:pt x="2450" y="2633"/>
                  </a:lnTo>
                  <a:lnTo>
                    <a:pt x="0" y="2057"/>
                  </a:lnTo>
                  <a:lnTo>
                    <a:pt x="0" y="27"/>
                  </a:lnTo>
                  <a:close/>
                </a:path>
              </a:pathLst>
            </a:custGeom>
            <a:gradFill rotWithShape="0">
              <a:gsLst>
                <a:gs pos="0">
                  <a:srgbClr val="5e98c3">
                    <a:alpha val="80392"/>
                  </a:srgbClr>
                </a:gs>
                <a:gs pos="100000">
                  <a:srgbClr val="386494">
                    <a:alpha val="80392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9640" y="2644200"/>
              <a:ext cx="7517160" cy="145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640" y="3814200"/>
              <a:ext cx="7517160" cy="438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9640" y="4400280"/>
              <a:ext cx="7517160" cy="585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9640" y="4986000"/>
              <a:ext cx="7517160" cy="732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9640" y="5572080"/>
              <a:ext cx="7517160" cy="952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907080" y="1691640"/>
              <a:ext cx="11880" cy="4319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43520" y="1667520"/>
              <a:ext cx="1646280" cy="42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00"/>
                  </a:solidFill>
                  <a:latin typeface="Arial"/>
                </a:rPr>
                <a:t>일반종교 </a:t>
              </a:r>
              <a:r>
                <a:rPr b="1" lang="en-US" sz="22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1" lang="zh-CN" sz="2200" spc="-1" strike="noStrike">
                  <a:solidFill>
                    <a:srgbClr val="ffff00"/>
                  </a:solidFill>
                  <a:latin typeface="Arial"/>
                </a:rPr>
                <a:t>율법</a:t>
              </a:r>
              <a:r>
                <a:rPr b="1" lang="en-US" sz="22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46320" y="1545120"/>
              <a:ext cx="2114280" cy="42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00"/>
                  </a:solidFill>
                  <a:latin typeface="Arial"/>
                </a:rPr>
                <a:t>기독교 </a:t>
              </a:r>
              <a:r>
                <a:rPr b="1" lang="en-US" sz="22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1" lang="zh-CN" sz="2200" spc="-1" strike="noStrike">
                  <a:solidFill>
                    <a:srgbClr val="ffff00"/>
                  </a:solidFill>
                  <a:latin typeface="Arial"/>
                </a:rPr>
                <a:t>복음</a:t>
              </a:r>
              <a:r>
                <a:rPr b="1" lang="en-US" sz="22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56120" y="2203560"/>
              <a:ext cx="125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노력해서 이룸</a:t>
              </a:r>
              <a:endParaRPr b="0" lang="en-US" sz="22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9640" y="3230280"/>
              <a:ext cx="7517160" cy="291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56120" y="2794320"/>
              <a:ext cx="125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자신이 시도함</a:t>
              </a:r>
              <a:endParaRPr b="0" lang="en-US" sz="22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76880" y="3383640"/>
              <a:ext cx="1587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힘씀</a:t>
              </a:r>
              <a:endParaRPr b="0" lang="en-US" sz="22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82920" y="397728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자기발전</a:t>
              </a:r>
              <a:endParaRPr b="0" lang="en-US" sz="22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82920" y="46407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자기구원</a:t>
              </a:r>
              <a:endParaRPr b="0" lang="en-US" sz="22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1600">
              <a:off x="1542240" y="5215320"/>
              <a:ext cx="125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이것도 저것도</a:t>
              </a:r>
              <a:endParaRPr b="0" lang="en-US" sz="22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76800" y="2219400"/>
              <a:ext cx="109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거저 주어짐</a:t>
              </a:r>
              <a:endParaRPr b="0" lang="en-US" sz="22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00560" y="2878200"/>
              <a:ext cx="924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받아 들임</a:t>
              </a:r>
              <a:endParaRPr b="0" lang="en-US" sz="22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31680" y="3610800"/>
              <a:ext cx="589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신 뢰</a:t>
              </a:r>
              <a:endParaRPr b="0" lang="en-US" sz="22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67880" y="426924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자기부정</a:t>
              </a:r>
              <a:endParaRPr b="0" lang="en-US" sz="22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00560" y="4928040"/>
              <a:ext cx="924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자기 양도</a:t>
              </a:r>
              <a:endParaRPr b="0" lang="en-US" sz="22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72560" y="5661000"/>
              <a:ext cx="1415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믿으라</a:t>
              </a:r>
              <a:endParaRPr b="0" lang="en-US" sz="22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animClr clrSpc="rgb">
                                      <p:cBhvr>
                                        <p:cTn id="61" dur="2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62" dur="2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41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79280" y="2467080"/>
            <a:ext cx="3954600" cy="3771360"/>
            <a:chOff x="179280" y="2467080"/>
            <a:chExt cx="3954600" cy="3771360"/>
          </a:xfrm>
        </p:grpSpPr>
        <p:grpSp>
          <p:nvGrpSpPr>
            <p:cNvPr id="137" name=""/>
            <p:cNvGrpSpPr/>
            <p:nvPr/>
          </p:nvGrpSpPr>
          <p:grpSpPr>
            <a:xfrm>
              <a:off x="179280" y="2467080"/>
              <a:ext cx="3954600" cy="3120840"/>
              <a:chOff x="179280" y="2467080"/>
              <a:chExt cx="3954600" cy="3120840"/>
            </a:xfrm>
          </p:grpSpPr>
          <p:sp>
            <p:nvSpPr>
              <p:cNvPr id="138" name=""/>
              <p:cNvSpPr/>
              <p:nvPr/>
            </p:nvSpPr>
            <p:spPr>
              <a:xfrm>
                <a:off x="179280" y="3789360"/>
                <a:ext cx="1368360" cy="1081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죄악</a:t>
                </a:r>
                <a:endParaRPr b="0" lang="en-US" sz="36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473040" y="2467080"/>
                <a:ext cx="3660840" cy="3120840"/>
                <a:chOff x="473040" y="2467080"/>
                <a:chExt cx="3660840" cy="3120840"/>
              </a:xfrm>
            </p:grpSpPr>
            <p:grpSp>
              <p:nvGrpSpPr>
                <p:cNvPr id="140" name=""/>
                <p:cNvGrpSpPr/>
                <p:nvPr/>
              </p:nvGrpSpPr>
              <p:grpSpPr>
                <a:xfrm>
                  <a:off x="1835280" y="4653000"/>
                  <a:ext cx="1152000" cy="934920"/>
                  <a:chOff x="1835280" y="4653000"/>
                  <a:chExt cx="1152000" cy="93492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2350440" y="4653000"/>
                    <a:ext cx="636840" cy="9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591" h="777">
                        <a:moveTo>
                          <a:pt x="479" y="776"/>
                        </a:moveTo>
                        <a:lnTo>
                          <a:pt x="590" y="656"/>
                        </a:lnTo>
                        <a:lnTo>
                          <a:pt x="0" y="0"/>
                        </a:lnTo>
                        <a:lnTo>
                          <a:pt x="479" y="77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91919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835280" y="4653000"/>
                    <a:ext cx="1032480" cy="9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958" h="777">
                        <a:moveTo>
                          <a:pt x="0" y="776"/>
                        </a:moveTo>
                        <a:lnTo>
                          <a:pt x="957" y="776"/>
                        </a:lnTo>
                        <a:lnTo>
                          <a:pt x="479" y="0"/>
                        </a:lnTo>
                        <a:lnTo>
                          <a:pt x="0" y="776"/>
                        </a:lnTo>
                      </a:path>
                    </a:pathLst>
                  </a:custGeom>
                  <a:solidFill>
                    <a:srgbClr val="af67ff"/>
                  </a:solidFill>
                  <a:ln cap="rnd"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143" name=""/>
                <p:cNvSpPr/>
                <p:nvPr/>
              </p:nvSpPr>
              <p:spPr>
                <a:xfrm>
                  <a:off x="2700360" y="2924280"/>
                  <a:ext cx="1368360" cy="108108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71785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선행</a:t>
                  </a:r>
                  <a:endParaRPr b="0" lang="en-US" sz="2400" spc="-1" strike="noStrike">
                    <a:solidFill>
                      <a:srgbClr val="000066"/>
                    </a:solidFill>
                    <a:latin typeface="굴림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20479200">
                  <a:off x="395280" y="4508280"/>
                  <a:ext cx="3816360" cy="142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83cd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굴림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12360" y="3117960"/>
                  <a:ext cx="511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A</a:t>
                  </a:r>
                  <a:endParaRPr b="0" lang="en-US" sz="3600" spc="-1" strike="noStrike">
                    <a:solidFill>
                      <a:srgbClr val="000066"/>
                    </a:solidFill>
                    <a:latin typeface="굴림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105000" y="2467080"/>
                  <a:ext cx="54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66"/>
                      </a:solidFill>
                      <a:latin typeface="HY견고딕"/>
                      <a:ea typeface="HY견고딕"/>
                    </a:rPr>
                    <a:t>일만</a:t>
                  </a:r>
                  <a:endParaRPr b="0" lang="en-US" sz="2400" spc="-1" strike="noStrike">
                    <a:solidFill>
                      <a:srgbClr val="000066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489240" y="55897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66"/>
                  </a:solidFill>
                  <a:latin typeface="강산체"/>
                  <a:ea typeface="강산체"/>
                </a:rPr>
                <a:t>멸망</a:t>
              </a:r>
              <a:endParaRPr b="0" lang="en-US" sz="36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43600" y="55958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66"/>
                  </a:solidFill>
                  <a:latin typeface="강산체"/>
                  <a:ea typeface="강산체"/>
                </a:rPr>
                <a:t>영생</a:t>
              </a:r>
              <a:endParaRPr b="0" lang="en-US" sz="36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003640" y="2349360"/>
            <a:ext cx="3889440" cy="3954240"/>
            <a:chOff x="5003640" y="2349360"/>
            <a:chExt cx="3889440" cy="3954240"/>
          </a:xfrm>
        </p:grpSpPr>
        <p:grpSp>
          <p:nvGrpSpPr>
            <p:cNvPr id="150" name=""/>
            <p:cNvGrpSpPr/>
            <p:nvPr/>
          </p:nvGrpSpPr>
          <p:grpSpPr>
            <a:xfrm>
              <a:off x="5003640" y="2349360"/>
              <a:ext cx="3889440" cy="3238560"/>
              <a:chOff x="5003640" y="2349360"/>
              <a:chExt cx="3889440" cy="323856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6299280" y="4653000"/>
                <a:ext cx="1152000" cy="934920"/>
                <a:chOff x="6299280" y="4653000"/>
                <a:chExt cx="1152000" cy="934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814440" y="4653000"/>
                  <a:ext cx="636840" cy="934920"/>
                </a:xfrm>
                <a:custGeom>
                  <a:avLst/>
                  <a:gdLst/>
                  <a:ahLst/>
                  <a:rect l="l" t="t" r="r" b="b"/>
                  <a:pathLst>
                    <a:path w="591" h="777">
                      <a:moveTo>
                        <a:pt x="479" y="776"/>
                      </a:moveTo>
                      <a:lnTo>
                        <a:pt x="590" y="656"/>
                      </a:lnTo>
                      <a:lnTo>
                        <a:pt x="0" y="0"/>
                      </a:lnTo>
                      <a:lnTo>
                        <a:pt x="479" y="776"/>
                      </a:lnTo>
                    </a:path>
                  </a:pathLst>
                </a:custGeom>
                <a:gradFill rotWithShape="0">
                  <a:gsLst>
                    <a:gs pos="0">
                      <a:srgbClr val="191919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굴림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299280" y="4653000"/>
                  <a:ext cx="1032480" cy="934920"/>
                </a:xfrm>
                <a:custGeom>
                  <a:avLst/>
                  <a:gdLst/>
                  <a:ahLst/>
                  <a:rect l="l" t="t" r="r" b="b"/>
                  <a:pathLst>
                    <a:path w="958" h="777">
                      <a:moveTo>
                        <a:pt x="0" y="776"/>
                      </a:moveTo>
                      <a:lnTo>
                        <a:pt x="957" y="776"/>
                      </a:lnTo>
                      <a:lnTo>
                        <a:pt x="479" y="0"/>
                      </a:lnTo>
                      <a:lnTo>
                        <a:pt x="0" y="776"/>
                      </a:lnTo>
                    </a:path>
                  </a:pathLst>
                </a:custGeom>
                <a:solidFill>
                  <a:srgbClr val="af67f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 rot="1258200">
                <a:off x="4932000" y="4509720"/>
                <a:ext cx="3816360" cy="142920"/>
              </a:xfrm>
              <a:prstGeom prst="cube">
                <a:avLst>
                  <a:gd name="adj" fmla="val 25000"/>
                </a:avLst>
              </a:prstGeom>
              <a:solidFill>
                <a:srgbClr val="83cd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003640" y="2852640"/>
                <a:ext cx="1368720" cy="1081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죄악</a:t>
                </a:r>
                <a:endParaRPr b="0" lang="en-US" sz="36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4720" y="3789360"/>
                <a:ext cx="1368360" cy="1081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6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48160" y="23493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66"/>
                    </a:solidFill>
                    <a:latin typeface="HY견고딕"/>
                    <a:ea typeface="HY견고딕"/>
                  </a:rPr>
                  <a:t>일만</a:t>
                </a:r>
                <a:endParaRPr b="0" lang="en-US" sz="24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57800" y="314784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C</a:t>
                </a:r>
                <a:endParaRPr b="0" lang="en-US" sz="3600" spc="-1" strike="noStrike">
                  <a:solidFill>
                    <a:srgbClr val="000066"/>
                  </a:solidFill>
                  <a:latin typeface="굴림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5117040" y="5661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66"/>
                  </a:solidFill>
                  <a:latin typeface="강산체"/>
                  <a:ea typeface="강산체"/>
                </a:rPr>
                <a:t>사망</a:t>
              </a:r>
              <a:endParaRPr b="0" lang="en-US" sz="3600" spc="-1" strike="noStrike">
                <a:solidFill>
                  <a:srgbClr val="000066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5960" y="5661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66"/>
                  </a:solidFill>
                  <a:latin typeface="강산체"/>
                  <a:ea typeface="강산체"/>
                </a:rPr>
                <a:t>생명</a:t>
              </a:r>
              <a:endParaRPr b="0" lang="en-US" sz="3600" spc="-1" strike="noStrike">
                <a:solidFill>
                  <a:srgbClr val="000066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01 -0.55134 C -0.04271 -0.55713 0.2125 -0.59375 0.45417 -0.54485 C 0.47448 -0.53581 0.4842 -0.53303 0.4967 -0.50777 C 0.49983 -0.50151 0.50035 -0.49085 0.50174 -0.48367 C 0.50122 -0.46976 0.50139 -0.45586 0.5 -0.44195 C 0.49965 -0.4394 0.49757 -0.43778 0.4967 -0.43546 C 0.4908 -0.41715 0.48507 -0.39236 0.47222 -0.38077 C 0.4691 -0.36872 0.46545 -0.36153 0.45747 -0.35458 C 0.45139 -0.3423 0.4559 -0.34902 0.44097 -0.33905 C 0.43889 -0.33766 0.43802 -0.33419 0.43611 -0.33257 C 0.43472 -0.33141 0.43281 -0.33118 0.43125 -0.33048 C 0.4217 -0.32075 0.41441 -0.31959 0.4033 -0.31518 C 0.39254 -0.31078 0.38351 -0.30429 0.37222 -0.30197 C 0.36892 -0.30058 0.3658 -0.2985 0.36233 -0.29757 C 0.35851 -0.29641 0.35452 -0.29688 0.35087 -0.29549 C 0.34531 -0.29317 0.33455 -0.28668 0.33455 -0.28668 C 0.23351 -0.29943 0.05695 -0.41321 0.02136 -0.28019 C 0.01962 -0.17961 0.0283 -0.10846 0.0066 -0.02179 C 0.00608 -0.01461 0.00677 -0.00696 0.00504 9.26999E-007 C 0.00434 0.00254 0.00208 0.0044 3.05556E-006 0.0044 C -0.00104 0.0044 3.05556E-006 0.00139 3.05556E-006 9.26999E-007 E">
                                      <p:cBhvr>
                                        <p:cTn id="77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156 -0.42016 C 0.19167 -0.42503 0.18195 -0.43013 0.17205 -0.43546 C -0.09687 -0.4343 -0.20816 -0.49386 -0.39514 -0.41367 C -0.40052 -0.4088 -0.40208 -0.40324 -0.40833 -0.40046 C -0.41354 -0.3898 -0.41788 -0.37821 -0.42309 -0.36778 C -0.42465 -0.3613 -0.42708 -0.35411 -0.42951 -0.34809 C -0.43142 -0.34345 -0.43611 -0.33488 -0.43611 -0.33488 C -0.43507 -0.29154 -0.43368 -0.26164 -0.42951 -0.22132 C -0.42812 -0.20718 -0.42708 -0.1905 -0.42309 -0.17729 C -0.41163 -0.13997 -0.42187 -0.17219 -0.41163 -0.15318 C -0.40799 -0.14646 -0.40677 -0.13858 -0.4033 -0.1314 C -0.40017 -0.11819 -0.39132 -0.1022 -0.38368 -0.092 C -0.38177 -0.08945 -0.37951 -0.0869 -0.37708 -0.08528 C -0.37396 -0.0832 -0.36736 -0.08111 -0.36736 -0.08111 C -0.35851 -0.06929 -0.34045 -0.06373 -0.32795 -0.0635 C -0.22187 -0.06211 -0.11597 -0.06211 -0.0099 -0.06141 C -0.00191 -0.05863 -0.00087 -0.05631 0.00156 -0.04588 C -0.00226 -0.02526 2.22222E-006 -0.04032 2.22222E-006 -4.06721E-006 E">
                                      <p:cBhvr>
                                        <p:cTn id="8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4854600"/>
            <a:ext cx="861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108000" y="1414440"/>
            <a:ext cx="8856720" cy="719280"/>
          </a:xfrm>
          <a:prstGeom prst="roundRect">
            <a:avLst>
              <a:gd name="adj" fmla="val 16667"/>
            </a:avLst>
          </a:prstGeom>
          <a:solidFill>
            <a:srgbClr val="98cfee"/>
          </a:solidFill>
          <a:ln w="12600">
            <a:solidFill>
              <a:srgbClr val="0f78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-소망B"/>
                <a:ea typeface="-소망B"/>
              </a:rPr>
              <a:t>B. </a:t>
            </a:r>
            <a:r>
              <a:rPr b="0" lang="zh-CN" sz="3400" spc="-1" strike="noStrike">
                <a:solidFill>
                  <a:srgbClr val="000066"/>
                </a:solidFill>
                <a:latin typeface="-소망B"/>
                <a:ea typeface="-소망B"/>
              </a:rPr>
              <a:t>업고 가는 것이 아니라 업혀가는 것이다</a:t>
            </a:r>
            <a:endParaRPr b="0" lang="en-US" sz="34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2522520"/>
            <a:ext cx="83534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0360" indent="-360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cc"/>
                </a:solidFill>
                <a:latin typeface="HY헤드라인M"/>
                <a:ea typeface="HY헤드라인M"/>
              </a:rPr>
              <a:t>1. </a:t>
            </a:r>
            <a:r>
              <a:rPr b="0" lang="zh-CN" sz="3000" spc="-1" strike="noStrike">
                <a:solidFill>
                  <a:srgbClr val="3366cc"/>
                </a:solidFill>
                <a:latin typeface="HY헤드라인M"/>
                <a:ea typeface="HY헤드라인M"/>
              </a:rPr>
              <a:t>하나님은 이미 우리에게 구원의 문을 열어 놓으셨습니다</a:t>
            </a:r>
            <a:r>
              <a:rPr b="0" lang="en-US" sz="3000" spc="-1" strike="noStrike">
                <a:solidFill>
                  <a:srgbClr val="3366cc"/>
                </a:solidFill>
                <a:latin typeface="HY헤드라인M"/>
                <a:ea typeface="HY헤드라인M"/>
              </a:rPr>
              <a:t>. 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3329640" y="925920"/>
            <a:ext cx="2376720" cy="8677440"/>
          </a:xfrm>
          <a:prstGeom prst="cube">
            <a:avLst>
              <a:gd name="adj" fmla="val 11666"/>
            </a:avLst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1" lang="en-US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&lt;</a:t>
            </a:r>
            <a:r>
              <a:rPr b="1" lang="zh-CN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요한복음</a:t>
            </a:r>
            <a:r>
              <a:rPr b="1" lang="en-US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19:30&gt; </a:t>
            </a:r>
            <a:r>
              <a:rPr b="1" lang="zh-CN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예수께서 신 포도주를 받으신 후에 이르시되 다 이루었다 하시고 머리를 숙이니 영혼이 떠나가시니라</a:t>
            </a:r>
            <a:r>
              <a:rPr b="0" lang="en-US" sz="3000" spc="-1" strike="noStrike">
                <a:solidFill>
                  <a:srgbClr val="000066"/>
                </a:solidFill>
                <a:latin typeface="HY견고딕"/>
                <a:ea typeface="HY견고딕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1052640"/>
            <a:ext cx="84981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cc"/>
                </a:solidFill>
                <a:latin typeface="HY헤드라인M"/>
                <a:ea typeface="HY헤드라인M"/>
              </a:rPr>
              <a:t>2. </a:t>
            </a:r>
            <a:r>
              <a:rPr b="0" lang="zh-CN" sz="3000" spc="-1" strike="noStrike">
                <a:solidFill>
                  <a:srgbClr val="3366cc"/>
                </a:solidFill>
                <a:latin typeface="HY헤드라인M"/>
                <a:ea typeface="HY헤드라인M"/>
              </a:rPr>
              <a:t>율법으로부터 자유 할 수 있는 길은 두 가지 입니다</a:t>
            </a:r>
            <a:r>
              <a:rPr b="0" lang="en-US" sz="3000" spc="-1" strike="noStrike">
                <a:solidFill>
                  <a:srgbClr val="3366cc"/>
                </a:solidFill>
                <a:latin typeface="HY헤드라인M"/>
                <a:ea typeface="HY헤드라인M"/>
              </a:rPr>
              <a:t>. 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2205000"/>
            <a:ext cx="8785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&gt;&gt;&gt;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하나는 그 율법을 다 지키는 일이요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,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다른 하나는 율법이 주는 형벌을 다 받는 길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그 형벌의 결국은 무엇입니까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?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죄의 값은 사망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러므로 죽어야만 되는 것이며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렇게 될 때 율법으로부터 자유 할 수가 있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러나 내가 나를 죽일 수 없습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그러므로 우리를 위해 대신 죽으신 </a:t>
            </a:r>
            <a:r>
              <a:rPr b="0" lang="zh-CN" sz="2800" spc="-1" strike="noStrike">
                <a:solidFill>
                  <a:srgbClr val="ff3300"/>
                </a:solidFill>
                <a:latin typeface="HY견고딕"/>
                <a:ea typeface="HY견고딕"/>
              </a:rPr>
              <a:t>십자가</a:t>
            </a:r>
            <a:r>
              <a:rPr b="0" lang="zh-CN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를 바라보는 것입니다</a:t>
            </a:r>
            <a:r>
              <a:rPr b="0" lang="en-US" sz="2800" spc="-1" strike="noStrike">
                <a:solidFill>
                  <a:srgbClr val="00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0920" y="1700280"/>
            <a:ext cx="84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cc"/>
                </a:solidFill>
                <a:latin typeface="HY헤드라인M"/>
                <a:ea typeface="HY헤드라인M"/>
              </a:rPr>
              <a:t>3. </a:t>
            </a:r>
            <a:r>
              <a:rPr b="0" lang="zh-CN" sz="3000" spc="-1" strike="noStrike">
                <a:solidFill>
                  <a:srgbClr val="3366cc"/>
                </a:solidFill>
                <a:latin typeface="HY헤드라인M"/>
                <a:ea typeface="HY헤드라인M"/>
              </a:rPr>
              <a:t>구원은 은혜로 인한 하나님의 선물입니다</a:t>
            </a:r>
            <a:r>
              <a:rPr b="0" lang="en-US" sz="3000" spc="-1" strike="noStrike">
                <a:solidFill>
                  <a:srgbClr val="3366cc"/>
                </a:solidFill>
                <a:latin typeface="HY헤드라인M"/>
                <a:ea typeface="HY헤드라인M"/>
              </a:rPr>
              <a:t>. </a:t>
            </a:r>
            <a:endParaRPr b="0" lang="en-US" sz="30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3401640" y="25200"/>
            <a:ext cx="2305080" cy="8677080"/>
          </a:xfrm>
          <a:prstGeom prst="cube">
            <a:avLst>
              <a:gd name="adj" fmla="val 0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 anchorCtr="1" vert="eaVer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  </a:t>
            </a:r>
            <a:r>
              <a:rPr b="1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1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에베소서 </a:t>
            </a:r>
            <a:r>
              <a:rPr b="1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2:8&gt;  </a:t>
            </a:r>
            <a:r>
              <a:rPr b="1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너희는 그 은혜에 의하여 믿음으로 말미암아 구원을 받았으니 이것은 너희에게서 난 것이 아니요 하나님의 선물이라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6-06-16T02:53:36Z</dcterms:modified>
  <cp:revision>209</cp:revision>
  <dc:subject/>
  <dc:title>PowerPoint 프레젠테이션</dc:title>
</cp:coreProperties>
</file>