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922-C7E6-491C-8CD9-60311C43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1BF-67F4-46DD-BCF6-E5933C5B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68A-5F19-435C-8FBF-334A1781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AB3-41DD-4854-929E-133EEC7D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BA3-88BC-4E76-9A7A-63A85BC2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E59-EE27-4D64-98FE-3C76A57C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085-9C9C-4BDF-85DD-8B6D3005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08C-5719-4F64-B07A-ED7C5A87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6CA-A230-43E7-8F3D-67FB9A6E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FA9-1AAE-4438-9D12-1118DC55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D3A5-5D3F-414B-B45E-5A0BA560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EBF-6236-440C-A956-5F73CB9C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31AA-E3D2-4003-BAFC-DA276397DBA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43" name=""/>
          <p:cNvSpPr/>
          <p:nvPr/>
        </p:nvSpPr>
        <p:spPr>
          <a:xfrm>
            <a:off x="2693160" y="102708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휴먼옛체"/>
                <a:ea typeface="휴먼옛체"/>
              </a:rPr>
              <a:t>삶의 가치를 향상 시켜주는 구원에 이르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29364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lt; </a:t>
            </a:r>
            <a:r>
              <a:rPr b="1" lang="zh-CN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확  신  편 </a:t>
            </a: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496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-청춘M"/>
                <a:ea typeface="-청춘M"/>
              </a:rPr>
              <a:t>▣ </a:t>
            </a:r>
            <a:r>
              <a:rPr b="1" lang="zh-CN" sz="4400" spc="-1" strike="noStrike">
                <a:solidFill>
                  <a:srgbClr val="6600cc"/>
                </a:solidFill>
                <a:latin typeface="-청춘M"/>
                <a:ea typeface="-청춘M"/>
              </a:rPr>
              <a:t>생각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255600" y="1143000"/>
            <a:ext cx="873612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  </a:t>
            </a: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Q1.  </a:t>
            </a: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아픈 사람이 다 나은 다음에 병원에 간다고 합니까</a:t>
            </a: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br>
              <a:rPr sz="3000"/>
            </a:b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 Q2. </a:t>
            </a: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가룟유다가 자살한 이유는 무엇입니까</a:t>
            </a: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  </a:t>
            </a: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탕자가 집으로 기어들어온 것은 뻔뻔하다고 생각하지 않습니까</a:t>
            </a: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br>
              <a:rPr sz="3000"/>
            </a:b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 Q3. </a:t>
            </a: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자신의 힘으로 도저히 해결할 수 없는 문제를 가지고 하나님께 간구해 보신 적이 있습니까</a:t>
            </a: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 </a:t>
            </a: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하나님의 도우심으로 어려움을 극복한 경험을 나누어 보십시오</a:t>
            </a: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24000" y="1355760"/>
            <a:ext cx="8496000" cy="4885200"/>
            <a:chOff x="324000" y="1355760"/>
            <a:chExt cx="8496000" cy="4885200"/>
          </a:xfrm>
        </p:grpSpPr>
        <p:sp>
          <p:nvSpPr>
            <p:cNvPr id="90" name=""/>
            <p:cNvSpPr/>
            <p:nvPr/>
          </p:nvSpPr>
          <p:spPr>
            <a:xfrm>
              <a:off x="324000" y="1355760"/>
              <a:ext cx="8496000" cy="48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000" y="135576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4000" y="1355760"/>
              <a:ext cx="8496000" cy="48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buClr>
                  <a:srgbClr val="000099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 </a:t>
              </a:r>
              <a:r>
                <a:rPr b="0" lang="zh-CN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외 울 말 씀 </a:t>
              </a:r>
              <a:r>
                <a:rPr b="1" lang="en-US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50000"/>
                </a:lnSpc>
                <a:buClr>
                  <a:srgbClr val="000099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  “</a:t>
              </a:r>
              <a:r>
                <a:rPr b="0" lang="en-US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(8)</a:t>
              </a:r>
              <a:r>
                <a:rPr b="0" lang="zh-CN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너희는 그 은혜에 의하여 믿음으로 말미암아 구원을 받았으니 이것은 너희에게서 난 것이 아니요 하나님의 선물이라 </a:t>
              </a:r>
              <a:r>
                <a:rPr b="0" lang="en-US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(9)</a:t>
              </a:r>
              <a:r>
                <a:rPr b="0" lang="zh-CN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행위에서 난 것이 아니니 이는 누구든지 자랑하지 못하게 함이라”</a:t>
              </a:r>
              <a:r>
                <a:rPr b="0" lang="en-US" sz="24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                              </a:t>
              </a:r>
              <a:r>
                <a:rPr b="0" lang="en-US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&lt;</a:t>
              </a:r>
              <a:r>
                <a:rPr b="0" lang="zh-CN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에베소서</a:t>
              </a:r>
              <a:r>
                <a:rPr b="0" lang="en-US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2:8~9&gt;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6560" y="154080"/>
            <a:ext cx="83534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부 믿음의 기초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권 구원의 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4000" y="2924280"/>
            <a:ext cx="8496000" cy="3668040"/>
            <a:chOff x="324000" y="2924280"/>
            <a:chExt cx="8496000" cy="3668040"/>
          </a:xfrm>
        </p:grpSpPr>
        <p:sp>
          <p:nvSpPr>
            <p:cNvPr id="47" name=""/>
            <p:cNvSpPr/>
            <p:nvPr/>
          </p:nvSpPr>
          <p:spPr>
            <a:xfrm>
              <a:off x="324000" y="2924280"/>
              <a:ext cx="8496000" cy="36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000" y="292428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2924280"/>
              <a:ext cx="8496000" cy="36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buClr>
                  <a:srgbClr val="000099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성 경 말 씀 –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20000"/>
                </a:lnSpc>
                <a:buClr>
                  <a:srgbClr val="000099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  “</a:t>
              </a:r>
              <a:r>
                <a:rPr b="0" lang="en-US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(8)</a:t>
              </a:r>
              <a:r>
                <a:rPr b="0" lang="zh-CN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너희는 그 은혜에 의하여 믿음으로 말미암아 구원을 받았으니 이것은 너희에게서 난 것이 아니요 하나님의 선물이라 </a:t>
              </a:r>
              <a:r>
                <a:rPr b="0" lang="en-US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(9)</a:t>
              </a:r>
              <a:r>
                <a:rPr b="0" lang="zh-CN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행위에서 난 것이 아니니 이는 누구든지 자랑하지 못하게 함이라”</a:t>
              </a:r>
              <a:r>
                <a:rPr b="0" lang="en-US" sz="24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                              </a:t>
              </a:r>
              <a:r>
                <a:rPr b="0" lang="en-US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&lt;</a:t>
              </a:r>
              <a:r>
                <a:rPr b="0" lang="zh-CN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에베소서</a:t>
              </a:r>
              <a:r>
                <a:rPr b="0" lang="en-US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2:8~9&gt;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692360" y="333360"/>
            <a:ext cx="863640" cy="7192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4920" y="206064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1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인간의 노력이 아닙니다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000" spc="-1" strike="noStrike">
                <a:solidFill>
                  <a:srgbClr val="6600cc"/>
                </a:solidFill>
                <a:latin typeface="-청춘M"/>
                <a:ea typeface="-청춘M"/>
              </a:rPr>
              <a:t>마음열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062080"/>
            <a:ext cx="8207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484200">
              <a:lnSpc>
                <a:spcPct val="150000"/>
              </a:lnSpc>
              <a:buClr>
                <a:srgbClr val="3333cc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이현필이 자신이 쌓아올린 벽을 스스로 깨뜨린 이유는 무엇이라고 생각하십니까</a:t>
            </a:r>
            <a:r>
              <a:rPr b="1" lang="en-US" sz="36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49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400" spc="-1" strike="noStrike">
                <a:solidFill>
                  <a:srgbClr val="6600cc"/>
                </a:solidFill>
                <a:latin typeface="-청춘M"/>
                <a:ea typeface="-청춘M"/>
              </a:rPr>
              <a:t>말씀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74600" y="1211400"/>
            <a:ext cx="88930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6040" indent="-446040">
              <a:lnSpc>
                <a:spcPct val="130000"/>
              </a:lnSpc>
              <a:buClr>
                <a:srgbClr val="660066"/>
              </a:buClr>
              <a:buFont typeface="HY헤드라인M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‘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내가 무엇을 하여야’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(What)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가 아니라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 ‘어떻게 해야 할까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’(How)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가 중요합니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06280" y="4191120"/>
            <a:ext cx="87854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마가복음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10:17&gt;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수께서 길에 나가실새 한 사람이 달려와서 꿇어 앉아 묻자오되 선한 선생님이여 내가 무엇을 하여야 영생을 얻으리이까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2759040"/>
            <a:ext cx="88394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*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부자 청년이 예수님께 달려와 예수님을 어떻게 불렀고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,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무엇을 물었습니까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390204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마가복음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10:22&gt;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그 사람은 재물이 많은 고로 이 말씀으로 인하여 슬픈 기색을 띠고 근심하며 가니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330720"/>
            <a:ext cx="8785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*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이에 대한 부자 청년의 반응은 어떠하였습니까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501920"/>
            <a:ext cx="87850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마가복음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10:21&gt; 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수께서 그를 보시고 사랑하사 이르시되 네게 아직도 한 가지 부족한 것이 있으니 가서 네게 있는 것을 다 팔아 가난한 자들에게 주라 그리하면 하늘에서 보화가 네게 있으리라 그리고 와서 나를 따르라 하시니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206280" y="228600"/>
            <a:ext cx="8785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*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어려서부터 계명을 잘 지켰다고 대답한 부자 청년에게 예수님은 부족한 것이 있다고 하셨는데 그것이 무엇입니까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76920"/>
            <a:ext cx="8785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*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구원은 사람이 아니라 하나님께 달려 있습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282600" y="5475240"/>
            <a:ext cx="8785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마가복음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10:27&gt;  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수께서 그들을 보시며 이르시되 사람으로는 할 수 없으되 하나님으로는 그렇지 아니하니 하나님으로서는 다 하실 수 있느니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115920"/>
            <a:ext cx="851508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9640" indent="-5396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B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어떠한 노력도 하나님의 절대공의를 만족케 할 수 없습니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192320"/>
            <a:ext cx="876312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야고보서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2:10&gt;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누구든지 온 율법을 지키다가 그 하나를 범하면 모두 범한 자가 되나니 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갈라디아서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3:10&gt;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무릇 율법 행위에 속한 자들은 저주 아래에 있나니 기록된 바 누구든지 율법 책에 기록된 대로 모든 일을 항상 행하지 아니하는 자는 저주 아래에 있는 자라 하였음이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854600"/>
            <a:ext cx="86104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에베소서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2:8-9&gt;  (8)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너희는 그 은혜에 의하여 믿음으로 말미암아 구원을 받았으니 이것은 너희에게서 난 것이 아니요 하나님의 선물이라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9)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행위에서 난 것이 아니니 이는 누구든지 자랑하지 못하게 함이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733920"/>
            <a:ext cx="87631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en-US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&gt;&gt;&gt;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하나님은 완전한 것을 요구하십니다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. 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나 율법을 완전하게 지킬 수 있는 사람은 없습니다</a:t>
            </a:r>
            <a:r>
              <a:rPr b="0" lang="ko-KR" sz="2600" spc="-1" strike="noStrike">
                <a:solidFill>
                  <a:srgbClr val="3333cc"/>
                </a:solidFill>
                <a:latin typeface="HY견고딕"/>
                <a:ea typeface="HY견고딕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115920"/>
            <a:ext cx="849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1720" indent="-5317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C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인간의 끝이 하나님의 시작입니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06280" y="836640"/>
            <a:ext cx="87854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1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구원은 우리 안에서 오는 것이 아니라 우리 밖에서 옵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57200" y="2743200"/>
            <a:ext cx="7739640" cy="2819160"/>
            <a:chOff x="457200" y="2743200"/>
            <a:chExt cx="7739640" cy="2819160"/>
          </a:xfrm>
        </p:grpSpPr>
        <p:sp>
          <p:nvSpPr>
            <p:cNvPr id="71" name=""/>
            <p:cNvSpPr/>
            <p:nvPr/>
          </p:nvSpPr>
          <p:spPr>
            <a:xfrm>
              <a:off x="457200" y="2743200"/>
              <a:ext cx="3101760" cy="2819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강산체"/>
                  <a:ea typeface="강산체"/>
                </a:rPr>
                <a:t>제한된 힘으로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강산체"/>
                  <a:ea typeface="강산체"/>
                </a:rPr>
                <a:t>태두리 만든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강산체"/>
                  <a:ea typeface="강산체"/>
                </a:rPr>
                <a:t>인간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504600" y="3352680"/>
              <a:ext cx="83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580920" y="4876560"/>
              <a:ext cx="76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08360" y="3146400"/>
              <a:ext cx="204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강산체"/>
                  <a:ea typeface="강산체"/>
                </a:rPr>
                <a:t>Extra nos </a:t>
              </a:r>
              <a:r>
                <a:rPr b="0" lang="ko-KR" sz="1800" spc="-1" strike="noStrike">
                  <a:solidFill>
                    <a:srgbClr val="000000"/>
                  </a:solidFill>
                  <a:latin typeface="강산체"/>
                  <a:ea typeface="강산체"/>
                </a:rPr>
                <a:t>우리 밖에서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59120" y="4647960"/>
              <a:ext cx="21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강산체"/>
                  <a:ea typeface="강산체"/>
                </a:rPr>
                <a:t>Pro nobis </a:t>
              </a:r>
              <a:r>
                <a:rPr b="0" lang="ko-KR" sz="1800" spc="-1" strike="noStrike">
                  <a:solidFill>
                    <a:srgbClr val="000000"/>
                  </a:solidFill>
                  <a:latin typeface="강산체"/>
                  <a:ea typeface="강산체"/>
                </a:rPr>
                <a:t>우리를 위하여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76" name=""/>
            <p:cNvCxnSpPr>
              <a:endCxn id="77" idx="0"/>
            </p:cNvCxnSpPr>
            <p:nvPr/>
          </p:nvCxnSpPr>
          <p:spPr>
            <a:xfrm>
              <a:off x="7086240" y="3352320"/>
              <a:ext cx="7624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7238880" y="4800600"/>
              <a:ext cx="60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67480" y="3809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강산체"/>
                </a:rPr>
                <a:t>하나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48360" y="3352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48360" y="4267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52280" y="152280"/>
            <a:ext cx="8785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2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실존의 세가지 단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421000"/>
            <a:ext cx="876312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로마서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7:19-24&gt;  (19)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내가 원하는 바 선은 행하지 아니하고 도리어 원하지 아니하는 바 악을 행하는도다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20)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만일 내가 원하지 아니하는 그것을 하면 이를 행하는 자는 내가 아니요 내 속에 거하는 죄니라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21)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그러므로 내가 한 법을 깨달았노니 곧 선을 행하기 원하는 나에게 악이 함께 있는 것이로다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22)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내 속사람으로는 하나님의 법을 즐거워하되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23)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내 지체 속에서 한 다른 법이 내 마음의 법과 싸워 내 지체 속에 있는 죄의 법으로 나를 사로잡는 것을 보는도다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24)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오호라 나는 곤고한 사람이로다 이 사망의 몸에서 누가 나를 건져내랴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612720" y="836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* 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미 적  실 존 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: 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쾌락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-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실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* 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윤리적 실존 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: 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유머 – 절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* 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종교적 실존 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: 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단독자 – 하나님 앞에 홀로서는 자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                                  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키에르케고르</a:t>
            </a:r>
            <a:r>
              <a:rPr b="0" lang="ko-KR" sz="2400" spc="-1" strike="noStrike">
                <a:solidFill>
                  <a:srgbClr val="660066"/>
                </a:solidFill>
                <a:latin typeface="HY견고딕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1542960"/>
            <a:ext cx="87631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누가복음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15:11-14&gt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11)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또 이르시되 어떤 사람에게 두 아들이 있는데 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12)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그 둘째가 아버지에게 말하되 아버지여 재산 중에서 내게 돌아올 분깃을 내게 주소서 하는지라 아버지가 그 살림을 각각 나눠 주었더니 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13)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그 후 며칠이 안 되어 둘째 아들이 재물을 다 모아 가지고 먼 나라에 가 거기서 허랑방탕하여 그 재산을 낭비하더니 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14)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다 없앤 후 그 나라에 크게 흉년이 들어 그가 비로소 궁핍한지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96920"/>
            <a:ext cx="87850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3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돌아오면 됩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06-28T06:55:26Z</dcterms:modified>
  <cp:revision>203</cp:revision>
  <dc:subject/>
  <dc:title>PowerPoint 프레젠테이션</dc:title>
</cp:coreProperties>
</file>