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418-77EC-44DA-95BC-AAF6806C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B5E-D233-40E3-9703-3CC31526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611-0A61-4880-9427-F6E9567A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B4E-9338-41EC-BCD4-402EFB8D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939-FEEB-44A0-9D60-E1EA2FE6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A89-4647-4692-A2EA-2471B123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65E-B3B9-4A58-93C6-71517EFD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634-D324-4DE8-A43A-AC3CB556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229-F7A1-4C52-9413-67CA608D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1CB-D874-4037-BFEF-3A5F84BA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0A6-132A-48F7-BE17-B66EF250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D23-FBE5-4F56-BA6F-7D71D358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7849-182C-47D9-BEAB-FB69E05EDE9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43" name=""/>
          <p:cNvSpPr/>
          <p:nvPr/>
        </p:nvSpPr>
        <p:spPr>
          <a:xfrm>
            <a:off x="2693160" y="102708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휴먼옛체"/>
                <a:ea typeface="휴먼옛체"/>
              </a:rPr>
              <a:t>삶의 가치를 향상 시켜주는 구원에 이르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29364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lt; </a:t>
            </a:r>
            <a:r>
              <a:rPr b="1" lang="zh-CN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확  신  편 </a:t>
            </a: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115920"/>
            <a:ext cx="849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1720" indent="-531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C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패역한 세대에서 구원을 받으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1341360"/>
            <a:ext cx="871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*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과학주의 물질주의 인본주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*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자유주의 쾌락주의 허무주의 세속주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*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전통 권위 도덕적 가치 종교를 잃음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36640"/>
            <a:ext cx="878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우리가 살고 있는 이 세대의 특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997360"/>
            <a:ext cx="878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죄로 물든 우리 시대의 자화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3429000"/>
            <a:ext cx="871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*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질서를 잃어버린 세대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무질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*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목표를 상실한 세대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무목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*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교만과 소외의 세대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무관심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20560" y="4869000"/>
            <a:ext cx="83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미가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6:8&gt;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사람아 주께서 선한 것이 무엇임을 네게 보이셨나니 여호와께서 네게 구하시는 것은 오직 정의를 행하며 인자를 사랑하며 겸손하게 네 하나님과 함께 행하는 것이 아니냐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96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생각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134136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Q1.  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전혀 다른 곡을 함께 틀어놓으면 어떻습니까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000"/>
            </a:br>
            <a:br>
              <a:rPr sz="3000"/>
            </a:b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Q2. 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골문이 순간순간 변하는 축구 경기장이 있다면 어떻게 되겠습니까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000"/>
            </a:br>
            <a:br>
              <a:rPr sz="3000"/>
            </a:b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Q3. 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오늘밤 이 닦을 때 배꼽도 닦아줘야겠어요</a:t>
            </a:r>
            <a:r>
              <a:rPr b="1" lang="ko-KR" sz="30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24000" y="1052640"/>
            <a:ext cx="8496000" cy="5536800"/>
            <a:chOff x="324000" y="1052640"/>
            <a:chExt cx="8496000" cy="5536800"/>
          </a:xfrm>
        </p:grpSpPr>
        <p:sp>
          <p:nvSpPr>
            <p:cNvPr id="126" name=""/>
            <p:cNvSpPr/>
            <p:nvPr/>
          </p:nvSpPr>
          <p:spPr>
            <a:xfrm>
              <a:off x="324000" y="1052640"/>
              <a:ext cx="8496000" cy="55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000" y="105264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4000" y="1052640"/>
              <a:ext cx="8496000" cy="54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성 경 말 씀 –</a:t>
              </a:r>
              <a:endParaRPr b="0" lang="en-US" sz="3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2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“</a:t>
              </a:r>
              <a:r>
                <a:rPr b="0" lang="en-US" sz="30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(18)</a:t>
              </a:r>
              <a:r>
                <a:rPr b="0" lang="zh-CN" sz="30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그를 믿는 자는 심판을 받지 아니하는 것이요 믿지 아니하는 자는 하나님의 독생자의 이름을 믿지 아니하므로 벌써 심판을 받은 것이니라 </a:t>
              </a:r>
              <a:r>
                <a:rPr b="0" lang="en-US" sz="30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(19)</a:t>
              </a:r>
              <a:r>
                <a:rPr b="0" lang="zh-CN" sz="30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그 정죄는 이것이니 곧 빛이 세상에 왔으되 사람들이 자기 행위가 악하므로 빛보다 어둠을 더 사랑한 것이니라 ” </a:t>
              </a:r>
              <a:endParaRPr b="0" lang="en-US" sz="3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                       </a:t>
              </a:r>
              <a:r>
                <a:rPr b="0" lang="en-US" sz="30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&lt;</a:t>
              </a:r>
              <a:r>
                <a:rPr b="0" lang="zh-CN" sz="30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요한복음</a:t>
              </a:r>
              <a:r>
                <a:rPr b="0" lang="en-US" sz="30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3:18~19&gt;</a:t>
              </a:r>
              <a:endParaRPr b="0" lang="en-US" sz="3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누가복음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10:25-37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5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어떤 율법교사가 일어나 예수를 시험하여 이르되 선생님 내가 무엇을 하여야 영생을 얻으리이까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6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이르시되 율법에 무엇이라 기록되었으며 네가 어떻게 읽느냐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7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답하여 이르되 네 마음을 다하며 목숨을 다하며 힘을 다하며 뜻을 다하여 주 너의 하나님을 사랑하고 또한 네 이웃을 네 자신 같이 사랑하라 하였나이다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8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이르시되 네 대답이 옳도다 이를 행하라 그러면 살리라 하시니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9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 사람이 자기를 옳게 보이려고 예수께 여짜오되 그러면 내 이웃이 누구니이까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30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대답하여 이르시되 어떤 사람이 예루살렘에서 여리고로 내려가다가 강도를 만나매 강도들이 그 옷을 벗기고 때려 거의 죽은 것을 버리고 갔더라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31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마침 한 제사장이 그 길로 내려가다가 그를 보고 피하여 지나가고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32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또 이와 같이 한 레위인도 그 곳에 이르러 그를 보고 피하여 지나가되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33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어떤 사마리아 사람은 여행하는 중 거기 이르러 그를 보고 불쌍히 여겨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34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까이 가서 기름과 포도주를 그 상처에 붓고 싸매고 자기 짐승에 태워 주막으로 데리고 가서 돌보아 주니라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35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그 이튿날 그가 주막 주인에게 데나리온 둘을 내어 주며 이르되 이 사람을 돌보아 주라 비용이 더 들면 내가 돌아올 때에 갚으리라 하였으니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36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네 생각에는 이 세 사람 중에 누가 강도 만난 자의 이웃이 되겠느냐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37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르되 자비를 베푼 자니이다 예수께서 이르시되 가서 너도 이와 같이 하라 하시니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7610400" y="6237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Arial"/>
                <a:ea typeface="-소망B"/>
              </a:rPr>
              <a:t>행복한교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누가복음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16:19-3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9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 부자가 있어 자색 옷과 고운 베옷을 입고 날마다 호화롭게 즐기더라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0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런데 나사로라 이름하는 한 거지가 헌데 투성이로 그의 대문 앞에 버려진 채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1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그 부자의 상에서 떨어지는 것으로 배불리려 하매 심지어 개들이 와서 그 헌데를 핥더라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2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에 그 거지가 죽어 천사들에게 받들려 아브라함의 품에 들어가고 부자도 죽어 장사되매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3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그가 음부에서 고통 중에 눈을 들어 멀리 아브라함과 그의 품에 있는 나사로를 보고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4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불러 이르되 아버지 아브라함이여 나를 긍휼히 여기사 나사로를 보내어 그 손가락 끝에 물을 찍어 내 혀를 서늘하게 하소서 내가 이 불꽃 가운데서 괴로워하나이다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5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브라함이 이르되 얘 너는 살았을 때에 좋은 것을 받았고 나사로는 고난을 받았으니 이것을 기억하라 이제 그는 여기서 위로를 받고 너는 괴로움을 받느니라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6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뿐 아니라 너희와 우리 사이에 큰 구렁텅이가 놓여 있어 여기서 너희에게 건너가고자 하되 갈 수 없고 거기서 우리에게 건너올 수도 없게 하였느니라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7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르되 그러면 아버지여 구하노니 나사로를 내 아버지의 집에 보내소서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8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내 형제 다섯이 있으니 그들에게 증언하게 하여 그들로 이 고통 받는 곳에 오지 않게 하소서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9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브라함이 이르되 그들에게 모세와 선지자들이 있으니 그들에게 들을지니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30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르되 그렇지 아니하니이다 아버지 아브라함이여 만일 죽은 자에게서 그들에게 가는 자가 있으면 회개하리이다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31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르되 모세와 선지자들에게 듣지 아니하면 비록 죽은 자 가운데서 살아나는 자가 있을지라도 권함을 받지 아니하리라 하였다 하시니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7610400" y="6237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Arial"/>
                <a:ea typeface="-소망B"/>
              </a:rPr>
              <a:t>행복한교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마가복음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10:17-3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17)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길에 나가실새 한 사람이 달려와서 꿇어 앉아 묻자오되 선한 선생님이여 내가 무엇을 하여야 영생을 얻으리이까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18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이르시되 네가 어찌하여 나를 선하다 일컫느냐 하나님 한 분 외에는 선한 이가 없느니라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19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네가 계명을 아나니 살인하지 말라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간음하지 말라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도둑질하지 말라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거짓 증언하지 말라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속여 빼앗지 말라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네 부모를 공경하라 하였느니라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0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그가 여짜오되 선생님이여 이것은 내가 어려서부터 다 지켰나이다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1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그를 보시고 사랑하사 이르시되 네게 아직도 한 가지 부족한 것이 있으니 가서 네게 있는 것을 다 팔아 가난한 자들에게 주라 그리하면 하늘에서 보화가 네게 있으리라 그리고 와서 나를 따르라 하시니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2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그 사람은 재물이 많은 고로 이 말씀으로 인하여 슬픈 기색을 띠고 근심하며 가니라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3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둘러 보시고 제자들에게 이르시되 재물이 있는 자는 하나님의 나라에 들어가기가 심히 어렵도다 하시니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4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자들이 그 말씀에 놀라는지라 예수께서 다시 대답하여 이르시되 얘들아 하나님의 나라에 들어가기가 얼마나 어려운지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5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낙타가 바늘귀로 나가는 것이 부자가 하나님의 나라에 들어가는 것보다 쉬우니라 하시니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6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자들이 매우 놀라 서로 말하되 그런즉 누가 구원을 얻을 수 있는가 하니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7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그들을 보시며 이르시되 사람으로는 할 수 없으되 하나님으로는 그렇지 아니하니 하나님으로서는 다 하실 수 있느니라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8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베드로가 여짜와 이르되 보소서 우리가 모든 것을 버리고 주를 따랐나이다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9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이르시되 내가 진실로 너희에게 이르노니 나와 복음을 위하여 집이나 형제나 자매나 어머니나 아버지나 자식이나 전토를 버린 자는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30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현세에 있어 집과 형제와 자매와 어머니와 자식과 전토를 백 배나 받되 박해를 겸하여 받고 내세에 영생을 받지 못할 자가 없느니라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31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러나 먼저 된 자로서 나중 되고 나중 된 자로서 먼저 될 자가 많으니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7723080" y="63752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Arial"/>
                <a:ea typeface="-소망B"/>
              </a:rPr>
              <a:t>행복한교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25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무엘상</a:t>
            </a:r>
            <a:r>
              <a:rPr b="0" lang="ko-KR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12:23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917720"/>
            <a:ext cx="8713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나는 너희를 위하여 기도하기를 쉬는 죄를 여호와 앞에 결단코 범하지 아니하고 선하고 의로운 길을 너희에게 가르칠 것인즉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7610400" y="6237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Arial"/>
                <a:ea typeface="-소망B"/>
              </a:rPr>
              <a:t>행복한교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마태복음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27:11-26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1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총독 앞에 섰으매 총독이 물어 이르되 네가 유대인의 왕이냐 예수께서 대답하시되 네 말이 옳도다 하시고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2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제사장들과 장로들에게 고발을 당하되 아무 대답도 아니하시는지라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3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에 빌라도가 이르되 그들이 너를 쳐서 얼마나 많은 것으로 증언하는지 듣지 못하느냐 하되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4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 마디도 대답하지 아니하시니 총독이 크게 놀라워하더라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5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명절이 되면 총독이 무리의 소원대로 죄수 한 사람을 놓아 주는 전례가 있더니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6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그 때에 바라바라 하는 유명한 죄수가 있는데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7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들이 모였을 때에 빌라도가 물어 이르되 너희는 내가 누구를 너희에게 놓아 주기를 원하느냐 바라바냐 그리스도라 하는 예수냐 하니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8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는 그가 그들의 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猜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로 예수를 넘겨 준 줄 앎이더라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9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총독이 재판석에 앉았을 때에 그의 아내가 사람을 보내어 이르되 저 옳은 사람에게 아무 상관도 하지 마옵소서 오늘 꿈에 내가 그 사람으로 인하여 애를 많이 태웠나이다 하더라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0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제사장들과 장로들이 무리를 권하여 바라바를 달라 하게 하고 예수를 죽이자 하게 하였더니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1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총독이 대답하여 이르되 둘 중의 누구를 너희에게 놓아 주기를 원하느냐 이르되 바라바로소이다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2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빌라도가 이르되 그러면 그리스도라 하는 예수를 내가 어떻게 하랴 그들이 다 이르되 십자가에 못 박혀야 하겠나이다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3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빌라도가 이르되 어찜이냐 무슨 악한 일을 하였느냐 그들이 더욱 소리질러 이르되 십자가에 못 박혀야 하겠나이다 하는지라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4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빌라도가 아무 성과도 없이 도리어 민란이 나려는 것을 보고 물을 가져다가 무리 앞에서 손을 씻으며 이르되 이 사람의 피에 대하여 나는 무죄하니 너희가 당하라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5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백성이 다 대답하여 이르되 그 피를 우리와 우리 자손에게 돌릴지어다 하거늘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26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에 바라바는 저희에게 놓아 주고 예수는 채찍질하고 십자가에 못 박히게 넘겨 주니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7610400" y="6237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Arial"/>
                <a:ea typeface="-소망B"/>
              </a:rPr>
              <a:t>행복한교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마태복음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25:14-3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14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또 어떤 사람이 타국에 갈 때 그 종들을 불러 자기 소유를 맡김과 같으니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15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각각 그 재능대로 한 사람에게는 금 다섯 달란트를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한 사람에게는 두 달란트를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한 사람에게는 한 달란트를 주고 떠났더니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16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다섯 달란트 받은 자는 바로 가서 그것으로 장사하여 또 다섯 달란트를 남기고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17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두 달란트를 받은 자도 그같이 하여 또 두 달란트를 남겼으되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18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한 달란트 받은 자는 가서 땅을 파고 그 주인의 돈을 감추어 두었더니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19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오랜 후에 그 종들의 주인이 돌아와 그들과 결산할새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0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다섯 달란트 받았던 자는 다섯 달란트를 더 가지고 와서 이르되 주인이여 내게 다섯 달란트를 주셨는데 보소서 내가 또 다섯 달란트를 남겼나이다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1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그 주인이 이르되 잘 하였도다 착하고 충성된 종아 네가 적은 일에 충성하였으매 내가 많은 것을 네게 맡기리니 네 주인의 즐거움에 참여할지어다 하고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2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두 달란트 받았던 자도 와서 이르되 주인이여 내게 두 달란트를 주셨는데 보소서 내가 또 두 달란트를 남겼나이다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3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그 주인이 이르되 잘 하였도다 착하고 충성된 종아 네가 적은 일에 충성하였으매 내가 많은 것을 네게 맡기리니 네 주인의 즐거움에 참여할지어다 하고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4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한 달란트 받았던 자는 와서 이르되 주여 당신은 굳은 사람이라 심지 않은 데서 거두고 헤치지 않은 데서 모으는 줄을 내가 알았으므로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5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두려워하여 나가서 당신의 달란트를 땅에 감추어 두었었나이다 보소서 당신의 것을 가지셨나이다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6)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그 주인이 대답하여 이르되 악하고 게으른 종아 나는 심지 않은 데서 거두고 헤치지 않은 데서 모으는 줄로 네가 알았느냐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7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러면 네가 마땅히 내 돈을 취리하는 자들에게나 맡겼다가 내가 돌아와서 내 원금과 이자를 받게 하였을 것이니라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8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그에게서 그 한 달란트를 빼앗아 열 달란트 가진 자에게 주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9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무릇 있는 자는 받아 풍족하게 되고 없는 자는 그 있는 것까지 빼앗기리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30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 무익한 종을 바깥 어두운 데로 내쫓으라 거기서 슬피 울며 이를 갈리라 하니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7610400" y="6237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Arial"/>
                <a:ea typeface="-소망B"/>
              </a:rPr>
              <a:t>행복한교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25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마태복음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25:45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138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에 임금이 대답하여 이르시되 내가 진실로 너희에게 이르노니 이 지극히 작은 자 하나에게 하지 아니한 것이 곧 내게 하지 아니한 것이니라 하시리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687708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7610400" y="6237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Arial"/>
                <a:ea typeface="-소망B"/>
              </a:rPr>
              <a:t>행복한교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6560" y="154080"/>
            <a:ext cx="83534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1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권 구원의 필요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4000" y="2924280"/>
            <a:ext cx="8496000" cy="3668040"/>
            <a:chOff x="324000" y="2924280"/>
            <a:chExt cx="8496000" cy="3668040"/>
          </a:xfrm>
        </p:grpSpPr>
        <p:sp>
          <p:nvSpPr>
            <p:cNvPr id="47" name=""/>
            <p:cNvSpPr/>
            <p:nvPr/>
          </p:nvSpPr>
          <p:spPr>
            <a:xfrm>
              <a:off x="324000" y="2924280"/>
              <a:ext cx="8496000" cy="36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00" y="292428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2924280"/>
              <a:ext cx="8496000" cy="36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성 경 말 씀 –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</a:t>
              </a:r>
              <a:r>
                <a:rPr b="0" lang="en-US" sz="24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“</a:t>
              </a:r>
              <a:r>
                <a:rPr b="0" lang="en-US" sz="24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(18)</a:t>
              </a:r>
              <a:r>
                <a:rPr b="0" lang="zh-CN" sz="24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그를 믿는 자는 심판을 받지 아니하는 것이요 믿지 아니하는 자는 하나님의 독생자의 이름을 믿지 아니하므로 벌써 심판을 받은 것이니라 </a:t>
              </a:r>
              <a:r>
                <a:rPr b="0" lang="en-US" sz="24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(19)</a:t>
              </a:r>
              <a:r>
                <a:rPr b="0" lang="zh-CN" sz="24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그 정죄는 이것이니 곧 빛이 세상에 왔으되 사람들이 자기 행위가 악하므로 빛보다 어둠을 더 사랑한 것이니라 ”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en-US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&lt;</a:t>
              </a:r>
              <a:r>
                <a:rPr b="0" lang="zh-CN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요한복음</a:t>
              </a:r>
              <a:r>
                <a:rPr b="0" lang="en-US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3:18~19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692360" y="333360"/>
            <a:ext cx="863640" cy="7192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4920" y="206064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3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구원을 받아야 할 이유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000" spc="-1" strike="noStrike">
                <a:solidFill>
                  <a:srgbClr val="6600cc"/>
                </a:solidFill>
                <a:latin typeface="-청춘M"/>
                <a:ea typeface="-청춘M"/>
              </a:rPr>
              <a:t>마음열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062080"/>
            <a:ext cx="82072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3333cc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독사란 입 속에 독주머니를 지니고 있기 때문에 독사입니다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.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남을 헤치지 않았다해도 이미 독을 가지고 있으므로 독사입니다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.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여러분은 세상의 법망에는 피해갔지만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,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하나님 앞에 여전히 남아 있는 죄들이 얼마나 많습니까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9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말씀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982800"/>
            <a:ext cx="8893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6040" indent="-446040">
              <a:lnSpc>
                <a:spcPct val="100000"/>
              </a:lnSpc>
              <a:buClr>
                <a:srgbClr val="660066"/>
              </a:buClr>
              <a:buFont typeface="HY헤드라인M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성경이 말하는 죄는 무엇입니까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11520"/>
            <a:ext cx="8785080" cy="28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12&g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러므로 한 사람으로 말미암아 죄가 세상에 들어오고 죄로 말미암아 사망이 들어왔나니 이와 같이 모든 사람이 죄를 지었으므로 사망이 모든 사람에게 이르렀느니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7:16-18&g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(16)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들의 열매로 그들을 알찌니 가시나무에서 포도를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또는 엉겅퀴에서 무화과를 따겠느냐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7)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와 같이 좋은 나무마다 아름다운 열매를 맺고 못된 나무가 나쁜 열매를 맺나니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8)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좋은 나무가 나쁜 열매를 맺을 수 없고 못된 나무가 아름다운 열매를 맺을 수 없느니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44640"/>
            <a:ext cx="878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죄의 뿌리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(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원죄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443700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야고보서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4:17&gt;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러므로 사람이 선을 행할 줄 알고도 행하지 아니하면 죄니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-36360" y="3716280"/>
            <a:ext cx="878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3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생략의 죄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(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요구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40652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27-28&g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(27)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또 간음하지 말라 하였다는 것을 너희가 들었으나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28)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나는 너희에게 이르노니 음욕을 품고 여자를 보는 자마다 마음에 이미 간음하였느니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-36360" y="693720"/>
            <a:ext cx="878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마음의 죄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(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동기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619280"/>
            <a:ext cx="8785440" cy="53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      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부자청년                           </a:t>
            </a:r>
            <a:r>
              <a:rPr b="0" lang="ko-KR" sz="2400" spc="-1" strike="noStrike" u="sng">
                <a:solidFill>
                  <a:srgbClr val="6600cc"/>
                </a:solidFill>
                <a:uFillTx/>
                <a:latin typeface="HY견고딕"/>
                <a:ea typeface="HY견고딕"/>
                <a:hlinkClick r:id="rId2" action="ppaction://hlinksldjump"/>
              </a:rPr>
              <a:t>눅10:25-3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어리석은 부자농부                           </a:t>
            </a:r>
            <a:r>
              <a:rPr b="0" lang="ko-KR" sz="2400" spc="-1" strike="noStrike" u="sng">
                <a:solidFill>
                  <a:srgbClr val="6600cc"/>
                </a:solidFill>
                <a:uFillTx/>
                <a:latin typeface="HY견고딕"/>
                <a:ea typeface="HY견고딕"/>
                <a:hlinkClick r:id="rId3" action="ppaction://hlinksldjump"/>
              </a:rPr>
              <a:t>눅16:19-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제사장 레위사람                           </a:t>
            </a:r>
            <a:r>
              <a:rPr b="0" lang="ko-KR" sz="2400" spc="-1" strike="noStrike" u="sng">
                <a:solidFill>
                  <a:srgbClr val="6600cc"/>
                </a:solidFill>
                <a:uFillTx/>
                <a:latin typeface="HY견고딕"/>
                <a:ea typeface="HY견고딕"/>
                <a:hlinkClick r:id="rId4" action="ppaction://hlinksldjump"/>
              </a:rPr>
              <a:t>막10:17-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한달란트 받은 종                           삼상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2:2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빌라도의 재판                           마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7:11-2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기도하기를 쉬는 죄                          마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5:14-3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부자와 나사로                           마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5:45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 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하지 않은 것                           눅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6:19-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-36360" y="693720"/>
            <a:ext cx="878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다음은 성경에 나오는 생략의 죄들을 보여줍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선으로 연결 지어 봅시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270828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458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2060640"/>
            <a:ext cx="2592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987640" y="2133720"/>
            <a:ext cx="2448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987640" y="3933720"/>
            <a:ext cx="2521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87640" y="4005000"/>
            <a:ext cx="25210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987640" y="5805360"/>
            <a:ext cx="244800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987640" y="5805360"/>
            <a:ext cx="25210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836640"/>
            <a:ext cx="878544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3:18-19&gt;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(18) 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를 믿는 자는 심판을 받지 아니하는 것이요 믿지 아니하는 자는 하나님의 독생자의 이름을 믿지 아니하므로 벌써 심판을 받은 것이니라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9)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그 정죄는 이것이니 곧 빛이 세상에 왔으되 사람들이 자기 행위가 악하므로 빛보다 어둠을 더 사랑한 것이니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6:9&gt;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죄에 대하여라 함은 그들이 나를 믿지 아니함이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:11-12&gt;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(11)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자기 땅에 오매 자기 백성이 영접하지 아니하였으나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2) 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영접하는 자 곧 그 이름을 믿는 자들에게는 하나님의 자녀가 되는 권세를 주셨으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-36360" y="260280"/>
            <a:ext cx="878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4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결정적 죄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(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불신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115920"/>
            <a:ext cx="84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9640" indent="-539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B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죄는 어떻게 나타납니까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197000"/>
            <a:ext cx="8496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창세기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:16-17&gt;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(16)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여호와 하나님이 그 사람에게 명하여 이르시되 동산 각종 나무의 열매는 네가 임의로 먹되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7) 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선악을 알게 하는 나무의 열매는 먹지 말라 네가 먹는 날에는 반드시 죽으리라 하시니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1755720" y="3743280"/>
            <a:ext cx="50637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gt;&gt;&gt;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대지에서 분리된 나무는 자원이 말라가게 됩니다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 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래서 오는 현상들이 무엇입니까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 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여기에서 인간의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 </a:t>
            </a:r>
            <a:r>
              <a:rPr b="0" lang="zh-CN" sz="2400" spc="-1" strike="noStrike">
                <a:solidFill>
                  <a:srgbClr val="ff0000"/>
                </a:solidFill>
                <a:latin typeface="HY견고딕"/>
                <a:ea typeface="HY견고딕"/>
              </a:rPr>
              <a:t>고난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 시작됩니다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228600"/>
            <a:ext cx="6705720" cy="6248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3962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276720" y="5181480"/>
            <a:ext cx="3808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3000" y="228600"/>
            <a:ext cx="6781680" cy="5943600"/>
            <a:chOff x="1143000" y="228600"/>
            <a:chExt cx="6781680" cy="5943600"/>
          </a:xfrm>
        </p:grpSpPr>
        <p:sp>
          <p:nvSpPr>
            <p:cNvPr id="81" name=""/>
            <p:cNvSpPr/>
            <p:nvPr/>
          </p:nvSpPr>
          <p:spPr>
            <a:xfrm>
              <a:off x="2438280" y="1523880"/>
              <a:ext cx="4114800" cy="3810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3048120"/>
              <a:ext cx="990720" cy="89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(한)문화방송"/>
                </a:rPr>
                <a:t>원죄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95480" y="22860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자기만 편하고 싶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2057400"/>
              <a:ext cx="1600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무엇이나 자기것으로   하고싶다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28600"/>
              <a:ext cx="0" cy="28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43000" y="350532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29200" y="3505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95480" y="3886200"/>
              <a:ext cx="16765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자기가 제일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위대하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3886200"/>
              <a:ext cx="16765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자기가 제일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중요하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209320" y="1143000"/>
              <a:ext cx="8384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00400" y="457200"/>
              <a:ext cx="6094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71600" y="228600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28195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나쁜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5120" y="18288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불 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320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불 평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86200" y="457200"/>
              <a:ext cx="114300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으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름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943600" y="11430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5257800" y="457200"/>
              <a:ext cx="457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400800" y="213336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209320" y="4800600"/>
              <a:ext cx="838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447560" y="411480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3600" y="472428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4120" y="5181480"/>
              <a:ext cx="533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41148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95280" y="3733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짖긏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800" y="46324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불친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90920" y="5318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난  폭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5715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거  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8320" y="56991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방  종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38680" y="5257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거짓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00800" y="4572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미  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81680" y="3718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질  투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1680" y="28195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탐  냄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48520" y="17524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도둑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10508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간  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24280" y="457200"/>
              <a:ext cx="114300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싸 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06-03T01:32:02Z</dcterms:modified>
  <cp:revision>198</cp:revision>
  <dc:subject/>
  <dc:title>PowerPoint 프레젠테이션</dc:title>
</cp:coreProperties>
</file>