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39E8-8D97-4FB9-9BBB-7F590AE9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3152-31AC-40B1-A7BE-6886E9AE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E700-9B50-4C2B-9D92-5F008F2E1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44DD-EE84-4B2C-AA60-69FB74C6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9426-479B-439F-B04F-1653AB56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E4BE-3AE5-4F1C-A73C-ED3573F4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451D-A3F5-407E-96CE-4953D813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A347-8B2E-4B67-82DA-F4075542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0C43-1F2E-4F05-B671-36E3DB3B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0912-5F20-4B89-8084-3F2F28F5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9669-744D-4843-8F1F-A232C428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58F2-86E2-4A90-9325-9BAB6234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74E9-2FF2-42C9-BAD2-D81549B7851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28560" y="5119560"/>
            <a:ext cx="243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-소망B"/>
                <a:ea typeface="-소망B"/>
              </a:rPr>
              <a:t>행 복 한 교 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95640" y="2492280"/>
            <a:ext cx="475272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HY견고딕"/>
              </a:rPr>
              <a:t>믿음의 길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HY견고딕"/>
              <a:ea typeface="HY견고딕"/>
            </a:endParaRPr>
          </a:p>
        </p:txBody>
      </p:sp>
      <p:sp>
        <p:nvSpPr>
          <p:cNvPr id="43" name=""/>
          <p:cNvSpPr/>
          <p:nvPr/>
        </p:nvSpPr>
        <p:spPr>
          <a:xfrm>
            <a:off x="2693160" y="1027080"/>
            <a:ext cx="36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휴먼옛체"/>
                <a:ea typeface="휴먼옛체"/>
              </a:rPr>
              <a:t>삶의 가치를 향상 시켜주는 구원에 이르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293640" y="3429000"/>
            <a:ext cx="245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HY궁서B"/>
                <a:ea typeface="HY궁서B"/>
              </a:rPr>
              <a:t>&lt; </a:t>
            </a:r>
            <a:r>
              <a:rPr b="1" lang="zh-CN" sz="3600" spc="-1" strike="noStrike">
                <a:solidFill>
                  <a:srgbClr val="0000cc"/>
                </a:solidFill>
                <a:latin typeface="HY궁서B"/>
                <a:ea typeface="HY궁서B"/>
              </a:rPr>
              <a:t>확  신  편 </a:t>
            </a:r>
            <a:r>
              <a:rPr b="1" lang="en-US" sz="3600" spc="-1" strike="noStrike">
                <a:solidFill>
                  <a:srgbClr val="0000cc"/>
                </a:solidFill>
                <a:latin typeface="HY궁서B"/>
                <a:ea typeface="HY궁서B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궁서체"/>
                <a:ea typeface="궁서체"/>
              </a:rPr>
              <a:t>이사야 </a:t>
            </a:r>
            <a:r>
              <a:rPr b="0" lang="en-US" sz="4400" spc="-1" strike="noStrike">
                <a:solidFill>
                  <a:srgbClr val="000000"/>
                </a:solidFill>
                <a:latin typeface="궁서체"/>
                <a:ea typeface="궁서체"/>
              </a:rPr>
              <a:t>41:8-10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8)</a:t>
            </a:r>
            <a:r>
              <a:rPr b="0" lang="zh-CN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그러나 나의 종 너 이스라엘아 내가 택한 야곱아 나의 벗 아브라함의 자손아   </a:t>
            </a:r>
            <a:r>
              <a:rPr b="0" lang="en-US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9)</a:t>
            </a:r>
            <a:r>
              <a:rPr b="0" lang="zh-CN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내가 </a:t>
            </a:r>
            <a:r>
              <a:rPr b="0" lang="zh-CN" sz="3200" spc="-1" strike="noStrike" u="sng">
                <a:solidFill>
                  <a:srgbClr val="990099"/>
                </a:solidFill>
                <a:uFillTx/>
                <a:latin typeface="HY헤드라인M"/>
                <a:ea typeface="HY헤드라인M"/>
              </a:rPr>
              <a:t>땅 끝에서부터 너를 붙들며</a:t>
            </a:r>
            <a:r>
              <a:rPr b="0" lang="en-US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땅 모퉁이에서부터 너를 부르고 네게 이르기를 너는 나의 종이라 내가 너를 택하고 </a:t>
            </a:r>
            <a:r>
              <a:rPr b="0" lang="zh-CN" sz="3200" spc="-1" strike="noStrike" u="sng">
                <a:solidFill>
                  <a:srgbClr val="990099"/>
                </a:solidFill>
                <a:uFillTx/>
                <a:latin typeface="HY헤드라인M"/>
                <a:ea typeface="HY헤드라인M"/>
              </a:rPr>
              <a:t>싫어하여 버리지</a:t>
            </a:r>
            <a:r>
              <a:rPr b="0" lang="en-US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zh-CN" sz="3200" spc="-1" strike="noStrike" u="sng">
                <a:solidFill>
                  <a:srgbClr val="990099"/>
                </a:solidFill>
                <a:uFillTx/>
                <a:latin typeface="HY헤드라인M"/>
                <a:ea typeface="HY헤드라인M"/>
              </a:rPr>
              <a:t>아니하였다</a:t>
            </a:r>
            <a:r>
              <a:rPr b="0" lang="en-US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하였노라   </a:t>
            </a:r>
            <a:r>
              <a:rPr b="0" lang="en-US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10)</a:t>
            </a:r>
            <a:r>
              <a:rPr b="0" lang="zh-CN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두려워하지 말라 내가 너와 함께 함이라 놀라지 말라 나는 네 하나님이 됨이라 내가 너를 굳세게 하리라 참으로 너를 도와 주리라 참으로 나의 의로운 오른손으로 너를 붙들리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7093080" y="6237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cc"/>
                </a:solidFill>
                <a:latin typeface="Arial"/>
                <a:ea typeface="-소망B"/>
              </a:rPr>
              <a:t>행복한교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Y궁서B"/>
                <a:ea typeface="HY궁서B"/>
              </a:rPr>
              <a:t>요한복음</a:t>
            </a:r>
            <a:r>
              <a:rPr b="0" lang="en-US" sz="4000" spc="-1" strike="noStrike">
                <a:solidFill>
                  <a:srgbClr val="000000"/>
                </a:solidFill>
                <a:latin typeface="HY궁서B"/>
                <a:ea typeface="HY궁서B"/>
              </a:rPr>
              <a:t>10:28-29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640" y="1410840"/>
            <a:ext cx="8713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28)</a:t>
            </a:r>
            <a:r>
              <a:rPr b="0" lang="zh-CN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내가 그들에게 영생을 주노니 영원히 멸망하지 아니할 것이요 또 그들을 내 손에서 빼앗을 자가 없느니라    </a:t>
            </a:r>
            <a:r>
              <a:rPr b="0" lang="en-US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29)</a:t>
            </a:r>
            <a:r>
              <a:rPr b="0" lang="zh-CN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그들을 주신 내 아버지는 만물보다 크시매 아무도 아버지 손에서 빼앗을 수 없느니라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7093080" y="6237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cc"/>
                </a:solidFill>
                <a:latin typeface="Arial"/>
                <a:ea typeface="-소망B"/>
              </a:rPr>
              <a:t>행복한교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마태복음</a:t>
            </a:r>
            <a:r>
              <a:rPr b="0" lang="en-US" sz="4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3:3-9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1280" y="836280"/>
            <a:ext cx="896472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예수께서 비유로 여러 가지를 그들에게 말씀하여 이르시되 씨를 뿌리는 자가 뿌리러 나가서  </a:t>
            </a:r>
            <a:r>
              <a:rPr b="0" lang="en-US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4)</a:t>
            </a:r>
            <a:r>
              <a:rPr b="0" lang="zh-CN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뿌릴새 더러는 </a:t>
            </a:r>
            <a:r>
              <a:rPr b="0" lang="zh-CN" sz="32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길 가</a:t>
            </a:r>
            <a:r>
              <a:rPr b="0" lang="zh-CN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에 떨어지매 새들이 와서 먹어버렸고  </a:t>
            </a:r>
            <a:r>
              <a:rPr b="0" lang="en-US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5)</a:t>
            </a:r>
            <a:r>
              <a:rPr b="0" lang="zh-CN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더러는 흙이 </a:t>
            </a:r>
            <a:r>
              <a:rPr b="0" lang="zh-CN" sz="32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얕은 돌밭</a:t>
            </a:r>
            <a:r>
              <a:rPr b="0" lang="zh-CN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에 떨어지매 흙이 깊지 아니하므로 곧 싹이 나오나  </a:t>
            </a:r>
            <a:r>
              <a:rPr b="0" lang="en-US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6)</a:t>
            </a:r>
            <a:r>
              <a:rPr b="0" lang="zh-CN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해가 돋은 후에 타서 뿌리가 없으므로 말랐고  </a:t>
            </a:r>
            <a:r>
              <a:rPr b="0" lang="en-US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7)</a:t>
            </a:r>
            <a:r>
              <a:rPr b="0" lang="zh-CN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더러는 </a:t>
            </a:r>
            <a:r>
              <a:rPr b="0" lang="zh-CN" sz="32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가시떨기</a:t>
            </a:r>
            <a:r>
              <a:rPr b="0" lang="en-US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위에 떨어지매 가시가 자라서 기운을 막았고  </a:t>
            </a:r>
            <a:r>
              <a:rPr b="0" lang="en-US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8)</a:t>
            </a:r>
            <a:r>
              <a:rPr b="0" lang="zh-CN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더러는 </a:t>
            </a:r>
            <a:r>
              <a:rPr b="0" lang="zh-CN" sz="32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좋은 땅</a:t>
            </a:r>
            <a:r>
              <a:rPr b="0" lang="zh-CN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에 떨어지매 어떤 것은 백 배</a:t>
            </a:r>
            <a:r>
              <a:rPr b="0" lang="en-US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어떤 것은 육십 배</a:t>
            </a:r>
            <a:r>
              <a:rPr b="0" lang="en-US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어떤 것은 삼십 배의 결실을 하였느니라  </a:t>
            </a:r>
            <a:r>
              <a:rPr b="0" lang="en-US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9)</a:t>
            </a:r>
            <a:r>
              <a:rPr b="0" lang="zh-CN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귀 있는 자는 들으라 하시니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7093080" y="6237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cc"/>
                </a:solidFill>
                <a:latin typeface="Arial"/>
                <a:ea typeface="-소망B"/>
              </a:rPr>
              <a:t>행복한교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24000" y="2494080"/>
            <a:ext cx="8496000" cy="4024440"/>
            <a:chOff x="324000" y="2494080"/>
            <a:chExt cx="8496000" cy="4024440"/>
          </a:xfrm>
        </p:grpSpPr>
        <p:sp>
          <p:nvSpPr>
            <p:cNvPr id="46" name=""/>
            <p:cNvSpPr/>
            <p:nvPr/>
          </p:nvSpPr>
          <p:spPr>
            <a:xfrm>
              <a:off x="324000" y="2494080"/>
              <a:ext cx="8496000" cy="402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4000" y="2494080"/>
              <a:ext cx="849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4000" y="2494080"/>
              <a:ext cx="8496000" cy="39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cc"/>
                  </a:solidFill>
                  <a:latin typeface="휴먼옛체"/>
                  <a:ea typeface="휴먼옛체"/>
                </a:rPr>
                <a:t>- </a:t>
              </a:r>
              <a:r>
                <a:rPr b="0" lang="zh-CN" sz="2800" spc="-1" strike="noStrike">
                  <a:solidFill>
                    <a:srgbClr val="0000cc"/>
                  </a:solidFill>
                  <a:latin typeface="휴먼옛체"/>
                  <a:ea typeface="휴먼옛체"/>
                </a:rPr>
                <a:t>성 경 말 씀 </a:t>
              </a:r>
              <a:r>
                <a:rPr b="0" lang="en-US" sz="2800" spc="-1" strike="noStrike">
                  <a:solidFill>
                    <a:srgbClr val="0000cc"/>
                  </a:solidFill>
                  <a:latin typeface="휴먼옛체"/>
                  <a:ea typeface="휴먼옛체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10000"/>
                </a:lnSpc>
                <a:buClr>
                  <a:srgbClr val="0000cc"/>
                </a:buClr>
                <a:buFont typeface="휴먼옛체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cc"/>
                  </a:solidFill>
                  <a:latin typeface="휴먼옛체"/>
                  <a:ea typeface="휴먼옛체"/>
                </a:rPr>
                <a:t> “ </a:t>
              </a:r>
              <a:r>
                <a:rPr b="0" lang="zh-CN" sz="2800" spc="-1" strike="noStrike">
                  <a:solidFill>
                    <a:srgbClr val="0000cc"/>
                  </a:solidFill>
                  <a:latin typeface="휴먼옛체"/>
                  <a:ea typeface="휴먼옛체"/>
                </a:rPr>
                <a:t>너희가 나를 택한 것이 아니요 내가 너희를 택하여 세웠나니 이는 너희로 가서 열매를 맺게 하고 또 너희 열매가 항상 있게 하여 내 이름으로 아버지께 무엇을 구하든지 다 받게 하려 함이라 ” 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cc"/>
                  </a:solidFill>
                  <a:latin typeface="휴먼옛체"/>
                  <a:ea typeface="휴먼옛체"/>
                </a:rPr>
                <a:t>                                  </a:t>
              </a:r>
              <a:r>
                <a:rPr b="0" lang="en-US" sz="2800" spc="-1" strike="noStrike">
                  <a:solidFill>
                    <a:srgbClr val="0000cc"/>
                  </a:solidFill>
                  <a:latin typeface="휴먼옛체"/>
                  <a:ea typeface="휴먼옛체"/>
                </a:rPr>
                <a:t>&lt;</a:t>
              </a:r>
              <a:r>
                <a:rPr b="0" lang="zh-CN" sz="2800" spc="-1" strike="noStrike">
                  <a:solidFill>
                    <a:srgbClr val="0000cc"/>
                  </a:solidFill>
                  <a:latin typeface="휴먼옛체"/>
                  <a:ea typeface="휴먼옛체"/>
                </a:rPr>
                <a:t>요한복음</a:t>
              </a:r>
              <a:r>
                <a:rPr b="0" lang="en-US" sz="2800" spc="-1" strike="noStrike">
                  <a:solidFill>
                    <a:srgbClr val="0000cc"/>
                  </a:solidFill>
                  <a:latin typeface="휴먼옛체"/>
                  <a:ea typeface="휴먼옛체"/>
                </a:rPr>
                <a:t>15:16&gt;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1851840" y="1197000"/>
            <a:ext cx="5455440" cy="784080"/>
            <a:chOff x="1851840" y="1197000"/>
            <a:chExt cx="5455440" cy="784080"/>
          </a:xfrm>
        </p:grpSpPr>
        <p:sp>
          <p:nvSpPr>
            <p:cNvPr id="50" name=""/>
            <p:cNvSpPr txBox="1"/>
            <p:nvPr/>
          </p:nvSpPr>
          <p:spPr>
            <a:xfrm>
              <a:off x="2987640" y="1412640"/>
              <a:ext cx="93528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HY헤드라인M"/>
                </a:rPr>
                <a:t>첫만남</a:t>
              </a:r>
              <a:endPara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헤드라인M"/>
                <a:ea typeface="HY헤드라인M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51840" y="1210320"/>
              <a:ext cx="744480" cy="703440"/>
            </a:xfrm>
            <a:prstGeom prst="rect">
              <a:avLst/>
            </a:prstGeom>
            <a:noFill/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990099"/>
                  </a:solidFill>
                  <a:latin typeface="Arial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" name=""/>
            <p:cNvSpPr txBox="1"/>
            <p:nvPr/>
          </p:nvSpPr>
          <p:spPr>
            <a:xfrm>
              <a:off x="4138560" y="1197000"/>
              <a:ext cx="3168720" cy="784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HY견고딕"/>
                </a:rPr>
                <a:t>오리엔테이션</a:t>
              </a:r>
              <a:endPara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Y견고딕"/>
                <a:ea typeface="HY견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496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궁서"/>
                <a:ea typeface="궁서"/>
              </a:rPr>
              <a:t> ▣ </a:t>
            </a:r>
            <a:r>
              <a:rPr b="1" lang="zh-CN" sz="4000" spc="-1" strike="noStrike">
                <a:solidFill>
                  <a:srgbClr val="6600cc"/>
                </a:solidFill>
                <a:latin typeface="궁서"/>
                <a:ea typeface="궁서"/>
              </a:rPr>
              <a:t>마음열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538200" y="1125360"/>
            <a:ext cx="785016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50000"/>
              </a:lnSpc>
              <a:buClr>
                <a:srgbClr val="3333cc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속도가 문제가 아닙니다</a:t>
            </a: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.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            </a:t>
            </a:r>
            <a:r>
              <a:rPr b="1" lang="zh-CN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그러면 무엇이 문제입니까</a:t>
            </a: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3860640"/>
            <a:ext cx="8136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2. </a:t>
            </a:r>
            <a:r>
              <a:rPr b="1" lang="zh-CN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우리의 만남은 아주 작은 인연으로 시작되곤 합니다</a:t>
            </a: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. </a:t>
            </a:r>
            <a:r>
              <a:rPr b="1" lang="zh-CN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여러분이 만난 소중한 사람들은 어떻게 만나게 되었습니까</a:t>
            </a:r>
            <a:r>
              <a:rPr b="1" lang="en-US" sz="2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232280" y="2801880"/>
            <a:ext cx="16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휴먼옛체"/>
                <a:ea typeface="휴먼옛체"/>
              </a:rPr>
              <a:t>&lt; </a:t>
            </a:r>
            <a:r>
              <a:rPr b="0" lang="zh-CN" sz="3200" spc="-1" strike="noStrike">
                <a:solidFill>
                  <a:srgbClr val="ff0000"/>
                </a:solidFill>
                <a:latin typeface="휴먼옛체"/>
                <a:ea typeface="휴먼옛체"/>
              </a:rPr>
              <a:t>방 향 </a:t>
            </a:r>
            <a:r>
              <a:rPr b="0" lang="en-US" sz="3200" spc="-1" strike="noStrike">
                <a:solidFill>
                  <a:srgbClr val="ff0000"/>
                </a:solidFill>
                <a:latin typeface="휴먼옛체"/>
                <a:ea typeface="휴먼옛체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8920" y="47628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궁서"/>
                <a:ea typeface="궁서"/>
              </a:rPr>
              <a:t> ▣ </a:t>
            </a:r>
            <a:r>
              <a:rPr b="1" lang="zh-CN" sz="4400" spc="-1" strike="noStrike">
                <a:solidFill>
                  <a:srgbClr val="6600cc"/>
                </a:solidFill>
                <a:latin typeface="궁서"/>
                <a:ea typeface="궁서"/>
              </a:rPr>
              <a:t>말씀열기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38200" y="1050840"/>
            <a:ext cx="7850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A. </a:t>
            </a:r>
            <a:r>
              <a:rPr b="1" lang="zh-CN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인생의 가장 중요한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828800"/>
            <a:ext cx="83534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HY헤드라인M"/>
                <a:ea typeface="HY헤드라인M"/>
              </a:rPr>
              <a:t>    </a:t>
            </a:r>
            <a:r>
              <a:rPr b="1" lang="en-US" sz="2800" spc="-1" strike="noStrike">
                <a:solidFill>
                  <a:srgbClr val="0000cc"/>
                </a:solidFill>
                <a:latin typeface="HY헤드라인M"/>
                <a:ea typeface="HY헤드라인M"/>
              </a:rPr>
              <a:t>&lt;</a:t>
            </a:r>
            <a:r>
              <a:rPr b="1" lang="zh-CN" sz="2800" spc="-1" strike="noStrike">
                <a:solidFill>
                  <a:srgbClr val="0000cc"/>
                </a:solidFill>
                <a:latin typeface="HY헤드라인M"/>
                <a:ea typeface="HY헤드라인M"/>
              </a:rPr>
              <a:t>요한복음</a:t>
            </a:r>
            <a:r>
              <a:rPr b="1" lang="en-US" sz="2800" spc="-1" strike="noStrike">
                <a:solidFill>
                  <a:srgbClr val="0000cc"/>
                </a:solidFill>
                <a:latin typeface="HY헤드라인M"/>
                <a:ea typeface="HY헤드라인M"/>
              </a:rPr>
              <a:t>15:16&gt; </a:t>
            </a:r>
            <a:r>
              <a:rPr b="0" lang="zh-CN" sz="2800" spc="-1" strike="noStrike">
                <a:solidFill>
                  <a:srgbClr val="0000cc"/>
                </a:solidFill>
                <a:latin typeface="HY헤드라인M"/>
                <a:ea typeface="HY헤드라인M"/>
              </a:rPr>
              <a:t>너희가 나를 택한 것이 아니요 내가 너희를 택하여 세웠나니 이는 너희로 가서 열매를 맺게 하고 또 너희 열매가 항상 있게 하여 내 이름으로 아버지께 무엇을 구하든지 다 받게 하려 함이라</a:t>
            </a:r>
            <a:r>
              <a:rPr b="0" lang="en-US" sz="2800" spc="-1" strike="noStrike">
                <a:solidFill>
                  <a:srgbClr val="0000cc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1708200" y="5486400"/>
            <a:ext cx="56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휴먼옛체"/>
                <a:ea typeface="휴먼옛체"/>
              </a:rPr>
              <a:t>&lt; </a:t>
            </a:r>
            <a:r>
              <a:rPr b="0" lang="zh-CN" sz="3200" spc="-1" strike="noStrike">
                <a:solidFill>
                  <a:srgbClr val="ff0000"/>
                </a:solidFill>
                <a:latin typeface="휴먼옛체"/>
                <a:ea typeface="휴먼옛체"/>
              </a:rPr>
              <a:t>결심의 중요성 – 믿음의 길</a:t>
            </a:r>
            <a:r>
              <a:rPr b="0" lang="en-US" sz="3200" spc="-1" strike="noStrike">
                <a:solidFill>
                  <a:srgbClr val="ff0000"/>
                </a:solidFill>
                <a:latin typeface="휴먼옛체"/>
                <a:ea typeface="휴먼옛체"/>
              </a:rPr>
              <a:t>, </a:t>
            </a:r>
            <a:r>
              <a:rPr b="0" lang="zh-CN" sz="3200" spc="-1" strike="noStrike">
                <a:solidFill>
                  <a:srgbClr val="ff0000"/>
                </a:solidFill>
                <a:latin typeface="휴먼옛체"/>
                <a:ea typeface="휴먼옛체"/>
              </a:rPr>
              <a:t>구원의 길 </a:t>
            </a:r>
            <a:r>
              <a:rPr b="0" lang="en-US" sz="3200" spc="-1" strike="noStrike">
                <a:solidFill>
                  <a:srgbClr val="ff0000"/>
                </a:solidFill>
                <a:latin typeface="휴먼옛체"/>
                <a:ea typeface="휴먼옛체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380880"/>
            <a:ext cx="7850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B. </a:t>
            </a:r>
            <a:r>
              <a:rPr b="1" lang="zh-CN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한 순간에 완성되지 않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342900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HY헤드라인M"/>
                <a:ea typeface="HY헤드라인M"/>
              </a:rPr>
              <a:t>    </a:t>
            </a:r>
            <a:r>
              <a:rPr b="1" lang="en-US" sz="2800" spc="-1" strike="noStrike">
                <a:solidFill>
                  <a:srgbClr val="0000cc"/>
                </a:solidFill>
                <a:latin typeface="HY헤드라인M"/>
                <a:ea typeface="HY헤드라인M"/>
              </a:rPr>
              <a:t>&lt;</a:t>
            </a:r>
            <a:r>
              <a:rPr b="1" lang="zh-CN" sz="2800" spc="-1" strike="noStrike">
                <a:solidFill>
                  <a:srgbClr val="0000cc"/>
                </a:solidFill>
                <a:latin typeface="HY헤드라인M"/>
                <a:ea typeface="HY헤드라인M"/>
              </a:rPr>
              <a:t>잠언 </a:t>
            </a:r>
            <a:r>
              <a:rPr b="1" lang="en-US" sz="2800" spc="-1" strike="noStrike">
                <a:solidFill>
                  <a:srgbClr val="0000cc"/>
                </a:solidFill>
                <a:latin typeface="HY헤드라인M"/>
                <a:ea typeface="HY헤드라인M"/>
              </a:rPr>
              <a:t>24:16&gt;  </a:t>
            </a:r>
            <a:r>
              <a:rPr b="1" lang="zh-CN" sz="2800" spc="-1" strike="noStrike">
                <a:solidFill>
                  <a:srgbClr val="0000cc"/>
                </a:solidFill>
                <a:latin typeface="HY헤드라인M"/>
                <a:ea typeface="HY헤드라인M"/>
              </a:rPr>
              <a:t>대저 의인은 일곱 번 넘어질지라도 다시 일어나려니와 악인은 재앙으로 말미암아 엎드러지느니라</a:t>
            </a:r>
            <a:r>
              <a:rPr b="0" lang="en-US" sz="2800" spc="-1" strike="noStrike">
                <a:solidFill>
                  <a:srgbClr val="0000cc"/>
                </a:solidFill>
                <a:latin typeface="HY헤드라인M"/>
                <a:ea typeface="HY헤드라인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447920"/>
            <a:ext cx="83534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cc"/>
                </a:solidFill>
                <a:latin typeface="HY헤드라인M"/>
                <a:ea typeface="HY헤드라인M"/>
              </a:rPr>
              <a:t>    </a:t>
            </a:r>
            <a:r>
              <a:rPr b="1" lang="ko-KR" sz="2800" spc="-1" strike="noStrike">
                <a:solidFill>
                  <a:srgbClr val="0000cc"/>
                </a:solidFill>
                <a:latin typeface="HY헤드라인M"/>
                <a:ea typeface="HY헤드라인M"/>
              </a:rPr>
              <a:t>&lt;</a:t>
            </a:r>
            <a:r>
              <a:rPr b="1" lang="ko-KR" sz="2800" spc="-1" strike="noStrike">
                <a:solidFill>
                  <a:srgbClr val="0000cc"/>
                </a:solidFill>
                <a:latin typeface="HY헤드라인M"/>
                <a:ea typeface="HY헤드라인M"/>
              </a:rPr>
              <a:t>디모데전서 </a:t>
            </a:r>
            <a:r>
              <a:rPr b="1" lang="ko-KR" sz="2800" spc="-1" strike="noStrike">
                <a:solidFill>
                  <a:srgbClr val="0000cc"/>
                </a:solidFill>
                <a:latin typeface="HY헤드라인M"/>
                <a:ea typeface="HY헤드라인M"/>
              </a:rPr>
              <a:t>4:6&gt;  </a:t>
            </a:r>
            <a:r>
              <a:rPr b="1" lang="ko-KR" sz="2800" spc="-1" strike="noStrike">
                <a:solidFill>
                  <a:srgbClr val="0000cc"/>
                </a:solidFill>
                <a:latin typeface="HY헤드라인M"/>
                <a:ea typeface="HY헤드라인M"/>
              </a:rPr>
              <a:t>네가 이것으로 형제를 깨우치면 그리스도 예수의 좋은 일꾼이 되어 믿음의 말씀과 네가 따르는 좋은 교훈으로 양육을 받으리라</a:t>
            </a:r>
            <a:r>
              <a:rPr b="0" lang="ko-KR" sz="2800" spc="-1" strike="noStrike">
                <a:solidFill>
                  <a:srgbClr val="0000cc"/>
                </a:solidFill>
                <a:latin typeface="HY헤드라인M"/>
                <a:ea typeface="HY헤드라인M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1865160" y="5486400"/>
            <a:ext cx="366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휴먼옛체"/>
                <a:ea typeface="휴먼옛체"/>
              </a:rPr>
              <a:t>&lt; </a:t>
            </a:r>
            <a:r>
              <a:rPr b="0" lang="zh-CN" sz="3200" spc="-1" strike="noStrike">
                <a:solidFill>
                  <a:srgbClr val="ff0000"/>
                </a:solidFill>
                <a:latin typeface="휴먼옛체"/>
                <a:ea typeface="휴먼옛체"/>
              </a:rPr>
              <a:t>한 과목씩 배워 나갈 때 </a:t>
            </a:r>
            <a:r>
              <a:rPr b="0" lang="en-US" sz="3200" spc="-1" strike="noStrike">
                <a:solidFill>
                  <a:srgbClr val="ff0000"/>
                </a:solidFill>
                <a:latin typeface="휴먼옛체"/>
                <a:ea typeface="휴먼옛체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260280"/>
            <a:ext cx="7850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C. </a:t>
            </a:r>
            <a:r>
              <a:rPr b="1" lang="zh-CN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곧 해야 할 것과 미리 알아야 할 것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 </a:t>
            </a:r>
            <a:r>
              <a:rPr b="1" lang="ko-KR" sz="32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1. </a:t>
            </a:r>
            <a:r>
              <a:rPr b="1" lang="ko-KR" sz="32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성경책과 찬송가를 사십시오</a:t>
            </a:r>
            <a:r>
              <a:rPr b="1" lang="ko-KR" sz="32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.</a:t>
            </a:r>
            <a:br>
              <a:rPr sz="3200"/>
            </a:br>
            <a:r>
              <a:rPr b="1" lang="ko-KR" sz="32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2. </a:t>
            </a:r>
            <a:r>
              <a:rPr b="1" lang="ko-KR" sz="32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기도를 시작하십시오</a:t>
            </a:r>
            <a:r>
              <a:rPr b="1" lang="ko-KR" sz="32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.</a:t>
            </a:r>
            <a:br>
              <a:rPr sz="3200"/>
            </a:br>
            <a:r>
              <a:rPr b="1" lang="ko-KR" sz="32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3. </a:t>
            </a:r>
            <a:r>
              <a:rPr b="1" lang="ko-KR" sz="32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교회를 정하였으니 이제 열심히 출석하</a:t>
            </a:r>
            <a:br>
              <a:rPr sz="3200"/>
            </a:br>
            <a:r>
              <a:rPr b="1" lang="ko-KR" sz="32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   십시오</a:t>
            </a:r>
            <a:r>
              <a:rPr b="1" lang="ko-KR" sz="32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.</a:t>
            </a:r>
            <a:br>
              <a:rPr sz="3200"/>
            </a:br>
            <a:r>
              <a:rPr b="1" lang="ko-KR" sz="32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4. </a:t>
            </a:r>
            <a:r>
              <a:rPr b="1" lang="ko-KR" sz="32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때로는 어려움이 올 수도 있지만 승리하 </a:t>
            </a:r>
            <a:br>
              <a:rPr sz="3200"/>
            </a:br>
            <a:r>
              <a:rPr b="1" lang="ko-KR" sz="32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   십시오</a:t>
            </a:r>
            <a:r>
              <a:rPr b="1" lang="ko-KR" sz="32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.</a:t>
            </a:r>
            <a:r>
              <a:rPr b="1" lang="ko-KR" sz="2800" spc="-1" strike="noStrike">
                <a:solidFill>
                  <a:srgbClr val="333300"/>
                </a:solidFill>
                <a:latin typeface="HY헤드라인M"/>
                <a:ea typeface="HY헤드라인M"/>
              </a:rPr>
              <a:t> </a:t>
            </a:r>
            <a:r>
              <a:rPr b="0" lang="ko-KR" sz="2600" spc="-1" strike="noStrike" u="sng">
                <a:solidFill>
                  <a:srgbClr val="6600cc"/>
                </a:solidFill>
                <a:uFillTx/>
                <a:latin typeface="HY헤드라인M"/>
                <a:ea typeface="HY헤드라인M"/>
                <a:hlinkClick r:id="rId2" action="ppaction://hlinksldjump"/>
              </a:rPr>
              <a:t>&lt;이사야41:8-10&gt;, </a:t>
            </a:r>
            <a:r>
              <a:rPr b="0" lang="ko-KR" sz="2600" spc="-1" strike="noStrike" u="sng">
                <a:solidFill>
                  <a:srgbClr val="6600cc"/>
                </a:solidFill>
                <a:uFillTx/>
                <a:latin typeface="HY헤드라인M"/>
                <a:ea typeface="HY헤드라인M"/>
                <a:hlinkClick r:id="rId3" action="ppaction://hlinksldjump"/>
              </a:rPr>
              <a:t>&lt;요한복음 10:28-29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47628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궁서"/>
                <a:ea typeface="궁서"/>
              </a:rPr>
              <a:t> ▣ </a:t>
            </a:r>
            <a:r>
              <a:rPr b="1" lang="zh-CN" sz="4400" spc="-1" strike="noStrike">
                <a:solidFill>
                  <a:srgbClr val="6600cc"/>
                </a:solidFill>
                <a:latin typeface="궁서"/>
                <a:ea typeface="궁서"/>
              </a:rPr>
              <a:t>생각열기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1557360"/>
            <a:ext cx="82821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    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1. 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교회에 다니다보면 때로는 인간적으로 실망할 때가 있을 수 있습니다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. 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그러한 때에 어떻게 해야 할까요</a:t>
            </a:r>
            <a:r>
              <a:rPr b="1" lang="ko-KR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430200" y="3933720"/>
            <a:ext cx="82821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    </a:t>
            </a: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2. </a:t>
            </a:r>
            <a:r>
              <a:rPr b="1" lang="zh-CN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빨리 우리 교회에 적응할 수 있는 방법에는 무엇이 있을까요</a:t>
            </a: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30200" y="1052640"/>
            <a:ext cx="82821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    </a:t>
            </a: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3. </a:t>
            </a:r>
            <a:r>
              <a:rPr b="1" lang="zh-CN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가까운 친지들이 우리가 시작한 신앙생활에 반대할 때 어떻게 하면 좋겠습니까</a:t>
            </a: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430200" y="3645000"/>
            <a:ext cx="82821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    </a:t>
            </a:r>
            <a:r>
              <a:rPr b="1" lang="en-US" sz="3200" spc="-1" strike="noStrike">
                <a:solidFill>
                  <a:srgbClr val="660066"/>
                </a:solidFill>
                <a:latin typeface="HY헤드라인M"/>
                <a:ea typeface="HY헤드라인M"/>
              </a:rPr>
              <a:t>4. </a:t>
            </a:r>
            <a:r>
              <a:rPr b="0" lang="zh-CN" sz="3200" spc="-1" strike="noStrike" u="sng">
                <a:solidFill>
                  <a:srgbClr val="6600cc"/>
                </a:solidFill>
                <a:uFillTx/>
                <a:latin typeface="HY헤드라인M"/>
                <a:ea typeface="HY헤드라인M"/>
                <a:hlinkClick r:id="rId2" action="ppaction://hlinksldjump"/>
              </a:rPr>
              <a:t>마태복음 13:3-9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HY헤드라인M"/>
                <a:ea typeface="HY헤드라인M"/>
              </a:rPr>
              <a:t>을 읽고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HY헤드라인M"/>
                <a:ea typeface="HY헤드라인M"/>
              </a:rPr>
              <a:t>, 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HY헤드라인M"/>
                <a:ea typeface="HY헤드라인M"/>
              </a:rPr>
              <a:t>네 종류의 밭을 말해보고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HY헤드라인M"/>
                <a:ea typeface="HY헤드라인M"/>
              </a:rPr>
              <a:t>, 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HY헤드라인M"/>
                <a:ea typeface="HY헤드라인M"/>
              </a:rPr>
              <a:t>여러분 자신은 어떤 밭에 속하는지 묵상하십시오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HY헤드라인M"/>
                <a:ea typeface="HY헤드라인M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324000" y="1413000"/>
            <a:ext cx="8351640" cy="4024440"/>
            <a:chOff x="324000" y="1413000"/>
            <a:chExt cx="8351640" cy="4024440"/>
          </a:xfrm>
        </p:grpSpPr>
        <p:sp>
          <p:nvSpPr>
            <p:cNvPr id="73" name=""/>
            <p:cNvSpPr/>
            <p:nvPr/>
          </p:nvSpPr>
          <p:spPr>
            <a:xfrm>
              <a:off x="324000" y="1413000"/>
              <a:ext cx="8351640" cy="402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4000" y="1413000"/>
              <a:ext cx="8351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4000" y="1413000"/>
              <a:ext cx="8351640" cy="39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cc"/>
                  </a:solidFill>
                  <a:latin typeface="휴먼옛체"/>
                  <a:ea typeface="휴먼옛체"/>
                </a:rPr>
                <a:t>- </a:t>
              </a:r>
              <a:r>
                <a:rPr b="0" lang="zh-CN" sz="3600" spc="-1" strike="noStrike">
                  <a:solidFill>
                    <a:srgbClr val="0000cc"/>
                  </a:solidFill>
                  <a:latin typeface="휴먼옛체"/>
                  <a:ea typeface="휴먼옛체"/>
                </a:rPr>
                <a:t>외 울 말 씀 </a:t>
              </a:r>
              <a:r>
                <a:rPr b="0" lang="en-US" sz="3600" spc="-1" strike="noStrike">
                  <a:solidFill>
                    <a:srgbClr val="0000cc"/>
                  </a:solidFill>
                  <a:latin typeface="휴먼옛체"/>
                  <a:ea typeface="휴먼옛체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10000"/>
                </a:lnSpc>
                <a:buClr>
                  <a:srgbClr val="0000cc"/>
                </a:buClr>
                <a:buFont typeface="휴먼옛체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cc"/>
                  </a:solidFill>
                  <a:latin typeface="휴먼옛체"/>
                  <a:ea typeface="휴먼옛체"/>
                </a:rPr>
                <a:t> “ </a:t>
              </a:r>
              <a:r>
                <a:rPr b="0" lang="zh-CN" sz="2800" spc="-1" strike="noStrike">
                  <a:solidFill>
                    <a:srgbClr val="0000cc"/>
                  </a:solidFill>
                  <a:latin typeface="휴먼옛체"/>
                  <a:ea typeface="휴먼옛체"/>
                </a:rPr>
                <a:t>너희가 나를 택한 것이 아니요 내가 너희를 택하여 세웠나니 이는 너희로 가서 열매를 맺게 하고 또 너희 열매가 항상 있게 하여 내 이름으로 아버지께 무엇을 구하든지 다 받게 하려 함이라 ”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cc"/>
                  </a:solidFill>
                  <a:latin typeface="휴먼옛체"/>
                  <a:ea typeface="휴먼옛체"/>
                </a:rPr>
                <a:t>                                </a:t>
              </a:r>
              <a:r>
                <a:rPr b="0" lang="en-US" sz="2800" spc="-1" strike="noStrike">
                  <a:solidFill>
                    <a:srgbClr val="0000cc"/>
                  </a:solidFill>
                  <a:latin typeface="휴먼옛체"/>
                  <a:ea typeface="휴먼옛체"/>
                </a:rPr>
                <a:t>&lt;</a:t>
              </a:r>
              <a:r>
                <a:rPr b="0" lang="zh-CN" sz="2800" spc="-1" strike="noStrike">
                  <a:solidFill>
                    <a:srgbClr val="0000cc"/>
                  </a:solidFill>
                  <a:latin typeface="휴먼옛체"/>
                  <a:ea typeface="휴먼옛체"/>
                </a:rPr>
                <a:t>요한복음</a:t>
              </a:r>
              <a:r>
                <a:rPr b="0" lang="en-US" sz="2800" spc="-1" strike="noStrike">
                  <a:solidFill>
                    <a:srgbClr val="0000cc"/>
                  </a:solidFill>
                  <a:latin typeface="휴먼옛체"/>
                  <a:ea typeface="휴먼옛체"/>
                </a:rPr>
                <a:t>15:16&gt;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02:02:15Z</dcterms:created>
  <dc:creator>kjh</dc:creator>
  <dc:description/>
  <dc:language>en-US</dc:language>
  <cp:lastModifiedBy>Korea</cp:lastModifiedBy>
  <dcterms:modified xsi:type="dcterms:W3CDTF">2006-02-22T07:05:51Z</dcterms:modified>
  <cp:revision>159</cp:revision>
  <dc:subject/>
  <dc:title>PowerPoint 프레젠테이션</dc:title>
</cp:coreProperties>
</file>